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AF8-E1B1-4E2C-ACD0-70391B99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27A-3670-4278-859B-54300F2D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30023-3BAE-4042-BF8B-F4343CA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2A0C6-26BE-4416-9CCB-CAB845C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F2653-FFE8-422F-86DA-0A26B39A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0FAA3-93D8-4127-9D07-44028EAE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D46C4-4BC7-49F0-A5EF-0C17C37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19457-00CE-4E50-9607-4480262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3EDB0-0DB8-4B01-8D1E-9E18C7A6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64B1D-291D-4352-94CD-DC8AA610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4F36C-997F-4C93-A1CA-43BB0515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F8F-3620-4427-A657-39E87697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39E-A4E4-4441-BCF2-E1D0A34F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EF32-E6E1-4337-8435-31CB18F0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B62C-C743-4724-9AAC-CB5408F2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7B2F-F67A-4783-8233-BE0C5A7A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75BD-3F4E-42E4-A68E-7F4D962E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3CE5-E5DB-4FDD-841C-10E6D9D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3A31-B829-42DD-9A50-17CEB562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06C4-5D49-4902-BC8C-7CD4FA9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967-D360-4A75-A347-B6FD4F13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D96D-D23C-45B6-8FCB-976D73C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FE45-6FA6-460C-813E-9C21526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EC17-18CA-4DA8-AD30-148230C8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D77B-7DF8-4734-A7F6-293403FA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DC89-427D-4503-918E-587B4679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91B0-D13C-4010-85EB-B0B0D6C0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E426-ACF3-4CC8-87D8-4CCF824C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6248-0E95-4E7B-B828-C265E021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89617-AD92-463C-A671-27AB4EF9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CF3A-2B0B-47E5-AA2C-C8627A6C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F84-DF33-43BE-BC7F-5DBC67AA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F233-9D02-48BB-ADDD-AE385294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76E3-42D1-4E68-B0F4-F57A179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A6D0-7F70-4212-B087-4CC0149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EAB9-6A57-4234-BB18-8028CC8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0CC3-F60A-4775-A3B9-367618EF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5658-E74D-4654-9938-38DD769B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8C1D-7763-4A5F-A52B-85DED30F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9F0D-ABDB-4152-A6BF-B5EFB095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2E7FC-0400-4029-8B50-610251AC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F0BA-1435-4693-AEC1-81F972E2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7A4-E81C-43F6-AAA7-73346B91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BBEF-0996-47BD-8D7B-3A91F4D4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D130-41B2-4D8D-8848-A1DC68FA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694C-31A8-44BA-AE14-B709A89C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5DC0-7186-4095-8CDC-600D2E4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91BF-5815-4E7A-A940-C08A117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D9C51-4634-4EF1-BB7A-D2E5068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9CB1-7E2B-4181-9A54-D4D6670A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B107-C2CA-4B1C-ADF9-84C8E085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1496-5AFA-43D8-885A-DBD98A22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1FAF-8324-445C-AA84-F0D971FE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04E-DC5E-4061-9EC1-4CEA60BE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F93A-0611-44DF-A41D-A833F7C9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C98C-6087-4C79-BFFF-8D56F26C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F6A2-90D0-41D2-9703-2DBBB1F9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ACCE2-14CD-4F84-B968-9D2C43E2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F0B1-E527-40B4-B308-A9429B63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4CD2-FD4F-465D-90B6-46C3611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5596C-A32C-4A4F-8031-E4EE8CE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FA9B-8907-4874-8339-C1CB24A2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19E1A-165B-4A87-A9BC-5B4A201D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98D7-5331-485F-886D-56F8C1B0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757-88D5-4FE6-8B6B-FBE3BBB9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7EDD2-34E0-411E-ACB3-9CFD41A5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C5A29-462F-4EC8-A972-F0FE2B9D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CE756-7114-409A-AE36-EB5444D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63486-06F3-4E78-AFA2-8248443E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3369-39AC-412C-AF0D-7A0E5AF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518C7-430B-415D-9A5A-73F16DE6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52568-6967-49F6-8AC7-00C6245F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7DC7-1FC9-4E14-8087-2EA4AFDF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A509-34ED-4919-B6AB-EF722AD5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0271C-A433-43E3-B929-D8ADEDB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D6A-7977-41C6-BD1C-ABDAC4D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628F-4525-4431-BF78-8B6AF979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9A2B0-31A2-41B4-8AE5-2238CD59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6C8EC-B7A8-46C2-BC27-7636A478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63999-4FAF-4C87-9132-7AAFE305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D78B1-1D21-4CC3-B4FA-3DE84D8C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CB6D-5CA5-4A33-B5CB-BC73D624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C4493-A8B4-476E-BE42-ADFC7A88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A6DE2-771C-44B3-B409-9E686B55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67FE5-BBB4-4927-86FF-E34A7DA9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CF39-2A58-4324-97BF-2C2A138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A3A-F662-4B27-9DAC-065977E3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B8513-5F87-440A-9F1B-F70F9D2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04460-F9DB-459F-9EBA-78C41729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D4F4A-EC99-4C60-861E-92FDEE89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15A57-AD6D-4B3D-BE52-086CCD01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2703A-6FB6-4B18-A7C7-E654B5C9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E61C-B56E-4CC1-9B5E-91F42DDD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2BE92-6544-4B5B-9E94-D7BC39C8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C0A7C-B5A1-427D-9581-0D0D2950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9B21F-DBF7-430F-B456-BF565A57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D572-E183-469B-9B9A-747BDF11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872-2286-4FAA-9F00-9D8E50A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B3F11-707D-4872-94DB-8CA2584A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7C412-0543-4C1A-A0E1-B8D9E2C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02675-C2AD-4532-9103-767EFF0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4994A-A1BC-4389-B514-BE8914B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AA0C-F410-4273-A462-EAE3792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E9736-F8FF-4699-8830-A6F9F605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1F2C-F8E6-4C73-B6EC-3F891088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95991-C780-43A6-AFA4-7A68DEA8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4ADE-3413-44AE-A7CA-EC0B1BCE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37FE4-A90C-4EC2-8CB1-B3D6C3AB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24CF-517A-49E2-B6B0-25FDBD45630B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16FF-E732-4FEB-9F72-C24BB7228F1D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FF50-2651-41CA-A096-8DF68A8390C8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288-AC3E-43DF-81F4-FEECBB071DFC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346D-D181-43DC-9253-C07AAF4A6DF6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0EF-DAF0-415E-A24D-733305069E0F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5B39-5FAC-4DA6-8E3C-174241CA1246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36C1-E539-4664-B336-4F11267C0212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4AFD-5B44-4A69-AE27-682F61AF71C1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Users\User\Desktop\03560657.jpg"/>
          <p:cNvPicPr/>
          <p:nvPr/>
        </p:nvPicPr>
        <p:blipFill>
          <a:blip r:embed="rId2"/>
          <a:stretch/>
        </p:blipFill>
        <p:spPr>
          <a:xfrm>
            <a:off x="3352680" y="2511360"/>
            <a:ext cx="2438640" cy="1835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User\Desktop\03560657.jpg"/>
          <p:cNvPicPr/>
          <p:nvPr/>
        </p:nvPicPr>
        <p:blipFill>
          <a:blip r:embed="rId3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http://900igr.net/datai/matematika/Strana-matematiki/0010-023-Strana-matematiki.png"/>
          <p:cNvPicPr/>
          <p:nvPr/>
        </p:nvPicPr>
        <p:blipFill>
          <a:blip r:embed="rId4"/>
          <a:stretch/>
        </p:blipFill>
        <p:spPr>
          <a:xfrm>
            <a:off x="684360" y="333360"/>
            <a:ext cx="8281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54" name="Picture 2" descr="C:\Users\User\Desktop\anypics.ru-66525.jpg"/>
          <p:cNvPicPr/>
          <p:nvPr/>
        </p:nvPicPr>
        <p:blipFill>
          <a:blip r:embed="rId1"/>
          <a:stretch/>
        </p:blipFill>
        <p:spPr>
          <a:xfrm>
            <a:off x="0" y="0"/>
            <a:ext cx="930132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C:\Users\User\Desktop\0_6ad2f_52828e55_XL.png"/>
          <p:cNvPicPr/>
          <p:nvPr/>
        </p:nvPicPr>
        <p:blipFill>
          <a:blip r:embed="rId2"/>
          <a:srcRect l="57655" t="8505" r="21653" b="55213"/>
          <a:stretch/>
        </p:blipFill>
        <p:spPr>
          <a:xfrm>
            <a:off x="1835280" y="907920"/>
            <a:ext cx="52578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57" name="Picture 2" descr="C:\Users\User\Desktop\anypics.ru-66525.jpg"/>
          <p:cNvPicPr/>
          <p:nvPr/>
        </p:nvPicPr>
        <p:blipFill>
          <a:blip r:embed="rId1"/>
          <a:stretch/>
        </p:blipFill>
        <p:spPr>
          <a:xfrm>
            <a:off x="0" y="0"/>
            <a:ext cx="9301320" cy="6858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User\Desktop\0_6ad2f_52828e55_XL.png"/>
          <p:cNvPicPr/>
          <p:nvPr/>
        </p:nvPicPr>
        <p:blipFill>
          <a:blip r:embed="rId2"/>
          <a:srcRect l="22596" t="51896" r="59451" b="0"/>
          <a:stretch/>
        </p:blipFill>
        <p:spPr>
          <a:xfrm>
            <a:off x="2771640" y="1052640"/>
            <a:ext cx="43340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60" name="Picture 2" descr="C:\Users\User\Desktop\anypics.ru-66525.jpg"/>
          <p:cNvPicPr/>
          <p:nvPr/>
        </p:nvPicPr>
        <p:blipFill>
          <a:blip r:embed="rId1"/>
          <a:stretch/>
        </p:blipFill>
        <p:spPr>
          <a:xfrm>
            <a:off x="0" y="0"/>
            <a:ext cx="930132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C:\Users\User\Desktop\0_6ad2f_52828e55_XL.png"/>
          <p:cNvPicPr/>
          <p:nvPr/>
        </p:nvPicPr>
        <p:blipFill>
          <a:blip r:embed="rId2"/>
          <a:srcRect l="79297" t="0" r="1088" b="53781"/>
          <a:stretch/>
        </p:blipFill>
        <p:spPr>
          <a:xfrm>
            <a:off x="2771640" y="0"/>
            <a:ext cx="51850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C:\Users\User\Desktop\03560657.jpg"/>
          <p:cNvPicPr/>
          <p:nvPr/>
        </p:nvPicPr>
        <p:blipFill>
          <a:blip r:embed="rId2"/>
          <a:stretch/>
        </p:blipFill>
        <p:spPr>
          <a:xfrm>
            <a:off x="3352680" y="2511360"/>
            <a:ext cx="2438640" cy="1835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C:\Users\User\Desktop\03560657.jpg"/>
          <p:cNvPicPr/>
          <p:nvPr/>
        </p:nvPicPr>
        <p:blipFill>
          <a:blip r:embed="rId3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C:\Users\User\Desktop\0_a2613_dd3268d7_XL.jpg"/>
          <p:cNvPicPr/>
          <p:nvPr/>
        </p:nvPicPr>
        <p:blipFill>
          <a:blip r:embed="rId4"/>
          <a:stretch/>
        </p:blipFill>
        <p:spPr>
          <a:xfrm>
            <a:off x="0" y="0"/>
            <a:ext cx="9144000" cy="73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C:\Users\User\Desktop\03560657.jpg"/>
          <p:cNvPicPr/>
          <p:nvPr/>
        </p:nvPicPr>
        <p:blipFill>
          <a:blip r:embed="rId2"/>
          <a:stretch/>
        </p:blipFill>
        <p:spPr>
          <a:xfrm>
            <a:off x="3352680" y="2511360"/>
            <a:ext cx="2438640" cy="1835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C:\Users\User\Desktop\03560657.jpg"/>
          <p:cNvPicPr/>
          <p:nvPr/>
        </p:nvPicPr>
        <p:blipFill>
          <a:blip r:embed="rId3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6"/>
          <p:cNvSpPr/>
          <p:nvPr/>
        </p:nvSpPr>
        <p:spPr>
          <a:xfrm>
            <a:off x="1042920" y="33336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чок подарил Винни-Пуху  на День рождения 3 горшочка меда.   А Тигруля подарил 5 горшочк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шочков мё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ни-Пух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C:\Users\User\Desktop\0_8c631_d74b6ff0_XL.png"/>
          <p:cNvPicPr/>
          <p:nvPr/>
        </p:nvPicPr>
        <p:blipFill>
          <a:blip r:embed="rId4"/>
          <a:stretch/>
        </p:blipFill>
        <p:spPr>
          <a:xfrm>
            <a:off x="5508720" y="2997360"/>
            <a:ext cx="3311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User\Desktop\03560657.jpg"/>
          <p:cNvPicPr/>
          <p:nvPr/>
        </p:nvPicPr>
        <p:blipFill>
          <a:blip r:embed="rId2"/>
          <a:stretch/>
        </p:blipFill>
        <p:spPr>
          <a:xfrm>
            <a:off x="3352680" y="2511360"/>
            <a:ext cx="2438640" cy="1835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User\Desktop\03560657.jpg"/>
          <p:cNvPicPr/>
          <p:nvPr/>
        </p:nvPicPr>
        <p:blipFill>
          <a:blip r:embed="rId3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5"/>
          <p:cNvSpPr/>
          <p:nvPr/>
        </p:nvSpPr>
        <p:spPr>
          <a:xfrm>
            <a:off x="1547640" y="404640"/>
            <a:ext cx="6696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urier New"/>
                <a:ea typeface="Courier New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c1601"/>
                </a:solidFill>
                <a:latin typeface="Monotype Corsiva"/>
                <a:ea typeface="Courier New"/>
              </a:rPr>
              <a:t>«Числа от 1 до 20. Нумерация чисел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c1601"/>
                </a:solidFill>
                <a:latin typeface="Monotype Corsiva"/>
                <a:ea typeface="Courier New"/>
              </a:rPr>
              <a:t>Названия и последовательность чисел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User\Desktop\03560657.jpg"/>
          <p:cNvPicPr/>
          <p:nvPr/>
        </p:nvPicPr>
        <p:blipFill>
          <a:blip r:embed="rId2"/>
          <a:stretch/>
        </p:blipFill>
        <p:spPr>
          <a:xfrm>
            <a:off x="3352680" y="2511360"/>
            <a:ext cx="2438640" cy="1835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Users\User\Desktop\03560657.jpg"/>
          <p:cNvPicPr/>
          <p:nvPr/>
        </p:nvPicPr>
        <p:blipFill>
          <a:blip r:embed="rId3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5"/>
          <p:cNvSpPr/>
          <p:nvPr/>
        </p:nvSpPr>
        <p:spPr>
          <a:xfrm>
            <a:off x="1619280" y="260280"/>
            <a:ext cx="6697800" cy="83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urier New"/>
                <a:ea typeface="Courier New"/>
              </a:rPr>
              <a:t>Цели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60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1601"/>
                </a:solidFill>
                <a:latin typeface="Monotype Corsiva"/>
                <a:ea typeface="Courier New"/>
              </a:rPr>
              <a:t>повторить нумерацию и состав  чисел до 10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60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1601"/>
                </a:solidFill>
                <a:latin typeface="Monotype Corsiva"/>
                <a:ea typeface="Courier New"/>
              </a:rPr>
              <a:t>познакомить с  понятием «десяток»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60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1601"/>
                </a:solidFill>
                <a:latin typeface="Monotype Corsiva"/>
                <a:ea typeface="Courier New"/>
              </a:rPr>
              <a:t> </a:t>
            </a:r>
            <a:r>
              <a:rPr b="1" lang="ru-RU" sz="4000" spc="-1" strike="noStrike">
                <a:solidFill>
                  <a:srgbClr val="1c1601"/>
                </a:solidFill>
                <a:latin typeface="Monotype Corsiva"/>
                <a:ea typeface="Courier New"/>
              </a:rPr>
              <a:t>формировать знания в образовании чисел второго деся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60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1601"/>
                </a:solidFill>
                <a:latin typeface="Monotype Corsiva"/>
                <a:ea typeface="Courier New"/>
              </a:rPr>
              <a:t> </a:t>
            </a:r>
            <a:r>
              <a:rPr b="1" lang="ru-RU" sz="4000" spc="-1" strike="noStrike">
                <a:solidFill>
                  <a:srgbClr val="1c1601"/>
                </a:solidFill>
                <a:latin typeface="Monotype Corsiva"/>
                <a:ea typeface="Courier New"/>
              </a:rPr>
              <a:t>коррекция логического мышления и вним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c160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User\Desktop\03560657.jpg"/>
          <p:cNvPicPr/>
          <p:nvPr/>
        </p:nvPicPr>
        <p:blipFill>
          <a:blip r:embed="rId2"/>
          <a:stretch/>
        </p:blipFill>
        <p:spPr>
          <a:xfrm>
            <a:off x="3352680" y="2511360"/>
            <a:ext cx="2438640" cy="1835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User\Desktop\03560657.jpg"/>
          <p:cNvPicPr/>
          <p:nvPr/>
        </p:nvPicPr>
        <p:blipFill>
          <a:blip r:embed="rId3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User\Desktop\8.png"/>
          <p:cNvPicPr/>
          <p:nvPr/>
        </p:nvPicPr>
        <p:blipFill>
          <a:blip r:embed="rId4"/>
          <a:stretch/>
        </p:blipFill>
        <p:spPr>
          <a:xfrm>
            <a:off x="1979640" y="0"/>
            <a:ext cx="49672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685800" y="10666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rc 10"/>
          <p:cNvSpPr/>
          <p:nvPr/>
        </p:nvSpPr>
        <p:spPr>
          <a:xfrm flipH="1" flipV="1" rot="1133400">
            <a:off x="3757680" y="1068120"/>
            <a:ext cx="1600200" cy="213516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2135160"/>
              <a:gd name="textAreaBottom" fmla="*/ 2135160 h 2135160"/>
            </a:gdLst>
            <a:ahLst/>
            <a:rect l="textAreaLeft" t="textAreaTop" r="textAreaRight" b="textAreaBottom"/>
            <a:pathLst>
              <a:path fill="none" w="43200" h="43200">
                <a:moveTo>
                  <a:pt x="25163" y="296"/>
                </a:moveTo>
                <a:cubicBezTo>
                  <a:pt x="35573" y="2037"/>
                  <a:pt x="43200" y="11046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80" y="-1"/>
                  <a:pt x="22160" y="5"/>
                  <a:pt x="22440" y="16"/>
                </a:cubicBezTo>
              </a:path>
              <a:path stroke="0" w="43200" h="43200">
                <a:moveTo>
                  <a:pt x="25163" y="296"/>
                </a:moveTo>
                <a:cubicBezTo>
                  <a:pt x="35573" y="2037"/>
                  <a:pt x="43200" y="11046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80" y="-1"/>
                  <a:pt x="22160" y="5"/>
                  <a:pt x="22440" y="16"/>
                </a:cubicBezTo>
                <a:lnTo>
                  <a:pt x="21600" y="2160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rc 13"/>
          <p:cNvSpPr/>
          <p:nvPr/>
        </p:nvSpPr>
        <p:spPr>
          <a:xfrm flipH="1" rot="1208400">
            <a:off x="2774160" y="3099960"/>
            <a:ext cx="2133720" cy="26640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fill="none" w="43200" h="43093">
                <a:moveTo>
                  <a:pt x="25395" y="229"/>
                </a:moveTo>
                <a:cubicBezTo>
                  <a:pt x="35698" y="2068"/>
                  <a:pt x="43200" y="11027"/>
                  <a:pt x="43200" y="21493"/>
                </a:cubicBezTo>
                <a:cubicBezTo>
                  <a:pt x="43200" y="33422"/>
                  <a:pt x="33529" y="43093"/>
                  <a:pt x="21600" y="43093"/>
                </a:cubicBezTo>
                <a:cubicBezTo>
                  <a:pt x="9670" y="43093"/>
                  <a:pt x="0" y="33422"/>
                  <a:pt x="0" y="21493"/>
                </a:cubicBezTo>
                <a:cubicBezTo>
                  <a:pt x="-1" y="10395"/>
                  <a:pt x="8409" y="1103"/>
                  <a:pt x="19452" y="0"/>
                </a:cubicBezTo>
              </a:path>
              <a:path stroke="0" w="43200" h="43093">
                <a:moveTo>
                  <a:pt x="25395" y="229"/>
                </a:moveTo>
                <a:cubicBezTo>
                  <a:pt x="35698" y="2068"/>
                  <a:pt x="43200" y="11027"/>
                  <a:pt x="43200" y="21493"/>
                </a:cubicBezTo>
                <a:cubicBezTo>
                  <a:pt x="43200" y="33422"/>
                  <a:pt x="33529" y="43093"/>
                  <a:pt x="21600" y="43093"/>
                </a:cubicBezTo>
                <a:cubicBezTo>
                  <a:pt x="9670" y="43093"/>
                  <a:pt x="0" y="33422"/>
                  <a:pt x="0" y="21493"/>
                </a:cubicBezTo>
                <a:cubicBezTo>
                  <a:pt x="-1" y="10395"/>
                  <a:pt x="8409" y="1103"/>
                  <a:pt x="19452" y="0"/>
                </a:cubicBezTo>
                <a:lnTo>
                  <a:pt x="21600" y="21493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3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"/>
          <p:cNvPicPr/>
          <p:nvPr/>
        </p:nvPicPr>
        <p:blipFill>
          <a:blip r:embed="rId2"/>
          <a:srcRect l="8831" t="18955" r="7267" b="0"/>
          <a:stretch/>
        </p:blipFill>
        <p:spPr>
          <a:xfrm>
            <a:off x="5715000" y="1371600"/>
            <a:ext cx="1627200" cy="1828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"/>
          <p:cNvPicPr/>
          <p:nvPr/>
        </p:nvPicPr>
        <p:blipFill>
          <a:blip r:embed="rId3"/>
          <a:srcRect l="8831" t="18955" r="7267" b="0"/>
          <a:stretch/>
        </p:blipFill>
        <p:spPr>
          <a:xfrm>
            <a:off x="5638680" y="335268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6" descr=""/>
          <p:cNvPicPr/>
          <p:nvPr/>
        </p:nvPicPr>
        <p:blipFill>
          <a:blip r:embed="rId4"/>
          <a:srcRect l="8831" t="18955" r="7267" b="0"/>
          <a:stretch/>
        </p:blipFill>
        <p:spPr>
          <a:xfrm>
            <a:off x="7315200" y="144792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7" descr=""/>
          <p:cNvPicPr/>
          <p:nvPr/>
        </p:nvPicPr>
        <p:blipFill>
          <a:blip r:embed="rId5"/>
          <a:srcRect l="8831" t="22754" r="7267" b="0"/>
          <a:stretch/>
        </p:blipFill>
        <p:spPr>
          <a:xfrm>
            <a:off x="7238880" y="3352680"/>
            <a:ext cx="1774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4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3059280" y="2637000"/>
            <a:ext cx="936360" cy="86328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995640" y="2637000"/>
            <a:ext cx="936720" cy="86328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4932360" y="2637000"/>
            <a:ext cx="936720" cy="86328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98d9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059280" y="3500280"/>
            <a:ext cx="936360" cy="86364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3995640" y="3500280"/>
            <a:ext cx="936720" cy="86364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4932360" y="3500280"/>
            <a:ext cx="936720" cy="86364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3059280" y="4365720"/>
            <a:ext cx="936360" cy="8636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39d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3995640" y="4365720"/>
            <a:ext cx="936720" cy="8636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39d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4932360" y="4365720"/>
            <a:ext cx="936720" cy="8636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39d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3"/>
          <p:cNvSpPr/>
          <p:nvPr/>
        </p:nvSpPr>
        <p:spPr>
          <a:xfrm>
            <a:off x="2556000" y="476280"/>
            <a:ext cx="3887640" cy="216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3059280" y="5229360"/>
            <a:ext cx="936360" cy="86364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4932360" y="5229360"/>
            <a:ext cx="936720" cy="86364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3995640" y="5229360"/>
            <a:ext cx="936720" cy="86364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023 C 0.00434 -0.02083 0.01319 -0.04074 0.025 -0.05625 C 0.05226 -0.14676 0.10764 -0.16435 0.175 -0.17291 C 0.21007 -0.17245 0.24514 -0.17523 0.28003 -0.17152 C 0.30868 -0.16828 0.36493 -0.15301 0.36493 -0.15301 C 0.39583 -0.13727 0.39878 -0.13889 0.41128 -0.09953 C 0.4184 -0.03125 0.39809 0.02593 0.34375 0.04375 C 0.32795 0.04908 0.31128 0.04723 0.29497 0.04885 C 0.23455 0.04723 0.16736 0.05625 0.10868 0.02547 C 0.10191 0.02153 0.09878 0.01065 0.09375 0.00348 C 0.11962 -0.10764 0.17604 -0.17801 0.24618 -0.24467 C 0.26684 -0.26435 0.28715 -0.28518 0.31007 -0.29977 C 0.34705 -0.32291 0.38056 -0.32291 0.41997 -0.32824 C 0.53038 -0.3243 0.53056 -0.32338 0.60382 -0.31458 C 0.60677 -0.31342 0.61128 -0.31504 0.6125 -0.31134 C 0.61528 -0.30324 0.61319 -0.29352 0.61372 -0.28472 C 0.61406 -0.27708 0.61458 -0.26921 0.61493 -0.26157 C 0.6125 -0.24074 0.60729 -0.20856 0.58872 -0.20324 C 0.57986 -0.20023 0.57049 -0.20185 0.56128 -0.20115 C 0.48941 -0.21504 0.43872 -0.20902 0.38003 -0.26157 C 0.37569 -0.26504 0.37743 -0.27453 0.37622 -0.28125 C 0.47292 -0.41041 0.6316 -0.42523 0.75868 -0.45625 C 0.77292 -0.45393 0.78785 -0.45602 0.80122 -0.44953 C 0.80451 -0.44791 0.79375 -0.43958 0.79375 -0.43958 E">
                                      <p:cBhvr>
                                        <p:cTn id="20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C -0.03125 -0.00139 -0.06319 0.00347 -0.09375 -0.00486 C -0.1316 -0.01528 -0.17674 -0.04676 -0.20868 -0.07153 C -0.24444 -0.09931 -0.26597 -0.11042 -0.28368 -0.15856 C -0.28594 -0.17407 -0.28889 -0.1838 -0.28368 -0.20023 C -0.27552 -0.22593 -0.25295 -0.23403 -0.23507 -0.24028 C -0.21215 -0.25671 -0.22014 -0.25486 -0.19271 -0.24653 C -0.17778 -0.22685 -0.1684 -0.20255 -0.15625 -0.17986 C -0.1559 -0.17338 -0.15451 -0.1669 -0.15521 -0.15995 C -0.15694 -0.13657 -0.17222 -0.13495 -0.18507 -0.12986 C -0.19062 -0.12755 -0.19583 -0.12338 -0.20139 -0.12153 C -0.21806 -0.1162 -0.23542 -0.11736 -0.2526 -0.11505 C -0.26979 -0.11551 -0.38733 -0.09838 -0.43247 -0.13171 C -0.44444 -0.15093 -0.44792 -0.17315 -0.45625 -0.19491 C -0.45313 -0.27014 -0.42292 -0.31829 -0.40122 -0.38819 C -0.38715 -0.43426 -0.37361 -0.50185 -0.3375 -0.52824 C -0.32118 -0.54028 -0.29844 -0.5375 -0.28125 -0.53819 C -0.26875 -0.53704 -0.25625 -0.53657 -0.24375 -0.53495 C -0.24201 -0.53472 -0.23889 -0.53565 -0.23872 -0.53333 C -0.23837 -0.52454 -0.24045 -0.51528 -0.24253 -0.50671 C -0.25365 -0.46111 -0.27899 -0.45579 -0.31146 -0.45162 C -0.35312 -0.45972 -0.38958 -0.47454 -0.42743 -0.5 C -0.44115 -0.54097 -0.43003 -0.58796 -0.43003 -0.63171 E">
                                      <p:cBhvr>
                                        <p:cTn id="24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00717 C 0.01737 -0.00232 0.01771 -0.01227 0.02066 -0.0213 C 0.02813 -0.04422 0.06928 -0.04838 0.0856 -0.05116 C 0.13126 -0.0419 0.14445 -0.04676 0.1731 -0.00787 C 0.17396 -0.00394 0.1757 -0.00023 0.1757 0.0037 C 0.1757 0.01574 0.16441 0.01805 0.15816 0.02037 C 0.13872 0.01666 0.11441 0.02014 0.10435 -0.00625 C 0.1066 -0.04074 0.1158 -0.0426 0.13941 -0.06459 C 0.17066 -0.09375 0.20678 -0.12014 0.24306 -0.13611 C 0.2573 -0.14236 0.27223 -0.14607 0.28681 -0.15116 C 0.34549 -0.14769 0.36216 -0.16829 0.39063 -0.1213 C 0.39549 -0.10348 0.4106 -0.05023 0.39566 -0.03611 C 0.38768 -0.03889 0.37882 -0.03866 0.37188 -0.04445 C 0.36893 -0.04676 0.34636 -0.09329 0.34566 -0.09445 C 0.33803 -0.12523 0.32865 -0.17361 0.34566 -0.20278 C 0.38421 -0.26875 0.51737 -0.32107 0.55938 -0.32454 C 0.58646 -0.32685 0.61355 -0.3294 0.64063 -0.33125 C 0.71025 -0.33588 0.70938 -0.36505 0.70938 -0.33125 E">
                                      <p:cBhvr>
                                        <p:cTn id="28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03704E-006 C -0.00694 -0.02731 -0.02256 -0.03425 -0.0401 -0.04837 C -0.05555 -0.06087 -0.06875 -0.08032 -0.08628 -0.0868 C -0.12326 -0.10046 -0.16024 -0.10995 -0.19756 -0.12175 C -0.20763 -0.12499 -0.21736 -0.13124 -0.2276 -0.13333 C -0.24375 -0.13634 -0.26006 -0.13564 -0.27621 -0.1368 C -0.35277 -0.13518 -0.41961 -0.18055 -0.46875 -0.11504 C -0.47048 -0.09675 -0.47256 -0.08911 -0.4625 -0.06851 C -0.45937 -0.06203 -0.43472 -0.05161 -0.43125 -0.04999 C -0.39739 -0.03495 -0.41041 -0.03958 -0.375 -0.03333 C -0.36163 -0.03587 -0.35503 -0.03518 -0.34375 -0.04513 C -0.34027 -0.04814 -0.33819 -0.05323 -0.33506 -0.05671 C -0.3302 -0.06203 -0.32517 -0.06712 -0.31996 -0.07175 C -0.30434 -0.08518 -0.30052 -0.08865 -0.28871 -0.10833 C -0.2743 -0.16805 -0.30711 -0.2118 -0.34496 -0.24166 C -0.41736 -0.29884 -0.49131 -0.3368 -0.57361 -0.35509 C -0.62413 -0.35416 -0.66944 -0.35046 -0.71875 -0.34513 C -0.71996 -0.34467 -0.72256 -0.34351 -0.72256 -0.34351 E">
                                      <p:cBhvr>
                                        <p:cTn id="32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755640" y="2492280"/>
            <a:ext cx="1368360" cy="1656000"/>
          </a:xfrm>
          <a:prstGeom prst="rect">
            <a:avLst/>
          </a:prstGeom>
          <a:solidFill>
            <a:srgbClr val="ffe636"/>
          </a:solidFill>
          <a:ln w="9360">
            <a:solidFill>
              <a:srgbClr val="5a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2843280" y="2492280"/>
            <a:ext cx="1368360" cy="1656000"/>
          </a:xfrm>
          <a:prstGeom prst="rect">
            <a:avLst/>
          </a:prstGeom>
          <a:solidFill>
            <a:srgbClr val="ffe636"/>
          </a:solidFill>
          <a:ln w="9360">
            <a:solidFill>
              <a:srgbClr val="5a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4859280" y="2492280"/>
            <a:ext cx="1368360" cy="1656000"/>
          </a:xfrm>
          <a:prstGeom prst="rect">
            <a:avLst/>
          </a:prstGeom>
          <a:solidFill>
            <a:srgbClr val="ffe636"/>
          </a:solidFill>
          <a:ln w="9360">
            <a:solidFill>
              <a:srgbClr val="5a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6877080" y="2492280"/>
            <a:ext cx="1368360" cy="1656000"/>
          </a:xfrm>
          <a:prstGeom prst="rect">
            <a:avLst/>
          </a:prstGeom>
          <a:solidFill>
            <a:srgbClr val="ffe636"/>
          </a:solidFill>
          <a:ln w="9360">
            <a:solidFill>
              <a:srgbClr val="5a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1" descr="http://img-fotki.yandex.ru/get/5900/natali73123.19e/0_47683_82476e10_XL"/>
          <p:cNvPicPr/>
          <p:nvPr/>
        </p:nvPicPr>
        <p:blipFill>
          <a:blip r:embed="rId1"/>
          <a:stretch/>
        </p:blipFill>
        <p:spPr>
          <a:xfrm>
            <a:off x="250920" y="4475160"/>
            <a:ext cx="86770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1.85185E-006 C 0.00225 0.03472 -0.00261 0.07083 0.00503 0.10486 C 0.00659 0.11226 0.00677 0.11851 0.00989 0.125 C 0.0118 0.13379 0.01302 0.14282 0.01493 0.15162 C 0.01562 0.15509 0.01753 0.16157 0.01753 0.16157 C 0.01666 0.30648 0.04809 0.45902 0.01371 0.59652 C 0.01406 0.6493 0.01423 0.70208 0.01493 0.75486 C 0.0151 0.76319 0.01562 0.77152 0.01614 0.77986 C 0.0184 0.81875 0.02343 0.81157 0.04878 0.81157 E">
                                      <p:cBhvr>
                                        <p:cTn id="66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C 0.00087 0.04792 -0.00191 0.08287 0.00885 0.125 C 0.00938 0.2338 -0.00365 0.33935 0.0151 0.44329 C 0.01389 0.46412 0.01597 0.47199 0.01754 0.49167 C 0.01788 0.60555 0.0191 0.71944 0.01875 0.83333 L 0.03507 0.90486 E">
                                      <p:cBhvr>
                                        <p:cTn id="68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9259E-006 C -0.00086 0.02708 -0.00226 0.05208 -0.00504 0.07847 C -0.004 0.23912 -0.01077 0.23218 0.00504 0.32662 C 0.00591 0.34722 0.00573 0.36782 0.00747 0.38843 C 0.00903 0.40648 0.0158 0.42778 0.01997 0.44514 C 0.02188 0.46412 0.02223 0.48426 0.02865 0.50162 C 0.0323 0.52292 0.02796 0.4956 0.03125 0.54005 C 0.03282 0.56181 0.03299 0.55486 0.03629 0.57176 C 0.0382 0.58148 0.0382 0.5919 0.03994 0.60162 C 0.04167 0.61134 0.04497 0.61921 0.0474 0.62847 C 0.0507 0.6412 0.05035 0.65463 0.05504 0.66667 C 0.0573 0.68472 0.0573 0.70579 0.06494 0.72176 C 0.06685 0.73426 0.06893 0.74537 0.06997 0.75833 C 0.06893 0.79167 0.0757 0.9 0.06372 0.9 E">
                                      <p:cBhvr>
                                        <p:cTn id="70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C:\Users\User\Desktop\tumblr_inline_mi0t37Dw121qz4rgp.jpg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51" name="Picture 2" descr="C:\Users\User\Desktop\anypics.ru-66525.jpg"/>
          <p:cNvPicPr/>
          <p:nvPr/>
        </p:nvPicPr>
        <p:blipFill>
          <a:blip r:embed="rId1"/>
          <a:stretch/>
        </p:blipFill>
        <p:spPr>
          <a:xfrm>
            <a:off x="0" y="0"/>
            <a:ext cx="930132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" descr="C:\Users\User\Desktop\0_6ad2f_52828e55_XL.png"/>
          <p:cNvPicPr/>
          <p:nvPr/>
        </p:nvPicPr>
        <p:blipFill>
          <a:blip r:embed="rId2"/>
          <a:srcRect l="19760" t="0" r="59451" b="48111"/>
          <a:stretch/>
        </p:blipFill>
        <p:spPr>
          <a:xfrm>
            <a:off x="1979640" y="765000"/>
            <a:ext cx="523224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35:24Z</dcterms:created>
  <dc:creator>Евгений</dc:creator>
  <dc:description/>
  <dc:language>en-US</dc:language>
  <cp:lastModifiedBy>User</cp:lastModifiedBy>
  <dcterms:modified xsi:type="dcterms:W3CDTF">2015-03-01T17:21:12Z</dcterms:modified>
  <cp:revision>43</cp:revision>
  <dc:subject/>
  <dc:title>Слайд 1</dc:title>
</cp:coreProperties>
</file>