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A93-56A6-4D63-9EBC-845BD0E45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BDE2-B20A-421D-9939-24CC4ACA56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AEA-4BD2-4A3B-B661-44495C24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55E-72FE-4588-A529-71CC2D3A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254-4D2A-4F0B-93F1-DE505D46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3CE-0055-47F8-9431-2284CD84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C5E51-3388-4054-A754-E13C4DDA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86783-A48D-4489-912D-183D2D3F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AB8EF-00D5-4467-882B-738F29AE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9A9E0-5563-491B-BEFE-83FF9EE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6A87D-10FF-465F-A82E-CA1C2A1D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C08DA-2283-46A8-A14E-43C427E1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84758-90F1-4452-94F8-2C800890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452-8A1A-4D86-91B1-93AD7319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17E08-B411-4A0F-95CA-A6CD902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9BC33-6C33-4F18-87E5-6B295B8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879A3-0FE3-4B0F-B44A-39CA7C17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64B49-3897-4612-B8C0-2EAF5E85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CA793-60FE-4872-9825-37FB52F9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9F7E-CF44-4D1C-9FE6-524CB588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031C-F77C-47C0-BDE8-7D15FF6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8899-B3BA-4E55-BF64-B97485FD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6038-178F-42F1-9858-5818BF11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6250-90EF-4D61-BD00-FEB2233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4BE-E77B-4F1D-B0CF-D382FD8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A55D-817D-40C7-BBA6-D8C3C5A2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6A87-9E89-4CA9-9AD8-4B4AB73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B66E-FECD-4885-A0E1-9A7A9ECF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8C89-1F02-47A1-BDC6-5921A3C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CB9E-7F68-4D67-ACA5-692B593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4DA48-0142-43E6-B328-70F449FF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2336-13EF-4935-BBF1-4870772A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C2461-11B0-43DE-BDB7-CBD9A3FF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5DF10-0B7A-4216-83E6-66DF15F8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59901-702A-4D65-B6CD-DD9BDD87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AF3-4C17-4808-BE4A-09ED33C7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C78FBB-007D-4981-A394-6CDCAA8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FD32E-878F-408B-8666-C65EA63F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8C1ED-FD78-4CF8-BB4A-E874F176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2F645-89A2-41FA-97E9-273F7BF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C6720-0C69-4CB3-A4C3-2DC086B8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678EB-947E-43F7-828D-A19566A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40AB8-6C31-4357-BDAB-993AC6B7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DB54F-238A-45FC-887C-D6C566AD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B844E-E604-4450-80EA-FB918962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559-B131-4342-BA73-86FB62A5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18B-5969-4C9F-B4CE-C5AFCDD5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BD4-7C01-453F-97F9-C625C07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5E4-0C5B-423E-839E-19DE72B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BDB-811E-4A6D-8DD3-C4034C4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6156-87CD-4DF3-9F4C-14EF185F956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54CA-03BC-4BB4-BED8-501041AE550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00FA-ED92-4C22-AD6A-DCF89AF4E76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3BD-ADA7-4D3F-BBD0-66C563789A1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Ber-school@rambler.r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642760" y="4071960"/>
            <a:ext cx="6286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Автор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Рожкова Римма Руслановна,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учениц 3 класс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МБОУ Центр образования п.Беринговского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Руководитель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Алтухова Алёна Васильевна,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учитель начальных классов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onstantia"/>
              </a:rPr>
              <a:t>МБОУ «Центр образования п.Беринговского»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017 год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76280" y="2249640"/>
            <a:ext cx="8710560" cy="1792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702000" y="1500120"/>
            <a:ext cx="79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егиональный конкурс творческих работ «Мастер сл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рамках Юбилейных Десятых Окружных Керековских чт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оминация: «ФОТОРЕПОРТАЖ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-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857160" y="147960"/>
            <a:ext cx="7878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НИЦИПАЛЬНОЕ БЮДЖЕТНОЕ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ЩЕОБРАЗОВАТЕЛЬНОЕ УЧРЕЖДЕНИЕ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Calibri"/>
                <a:ea typeface="Calibri"/>
              </a:rPr>
              <a:t>«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НТР ОБРАЗОВАНИЯ ПОСЁЛКА БЕРИНГОВСКОГО</a:t>
            </a:r>
            <a:r>
              <a:rPr b="1" lang="ru-RU" sz="1300" spc="-1" strike="noStrike">
                <a:solidFill>
                  <a:srgbClr val="c00000"/>
                </a:solidFill>
                <a:latin typeface="Calibri"/>
                <a:ea typeface="Calibri"/>
              </a:rPr>
              <a:t>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ул. Первого Ревкома Чукотки, 3,  п.Беринговский, Анадырский район, Чукотский автономный округ, 689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Тел/факс: (42733) 3-12-62, </a:t>
            </a:r>
            <a:r>
              <a:rPr b="0" lang="en-US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Email</a:t>
            </a: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r>
              <a:rPr b="0" lang="en-US" sz="1300" spc="-1" strike="noStrike" u="sng">
                <a:solidFill>
                  <a:srgbClr val="8e58b6"/>
                </a:solidFill>
                <a:uFillTx/>
                <a:latin typeface="Times New Roman"/>
                <a:ea typeface="Calibri"/>
                <a:hlinkClick r:id="rId2"/>
              </a:rPr>
              <a:t>Ber</a:t>
            </a: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-</a:t>
            </a:r>
            <a:r>
              <a:rPr b="0" lang="en-US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school</a:t>
            </a: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@</a:t>
            </a:r>
            <a:r>
              <a:rPr b="0" lang="en-US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rambler</a:t>
            </a: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r>
              <a:rPr b="0" lang="en-US" sz="1300" spc="-1" strike="noStrike">
                <a:solidFill>
                  <a:srgbClr val="c00000"/>
                </a:solidFill>
                <a:latin typeface="Times New Roman"/>
                <a:ea typeface="Calibri"/>
              </a:rPr>
              <a:t>r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8440" y="5785920"/>
            <a:ext cx="4500360" cy="5670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Это касается каждого!!!</a:t>
            </a:r>
            <a:endParaRPr b="0" lang="en-US" sz="25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3" name="Picture 2" descr="C:\Users\ас-ПК\Desktop\20170323_085152.jpg"/>
          <p:cNvPicPr/>
          <p:nvPr/>
        </p:nvPicPr>
        <p:blipFill>
          <a:blip r:embed="rId1"/>
          <a:stretch/>
        </p:blipFill>
        <p:spPr>
          <a:xfrm>
            <a:off x="208080" y="208080"/>
            <a:ext cx="5796000" cy="54435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857560" y="285840"/>
            <a:ext cx="3143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Чукотке много сёл и поселков.  Думаю, что для всех  проблема с бездомными собаками является  важной темой для обсужд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Цель моего репортаж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влечь внимание одноклассников, родителей, знакомых к данной проблем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ac9"/>
                </a:solidFill>
                <a:latin typeface="Constantia"/>
              </a:rPr>
              <a:t>потому что решать проблему бездомных животных надо сообща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3:11:40Z</dcterms:modified>
  <cp:revision>21</cp:revision>
  <dc:subject/>
  <dc:title>БЕЗДОМНЫЕ ЖИВОТНЫЕ – ПРОБЛЕМА БЕРИНГОВСКОГО</dc:title>
</cp:coreProperties>
</file>