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F3C-CBC3-494A-89B4-A997C0D9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406-59E5-4383-BA52-DD00F108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DDD-D77D-43E3-B2FE-EE48ED9E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29A-9125-4FD3-A419-983060E2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5389D-F00D-4FD4-96D4-62E61B19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6EF27-EDD2-45A1-90D4-153C81AC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A2EBF-54D3-4521-AD38-47C47998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D6EFD-E378-4DC6-8C1B-FAEB9D88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2B1D2-91C1-4E2E-9AB1-8ED47354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C0118-A07B-4936-AF85-6F0245EB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07E92-F9DA-4D88-B87E-C16625AF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30A-DFBD-4973-8EFD-74B7F410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45B67-F5F2-4DAE-BF70-9D698E46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A404D-5CA6-459B-90D7-B9B3A3B7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6377-CE7D-4768-9B9C-24C8DABC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1CBF9-C6BA-4903-999B-98DB73C9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19F37-7779-4BA6-B836-94E9FA6F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99FA-5861-4773-ADCB-1C790D2E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3293-468A-4958-AE33-0325E5CF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A010-9990-490C-AB2C-FD092DF8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8732-5BD9-43C4-B0BF-EA178F68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4F1F-9969-4ED5-9694-FC66AC3A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2C1-2816-4EE3-9F1C-7DC1695A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0D8C-74B7-434F-A13C-57D43157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4131-442A-440D-BEB3-0E6B700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3119-CE39-4D16-AED8-EFD4CF7A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FEB7A-5736-4392-9C6D-81D75F6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C984-A772-453D-BD37-CB3DBEAA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C779A-53FC-4A48-B779-3A231ADF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2AEE-1A43-4FF6-8949-569779DF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95377-2A99-49D7-917F-29080900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42799-E757-4532-AC30-FDEA20FA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914BB-ADA4-4550-9864-20D1FE2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D43-CC42-4DCB-A5E8-9E6AA9E9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30367-F2C0-4DBB-BEA2-A26F5BE1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FFD2E-62E6-45B7-863F-3A128482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6A9A1-0500-401E-9DF4-BB46EED5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BCC26-239F-42CB-A8FD-4190C86C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8DF8C-08F0-47A7-B80F-1BB05D18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F6173-6D39-4DB6-A32B-55164405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43C36-9FAA-4E5F-8F64-CA9D04A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23994-AE23-4465-90B4-A3AF69EC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FEBCF-1FE6-42F0-B370-740A3648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C9E-0DFB-44DE-97A9-958077DE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AAE-94C2-4FC5-BC03-D86A0B40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2FB-89CE-4DBC-A921-97591F9C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FD6-9E92-48EB-A0D6-C4F8A548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D47-6AB4-4D81-A2C9-AD9172C6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300-111D-41DA-9218-AB8C5CD6ADE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E8B9-BD6F-4BAD-AD74-F74E0D2DE4B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59C-68C0-4E90-B801-DED630BDC03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B2A4-8A22-47E8-A647-2304C7810A4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85920" y="4214880"/>
            <a:ext cx="6850080" cy="5666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пасность.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1" name="Picture 2" descr="C:\Users\ас-ПК\Desktop\20170323_084837.jpg"/>
          <p:cNvPicPr/>
          <p:nvPr/>
        </p:nvPicPr>
        <p:blipFill>
          <a:blip r:embed="rId1"/>
          <a:stretch/>
        </p:blipFill>
        <p:spPr>
          <a:xfrm>
            <a:off x="493560" y="208080"/>
            <a:ext cx="8229600" cy="4155840"/>
          </a:xfrm>
          <a:prstGeom prst="rect">
            <a:avLst/>
          </a:prstGeom>
          <a:ln w="0">
            <a:noFill/>
          </a:ln>
        </p:spPr>
      </p:pic>
      <p:grpSp>
        <p:nvGrpSpPr>
          <p:cNvPr id="172" name="Текст 3"/>
          <p:cNvGrpSpPr/>
          <p:nvPr/>
        </p:nvGrpSpPr>
        <p:grpSpPr>
          <a:xfrm>
            <a:off x="281160" y="4705200"/>
            <a:ext cx="8729640" cy="1944720"/>
            <a:chOff x="281160" y="4705200"/>
            <a:chExt cx="8729640" cy="1944720"/>
          </a:xfrm>
        </p:grpSpPr>
        <p:pic>
          <p:nvPicPr>
            <p:cNvPr id="173" name="Текст 3" descr=""/>
            <p:cNvPicPr/>
            <p:nvPr/>
          </p:nvPicPr>
          <p:blipFill>
            <a:blip r:embed="rId2"/>
            <a:stretch/>
          </p:blipFill>
          <p:spPr>
            <a:xfrm>
              <a:off x="281160" y="4705200"/>
              <a:ext cx="8729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57120" y="4786200"/>
              <a:ext cx="85726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5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Constantia"/>
                </a:rPr>
                <a:t>В поселке Беринговский  очень много бездомных  собак и с каждым годом их становиться все больше и больше. Некоторые люди их подкармливают. Но этого не хватает и собаки начинают бросаться на людей. Они вырывают из рук пакеты с мусором или с продукт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Constantia"/>
                </a:rPr>
                <a:t>.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6"/>
          <p:cNvSpPr/>
          <p:nvPr/>
        </p:nvSpPr>
        <p:spPr>
          <a:xfrm>
            <a:off x="6572160" y="1285920"/>
            <a:ext cx="2928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людей не обращают внимания или делают вид, что не замечают, но эта проблема остается актуальной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3:15:45Z</dcterms:modified>
  <cp:revision>22</cp:revision>
  <dc:subject/>
  <dc:title>БЕЗДОМНЫЕ ЖИВОТНЫЕ – ПРОБЛЕМА БЕРИНГОВСКОГО</dc:title>
</cp:coreProperties>
</file>