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8F4-B7B7-4C3A-A1CD-3767624E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321-000E-4C5A-B747-324618D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CDE-C081-4799-884A-3CED57D0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C0F-4253-4610-9837-A6F16263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5C0F-6AA7-4327-B009-EC2ED68E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9CE74-E756-4110-A8C6-6E0C0550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A357-3991-49A9-A741-2B61C45A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4FB55-39F8-4484-99EF-F468E490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E968D-908C-4DFF-8FE7-CC16CB5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19D26-A55C-4170-A587-40B6255B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4965-35D5-4A31-BBD0-ED7C2FC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29B-73A9-417B-BD7D-D417B114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5E388-0157-48BE-AC3A-48B7427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5327B-A66F-4BF6-819C-E842016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8FB73-DEB1-41FC-9E3E-62ECB4F9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BE7D2-BCF7-49B8-991E-650330C5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3D292-3217-4103-9990-37835E02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A409-3409-40D8-A77A-4A9A0D25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44AB-A02D-4D21-BBA0-78EA68A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03F3-7AD1-40E0-92E6-DAB95B8B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34BD-EF92-4A6A-A3CB-4F70AA7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3D81-DC10-4437-89DD-6F58660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619-11BE-4AB4-8017-6413E7AE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F137-8106-4D71-BA01-8A941028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A736-833F-426C-8F3C-09485EB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0DE4-AFB2-42C6-9C18-75568F4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9C55-2368-4BB5-8D61-8C67B04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D1A2-49DE-43D7-8EEF-214931F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EACF-EF63-455B-AA72-9C2DD5B9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ACDC-BB5C-44F1-B0C1-DA51293A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A85C4-99FE-402E-885F-596E3F30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85709-B370-4FE1-8443-9F548202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44D45-63C6-4850-8933-440F9E4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245-20D7-4688-B5C4-7E27338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6A12F-2A33-4DA8-85F8-CC56544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AAE6C-43BF-4133-AE1D-3966252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83820-D13C-40A7-AEE7-B73366A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FA29F-465C-4CD6-ACE0-8E63C27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2296D-7155-4991-AFEB-77093CA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03C60-DA21-4A4C-9B84-9D5B1B1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6CE4E-3939-40A7-8E77-ACF49B74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B241B-372D-4A01-8223-D1270F84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B8E81-2BC4-4FCD-B213-09A02ADD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BD1-4723-4955-9811-94B40D2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3D7-7F1A-4812-BC64-ABCE5145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56E-F2E6-4E99-849B-1A10378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9B6-1153-41DA-9019-20FC294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1B1-1EED-435C-BEB8-099FD68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618-C4BC-4A62-9E65-D618F11DC89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568-02FF-4709-B799-DCF68410602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6050-3D31-4702-99B7-02085132892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0120-E93F-42EE-91FA-7DE8BF988F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4800600"/>
            <a:ext cx="6850080" cy="5666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пасность.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1" name="Picture 2" descr="C:\Users\ас-ПК\Desktop\20170323_084837.jpg"/>
          <p:cNvPicPr/>
          <p:nvPr/>
        </p:nvPicPr>
        <p:blipFill>
          <a:blip r:embed="rId1"/>
          <a:stretch/>
        </p:blipFill>
        <p:spPr>
          <a:xfrm>
            <a:off x="493560" y="208080"/>
            <a:ext cx="8229600" cy="4943520"/>
          </a:xfrm>
          <a:prstGeom prst="rect">
            <a:avLst/>
          </a:prstGeom>
          <a:ln w="0">
            <a:noFill/>
          </a:ln>
        </p:spPr>
      </p:pic>
      <p:grpSp>
        <p:nvGrpSpPr>
          <p:cNvPr id="172" name="Текст 3"/>
          <p:cNvGrpSpPr/>
          <p:nvPr/>
        </p:nvGrpSpPr>
        <p:grpSpPr>
          <a:xfrm>
            <a:off x="347760" y="5284800"/>
            <a:ext cx="8375400" cy="1365120"/>
            <a:chOff x="347760" y="5284800"/>
            <a:chExt cx="8375400" cy="1365120"/>
          </a:xfrm>
        </p:grpSpPr>
        <p:pic>
          <p:nvPicPr>
            <p:cNvPr id="173" name="Текст 3" descr=""/>
            <p:cNvPicPr/>
            <p:nvPr/>
          </p:nvPicPr>
          <p:blipFill>
            <a:blip r:embed="rId2"/>
            <a:stretch/>
          </p:blipFill>
          <p:spPr>
            <a:xfrm>
              <a:off x="347760" y="5284800"/>
              <a:ext cx="8375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8760" y="5367240"/>
              <a:ext cx="821520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nstantia"/>
                </a:rPr>
                <a:t>В поселке Беринговский  очень много бездомных  собак и с каждым годом их становиться все больше и больше. Некоторые люди их подкармливают. Но этого не хватает, и собаки начинают бросаться на людей. Они вырывают из рук пакеты с мусором или с продуктами</a:t>
              </a:r>
              <a:r>
                <a:rPr b="0" lang="ru-RU" sz="900" spc="-1" strike="noStrike">
                  <a:solidFill>
                    <a:srgbClr val="000000"/>
                  </a:solidFill>
                  <a:latin typeface="Constantia"/>
                </a:rPr>
                <a:t>.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3:16:36Z</dcterms:modified>
  <cp:revision>22</cp:revision>
  <dc:subject/>
  <dc:title>БЕЗДОМНЫЕ ЖИВОТНЫЕ – ПРОБЛЕМА БЕРИНГОВСКОГО</dc:title>
</cp:coreProperties>
</file>