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E85A-3AD1-49D4-879D-F38CC4BD4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1D7F-105D-4226-A77B-8F26772B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8168-5953-43CA-B924-7C042BACA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5241-558C-4C8E-8037-7B24FF37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47413-18F8-4F5A-B02B-17EE175E9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483D2-239A-45E7-8F75-9880ADAB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4C70D-98D7-476F-AB93-ABF3B4C3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9E7CA-7638-4E67-A7E5-7EC01AC3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3478A-935D-429D-B94F-5B9D14A5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600C7-99FD-4FFC-B7E3-135634C8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BAC0E-6CE7-4961-907E-DDB7819A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10DD-AC85-4034-8F79-DADD4FB0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5C40D-2CEE-4DED-952E-5F9DC487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2304C-B96B-45DB-8502-3470114F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44F4E-E6E8-46A4-9E53-073A7FA7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EB78D-30BD-476E-8111-5AEF622C4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40B38-967B-4CEC-89C8-24BFE7FA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A6949-5C86-46B3-9D06-CDCF0A16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29063-BC76-4940-87B2-D87C27C9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02464-F24B-4EAD-9379-5103265C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C84B7-B9C4-4088-8997-F6F03177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CA602-A289-44A5-9F16-8992C511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3DF1-F13C-428E-A956-0F1BE026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90728-5022-4297-A8AD-7B3F5C63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58B73-625C-4AAE-8331-20A40AEE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25957-84F0-4DA3-B443-4504C4D9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0FD64-F17B-4FC0-BAC0-1C02E6C9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94FE7-140B-4A81-804E-28AF6D63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774D1-64DF-4688-9C04-6BA6DF11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E3549-CF09-41E9-A76F-849423526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AC9A19-6C08-426A-9524-028C5A02C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35DE3E-EFB6-4886-89CA-E6D846AD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E455E2-9E0B-496C-AD58-795545C0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C10B-2581-4685-8DD2-95FA6F99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7A181B-1335-4B6E-AE9D-2C43C84E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90ED4B-CE4D-4E6C-ACAE-0F5E29F6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1E3777-7530-4FF1-91F2-15A6C212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E9A17E-66F3-4FC4-90E8-DEC49779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95866E-A8B5-426A-840D-7DDCC5DF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BEF1DD-D797-443A-B760-10A21F90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0F5D44-52CD-4EF4-AFE4-A37563C3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921A15-3269-4DDD-BD2D-327700324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6592F3-4F3D-43BA-86CC-18D667F9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6A5D-657D-45F3-97D9-A34A8AC3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D16A-3E75-4BD9-882C-87269252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6AD0-214B-4A47-A670-ED0FBF0C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F314-CFCB-4143-9223-A4C9EDC7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4C6D-E1EC-49EF-8416-C2079DFA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46AB-2778-4815-97CC-3DEF98BD161E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0A4A-F834-4846-AEFB-7B409DFF069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EC26-2B3C-463C-AA0F-EBA392F9015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227E-52BE-4AA9-A611-0A34164713CC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Текст 3" descr=""/>
          <p:cNvPicPr/>
          <p:nvPr/>
        </p:nvPicPr>
        <p:blipFill>
          <a:blip r:embed="rId1"/>
          <a:stretch/>
        </p:blipFill>
        <p:spPr>
          <a:xfrm>
            <a:off x="158760" y="781200"/>
            <a:ext cx="4346640" cy="2011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Users\ас-ПК\Desktop\20170323_083526.jpg"/>
          <p:cNvPicPr/>
          <p:nvPr/>
        </p:nvPicPr>
        <p:blipFill>
          <a:blip r:embed="rId2"/>
          <a:stretch/>
        </p:blipFill>
        <p:spPr>
          <a:xfrm>
            <a:off x="500040" y="2714760"/>
            <a:ext cx="3929040" cy="3913200"/>
          </a:xfrm>
          <a:prstGeom prst="rect">
            <a:avLst/>
          </a:prstGeom>
          <a:ln w="0">
            <a:noFill/>
          </a:ln>
        </p:spPr>
      </p:pic>
      <p:pic>
        <p:nvPicPr>
          <p:cNvPr id="172" name="Заголовок 1" descr=""/>
          <p:cNvPicPr/>
          <p:nvPr/>
        </p:nvPicPr>
        <p:blipFill>
          <a:blip r:embed="rId3"/>
          <a:stretch/>
        </p:blipFill>
        <p:spPr>
          <a:xfrm>
            <a:off x="-237960" y="-365040"/>
            <a:ext cx="84740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173" name="Текст 4"/>
          <p:cNvGrpSpPr/>
          <p:nvPr/>
        </p:nvGrpSpPr>
        <p:grpSpPr>
          <a:xfrm>
            <a:off x="4780080" y="1706400"/>
            <a:ext cx="3913200" cy="1401840"/>
            <a:chOff x="4780080" y="1706400"/>
            <a:chExt cx="3913200" cy="1401840"/>
          </a:xfrm>
        </p:grpSpPr>
        <p:pic>
          <p:nvPicPr>
            <p:cNvPr id="174" name="Текст 4" descr=""/>
            <p:cNvPicPr/>
            <p:nvPr/>
          </p:nvPicPr>
          <p:blipFill>
            <a:blip r:embed="rId4"/>
            <a:stretch/>
          </p:blipFill>
          <p:spPr>
            <a:xfrm>
              <a:off x="4780080" y="1706400"/>
              <a:ext cx="39132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4786200" y="1714680"/>
              <a:ext cx="390204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гда их было немного, они защищали людей от медведей и других диких животных. Не пускали в поселок. Но теперь их много и им нечего есть. Мне их очень жалко. Я люблю собак. Они добрые и преданные существа, и они не должны умирать от голода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6" name="Picture 2" descr="C:\Users\ас-ПК\Desktop\20170323_083455.jpg"/>
          <p:cNvPicPr/>
          <p:nvPr/>
        </p:nvPicPr>
        <p:blipFill>
          <a:blip r:embed="rId5"/>
          <a:stretch/>
        </p:blipFill>
        <p:spPr>
          <a:xfrm>
            <a:off x="4870440" y="2786040"/>
            <a:ext cx="40975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Заголовок 1" descr=""/>
          <p:cNvPicPr/>
          <p:nvPr/>
        </p:nvPicPr>
        <p:blipFill>
          <a:blip r:embed="rId1"/>
          <a:stretch/>
        </p:blipFill>
        <p:spPr>
          <a:xfrm>
            <a:off x="493560" y="208080"/>
            <a:ext cx="8242560" cy="10904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285840" y="642600"/>
            <a:ext cx="88581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Что я сделала, чтобы привлечь внимание к этому вопросу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роанализировала литературу по данному вопросу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ровела анкетирование ребят в классе ( результаты анкетирования в Приложении 1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ровела конкурс рисунков во 2 и 3 классах «Моё животное» и «Приют для бездомных животных» (рисунки представлены в Приложении 2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Мои действия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одкармливать и заботиться о бездомных животных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тараться найти хозяина бездомному животному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Рассказывать об этой проблеме друзьям и взрослым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Я  считаю, что проблему следует решать с самого начала: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ужно  не выкидывать животных на улицу, прежде чем взять домой, подумать: а сможешь ли ты уделять ему достаточно времени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8:58:23Z</dcterms:created>
  <dc:creator>ас-ПК</dc:creator>
  <dc:description/>
  <dc:language>en-US</dc:language>
  <cp:lastModifiedBy>dns</cp:lastModifiedBy>
  <dcterms:modified xsi:type="dcterms:W3CDTF">2019-12-25T13:13:34Z</dcterms:modified>
  <cp:revision>21</cp:revision>
  <dc:subject/>
  <dc:title>БЕЗДОМНЫЕ ЖИВОТНЫЕ – ПРОБЛЕМА БЕРИНГОВСКОГО</dc:title>
</cp:coreProperties>
</file>