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8E3-F2FE-4EEC-B3D9-06BB7B15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616-3385-4C13-8522-1079D3FB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6AE-89C6-4552-8ED8-6C022CAA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7A8-6E27-442E-BA0F-56BF99FF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53B8C-7216-423F-BF5A-98B66F95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0A486-396D-4FFA-98AB-28AF252A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A26B8-4321-4C1E-91B3-FEC76EEB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DEBE8-61FB-49D7-90CF-B8971B2A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8E72F-8425-4967-8CF8-8A678CFE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84020-1E24-4240-803C-9AF9B6AB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7CE27-630E-4184-811C-99B9AF97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0B2-BEA2-4C0F-8A8D-1C9B5BFE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BB985-A2E9-41AB-A69D-BBD90D17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098D5-2260-4858-8A92-6CE03CDF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DFEB8-6AF9-4CE8-AB0E-5F6F188B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B9996-09BC-4977-8EE4-36BD61C6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6849B-28C2-4E7D-B6E8-02D87B09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AF245-A848-4A92-88CF-79B67128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B4263-546C-4397-9D97-F03B35B7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CF61-188C-4839-A91C-005EA0A4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6B4C-8B1A-450E-A0A9-B0C1CA78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D550-1E84-4C63-B9F9-6AB51488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222-FBB3-49D1-9373-715C3073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38EC7-84CD-4EDE-8F9B-ED4B3DF9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7CA28-461D-48F6-90E6-814CD66B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5AA03-4DC3-4F5D-AD2D-ABB1EC59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7CBFB-35AB-498F-884F-02CAA501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04AD4-6ADE-4291-ADA6-D3D0BFE5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3C02B-23A7-430D-9C26-80EC56BE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C121E-6ADC-4332-B248-0FAD58E1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F0594D-3DF2-4AF9-B2EE-90753ACE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011B0-1EB1-46CD-A8BE-36D3910A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735B18-4DA4-430B-A543-18B5EB1E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47F-8B8B-4BB9-B609-139F27BA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027F34-B9A0-4C60-853F-0855FF00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2A88AB-6589-4623-99AC-817DD3AE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018F71-88A5-4B59-A7F9-00B132C5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9C71ED-1AF8-4E5D-B185-B3EB3F32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C0190-8239-422A-9BEB-CD4AAB1E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E048F1-8367-4FB9-804E-076C1038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EB8A1D-7057-420D-82B3-DE72AEEC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C6B38A-385E-4D2B-8403-C2F3C21B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23D93-49D2-4D91-9E64-EAD5F720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C53-B1CC-40AC-B5AB-02F72D49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3E5-2DDD-48B3-A45D-0F04B17E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EA5-554B-4EBF-8C9A-09E531B9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12A-AF72-48A4-B3A6-89E3AC91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FE4-631B-40F5-AE27-C2D7E445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89FE-94F1-4EDA-8E8E-EE6A597C4EF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99F6-B2BB-44F4-AB2B-5C8D32B5C5D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AE91-76BE-449D-9C81-962A1A9B046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0DB7-7F8D-412B-B665-20EFDDD829E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4" descr="20170323_084829.jpg"/>
          <p:cNvPicPr/>
          <p:nvPr/>
        </p:nvPicPr>
        <p:blipFill>
          <a:blip r:embed="rId1"/>
          <a:stretch/>
        </p:blipFill>
        <p:spPr>
          <a:xfrm>
            <a:off x="566640" y="450720"/>
            <a:ext cx="6010200" cy="57308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500520" y="999720"/>
            <a:ext cx="2428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 считаю, для того чтобы помочь  голодным собакам и обезопасить людей, живущих в поселке, нужно построить приют для бездомных животных.  Кормить можно остатками пищи из общественных столовых. А ухаживать за ними могут волонтёр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500880" y="457200"/>
            <a:ext cx="2262240" cy="5428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ешение есть</a:t>
            </a:r>
            <a:endParaRPr b="0" lang="en-US" sz="1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Содержимое 4" descr="чернов листовка.jpg"/>
          <p:cNvPicPr/>
          <p:nvPr/>
        </p:nvPicPr>
        <p:blipFill>
          <a:blip r:embed="rId1"/>
          <a:stretch/>
        </p:blipFill>
        <p:spPr>
          <a:xfrm>
            <a:off x="785880" y="285840"/>
            <a:ext cx="4143240" cy="60609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286240" y="500040"/>
            <a:ext cx="347976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!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нимательны к животным, не бросайте их,  ведь мы в ответе за тех, кого приручили!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071520" y="5643360"/>
            <a:ext cx="198108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Чернов Роман</a:t>
            </a:r>
            <a:endParaRPr b="0" lang="en-US" sz="1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8:58:23Z</dcterms:created>
  <dc:creator>ас-ПК</dc:creator>
  <dc:description/>
  <dc:language>en-US</dc:language>
  <cp:lastModifiedBy>dns</cp:lastModifiedBy>
  <dcterms:modified xsi:type="dcterms:W3CDTF">2019-12-25T13:14:29Z</dcterms:modified>
  <cp:revision>21</cp:revision>
  <dc:subject/>
  <dc:title>БЕЗДОМНЫЕ ЖИВОТНЫЕ – ПРОБЛЕМА БЕРИНГОВСКОГО</dc:title>
</cp:coreProperties>
</file>