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422-2F1F-4D5B-B097-DBE7999C9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320-FBF2-414B-BF9B-4DDCFF482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90A-7F65-42D1-8500-99B2A1BCC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AA6-52B1-475A-9FE4-B25F6AEA8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93A-F2DA-48BA-AF38-E3D256775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E09-2DC2-4E3F-A0AA-0A0E6A7BE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3FB-7598-4263-BE36-2A8DE906A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1745-24A2-45B9-88B3-9F7B1FF7E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A97-F37B-4FEC-930D-61FDFAEC0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C1D-F8FA-4525-9DE1-1D78882B2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A75-7F79-4DF9-B590-7027CC53C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44B7-7272-412C-9787-38511D99E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D28-4AF0-41C7-81A9-32BE8A74E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457-1592-4AC4-ABCE-249AD4F89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A3B-0009-4119-8A67-8AF171E67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09E-DE87-4946-A1FB-FEC2855E7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20D-C242-4A99-8C60-853471DB5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EEAF-99DE-4364-B2E5-9C13625A9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7B18-584C-4A14-A9F4-F1F5C6583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9949-E93B-4D9F-B731-8FB82792E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38A-4734-4E05-AC09-C7E5D56C2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F41-6800-454D-BC23-BBC861859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528-0EBD-4342-A07A-A33114FE8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A1B-6D74-4E97-8FCF-CBB3FAFB3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197-6D1D-4194-B201-10A673750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182A-C85E-4FB2-975D-1E9804A3B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3480-DCB5-424A-9943-64D7CCB0A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104-A830-4868-9A8B-F89EFED85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82E-4766-4CBA-AACC-6464DC461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1695-A9EB-438B-BBEB-41556EA40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1BA-3837-49C7-B2D6-94F803B76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B04-05E1-480B-9EFF-32ABD4EBC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DCE-1810-4F05-8192-C49012ABC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63C-CFAE-4422-B2A3-EEF1D6D8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7A5-D104-4287-86B9-4E5F0C5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D63-B1BB-4851-8CD8-36D03F6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282-B603-437B-A620-3E7BB201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3A6-9D64-456D-8887-342C66F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C77-2F5C-4612-8072-2AB19099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D68-825F-4362-B95C-32614C2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717-2C0E-44DD-B6C0-D9F2B0CF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7F0-920D-41BE-AAF4-1BE3C560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564-0C3A-4D02-B2B6-4400F89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060-0918-4573-9458-BD13597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930-DF33-4A2F-8CDE-12744CE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8A0C-CBB8-429A-8B2C-BAAC75CF6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Impact"/>
              </a:rPr>
              <a:t>КНИГА РЕКОРДОВ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Impact"/>
              </a:rPr>
              <a:t>«Самое – самое»</a:t>
            </a: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                                                                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втор презентации: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ученик 9 класса Скворцов Никита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                          Руководитель: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учитель химии И.В. Морозов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. Москва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Школа «Ступени»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01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Цез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меет наибольше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зотопов (3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ервый элемент, который открыл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мощью метода спектр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нализа. В 1860 г. немецкие уче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. Бунзен и Г. Кирхгоф по яр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иним линиям в спектре, обнаруж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воде минеральных источников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аварии новый химический эле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звание элемента происходит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атинского «цезиус», что знач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ебесно-голубой. Цезий – достато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едкий элемент по распростран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земной к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Цез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omic Sans MS"/>
              </a:rPr>
              <a:t>Физические свойства метал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0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Золот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Наиболее ковки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истое золото – мягкий жел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. Из 1г золота можно вытян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оволоку длиной 2,4 км – та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олотая проволока в 10 раз тон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еловеческого волоса. В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олото встречается в самородках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виде мелких зерен и чешу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крапленных в твердые породы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ссредоточенных в золотонос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есках. Растворяется золото лиш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«царской водке», в раство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цианидов и ртути. В ювелирны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хнических изделиях применяют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истое золото, а его сплавы с мед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 сереб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Золото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Вольфр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тугоплавки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крыт в конце 18 в. Температура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лавления +3420С (как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верхности Солнца), а кип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+5900С. Вольфрам - очень тяжелый,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1,7 раза тяжелее свинца, блестя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мно-серый металл. Больш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оизводимого в мире вольф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пользуется в металлургии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егирования инструменталь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талей. В любой электролапоч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ветит раскаленный вольфрам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олосок. Из 1 килограмма вольф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ожно изготовить 20 000 ла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арбид вольфрама близок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вердости к алма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Вольфрам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0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Ртут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легкоплавки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туть – тяжелый металл серебри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елого цвета, единственный метал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жидкий при обычны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атвердевает ртуть при -38,9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акипает – при +357,25С. Мно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ы хорошо растворяются в рт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 образованием амальгам. Ртуть и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единения весьма ядовиты работа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ими требует большой остор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промышленности и в технике рт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пользуют очень широко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знообразно. Каждый из нас держал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уках ртутный термомет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Ртуть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Ириди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тяжелы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олгое время считалось, что са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яжелый металл осмий (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лотность 22,5 г/см куб.), но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точненным данным его пл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казалась равна 22,61 г/см куб., т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ак у иридия она составила такж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точненным данным 22,65 г/см к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то значит, что иридиевый шар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иусом 10 см вы не сможете да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орвать от пола.  Серебристо-бе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 твердый и прочный. Он не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убам даже «царской водке». Наз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 греческого ирис – радуга получ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лагодаря разнообразию окра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Ирид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Лит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легкий из мет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лотность лития в 45 раз меньше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 иридия и в 2 раза меньше, чем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оды, поэтому на ее поверхности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лавает. Литий – металл серебри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елого цвета. Название получил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реческого «литос» – камень, по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то был обнаружен в 1817г. швед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химиком И.Арфведсоном при анали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инерала петалита, который похо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 обыкновенный кам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пользуется в ракетном топливе,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готовления лазеров, аккумулятор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силикатной промыш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Лит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nodeType="clickEffect" fill="hold">
                      <p:stCondLst>
                        <p:cond delay="0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Ради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токсичны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26 декабря 1898 г. супруги Кю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общили об открытии радия – 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 самых замечательных элементов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тории человечества. Н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ещество обнаружили по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лучению. Название происходит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атинского «радиус» - луч. Радий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еребристо - белый металл. Работа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иевыми препаратами положи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чало новой науке – радиохи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ий первым из радиоакти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лементов стали применя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актических целях, главным обра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медицине – для лечения опухоле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ругих заболе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Рад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nodeType="clickEffect" fill="hold">
                      <p:stCondLst>
                        <p:cond delay="0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Хро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твердый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Хром открыт в 1797 г.извест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французским химиком Л. Вокленом.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ироде встречается в основн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иде хромистого железняка. Хром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 серо-стального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единения хрома широ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пользуются в химичес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ожевенной промышленности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убления кож, в пиротехни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лиграфии, а также при производ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расителей. Многие соединения хр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ярко окрашены. Греческое «хро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значает краска, цвет. Хром нас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верд, что легко царапает стек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0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Цези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Самый мягкий из мет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Цезий – легкий,  металл бле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золотистого цвета. Он 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егко плавится – темп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лавления всего 28,5 С. Металл т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ягок, что режется ножом, к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ливочное масло. Цезий облад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ярко выраженными свой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ов, это самый хим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ктивный металл. Он реагирует даж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глеродом не только в виде графи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о и алмаза. Способность легко тер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лектроны сделала его незаменим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ля изготовления фото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Цез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0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omic Sans MS"/>
              </a:rPr>
              <a:t>Химический элемен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Сереб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еталл с наиболь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теплопровод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рагоценный металл, известный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лубокой древности. Серебря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амородки люди находили еще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ого, как научились выплавл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ы из руд. Серебро встреч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 нашей планете как  самородное, т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 в виде соединений. Чистое серебро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лестящий металл, очень мягкий,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овкости уступает лишь золоту. Луч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сех металлов проводит тепл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Серебро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5" dur="indefinite" restart="never" nodeType="tmRoot">
          <p:childTnLst>
            <p:seq>
              <p:cTn id="1916" dur="indefinite" nodeType="mainSeq">
                <p:childTnLst>
                  <p:par>
                    <p:cTn id="1917" nodeType="clickEffect" fill="hold">
                      <p:stCondLst>
                        <p:cond delay="0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Ртут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еталл, теплопровод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которого наименьш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плопроводность ртути в 50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хуже, чем у серебра. Ртуть работает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мерительных приборах (баромет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реометр). Ртуть – эле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едкий и рассеянный. Тем не ме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вестна ртуть с глубокой дре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корее всего, человек познакомился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тутью, выделив ее при нагре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лавного минерала ртут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ярко-красной киновари. Иногд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ироде встречается и самород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туть, образовавшаяся, по-видимо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 той же киновар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Ртуть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nodeType="clickEffect" fill="hold">
                      <p:stCondLst>
                        <p:cond delay="0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Серебр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еталл с наиболь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электропровод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еребро - луч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оводник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Ассирии и Вавилоне сереб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читалось священным металл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являлось символом Луны. Ио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еребра обладают си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актерицидным действием и прид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оде особые свойства, она ост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лительное время свежей. Пить в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 ионами серебра не стоит. Сереб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(как и золото) – клеточный 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створимый в воде нитрат сереб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меет прижигающее и вяжу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актерицидное действ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Серебро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nodeType="clickEffect" fill="hold">
                      <p:stCondLst>
                        <p:cond delay="0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Германи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еталл, электропровод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которого наименьш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лектропроводность германия мен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ем у серебра в 59 раз. Герм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крыт в 1886 г. немецким ученым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инклером и назван в честь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талл серо-белого цвета. «Звез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ас» германия наступил в серед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20 в., когда были установлены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никальные полупроводник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войства. Стремительн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лупроводниковой тех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ущественно связано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пользованием германия,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единений и спла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Герман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0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omic Sans MS"/>
              </a:rPr>
              <a:t>Химические соедин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0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ые зловонны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Этилмеркаптан   С</a:t>
            </a:r>
            <a:r>
              <a:rPr b="1" lang="ru-RU" sz="1600" spc="-1" strike="noStrike">
                <a:solidFill>
                  <a:srgbClr val="99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H</a:t>
            </a:r>
            <a:r>
              <a:rPr b="1" lang="ru-RU" sz="1600" spc="-1" strike="noStrike">
                <a:solidFill>
                  <a:srgbClr val="990000"/>
                </a:solidFill>
                <a:latin typeface="Arial Black"/>
              </a:rPr>
              <a:t>9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S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 Black"/>
              </a:rPr>
              <a:t>Бутилселеномеркаптан   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C</a:t>
            </a:r>
            <a:r>
              <a:rPr b="1" lang="ru-RU" sz="1600" spc="-1" strike="noStrike">
                <a:solidFill>
                  <a:srgbClr val="99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H</a:t>
            </a:r>
            <a:r>
              <a:rPr b="1" lang="ru-RU" sz="1600" spc="-1" strike="noStrike">
                <a:solidFill>
                  <a:srgbClr val="990000"/>
                </a:solidFill>
                <a:latin typeface="Arial Black"/>
              </a:rPr>
              <a:t>9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SeH</a:t>
            </a: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Их запахи напоминают комбинацию запахов гниющей капусты, чеснока, лука и нечистот одновремен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0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2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2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ые ядовит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Наиболее сильный нервный яд – газ </a:t>
            </a: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VX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, полученный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1952 году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(ортоэтиловый эфир </a:t>
            </a:r>
            <a:r>
              <a:rPr b="1" lang="en-US" sz="16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-2-диизопропиламиноэт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метилфосфонотиоловой кислоты)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, газ </a:t>
            </a:r>
            <a:r>
              <a:rPr b="1" lang="en-US" sz="2000" spc="-1" strike="noStrike">
                <a:solidFill>
                  <a:srgbClr val="990000"/>
                </a:solidFill>
                <a:latin typeface="Arial Black"/>
              </a:rPr>
              <a:t>VX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в 300 раз токсич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фосгена, его смертельная доза 0,3 м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Самое же ядовитое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всех синтезированных соединений – это </a:t>
            </a:r>
            <a:r>
              <a:rPr b="1" lang="en-US" sz="2000" spc="-1" strike="noStrike">
                <a:solidFill>
                  <a:srgbClr val="990000"/>
                </a:solidFill>
                <a:latin typeface="Arial Black"/>
              </a:rPr>
              <a:t>TCDD</a:t>
            </a: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(диок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который в 150000 раз токсичнее цианистого ка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Если рассматривать яды природного происхо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кристаллический </a:t>
            </a: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БОТУЛИН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оставит далеко позади диокс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поскольку он превосходит цианистый кал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в 100 миллионов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nodeType="clickEffect" fill="hold">
                      <p:stCondLst>
                        <p:cond delay="0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2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2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2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2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8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9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4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5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6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nodeType="afterEffect" fill="hold">
                            <p:stCondLst>
                              <p:cond delay="12680"/>
                            </p:stCondLst>
                            <p:childTnLst>
                              <p:par>
                                <p:cTn id="2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0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1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2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6" dur="8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8" dur="8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nodeType="after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2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2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3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4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2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8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9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0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nodeType="afterEffect" fill="hold">
                            <p:stCondLst>
                              <p:cond delay="19680"/>
                            </p:stCondLst>
                            <p:childTnLst>
                              <p:par>
                                <p:cTn id="2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4" dur="8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5" dur="8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6" dur="8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ое дорогое ве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ИНТЕРФЕРОН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 – гликопротеин. Обладает вид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пецифичностью. Вырабатывается в клетка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ответ на внедрение в них вирусов. У здор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человека его концентрация в плазме крови 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Но при вирусных заболеваниях концен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интерферона увеличивается. Одна милл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микрограмма чистого препарата стоит 10 долл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7" dur="indefinite" restart="never" nodeType="tmRoot">
          <p:childTnLst>
            <p:seq>
              <p:cTn id="2488" dur="indefinite" nodeType="mainSeq">
                <p:childTnLst>
                  <p:par>
                    <p:cTn id="2489" nodeType="clickEffect" fill="hold">
                      <p:stCondLst>
                        <p:cond delay="0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8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2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nodeType="afterEffect" fill="hold">
                            <p:stCondLst>
                              <p:cond delay="7620"/>
                            </p:stCondLst>
                            <p:childTnLst>
                              <p:par>
                                <p:cTn id="2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8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9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0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nodeType="afterEffect" fill="hold">
                            <p:stCondLst>
                              <p:cond delay="9260"/>
                            </p:stCondLst>
                            <p:childTnLst>
                              <p:par>
                                <p:cTn id="2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4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5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2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0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1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2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2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ое пахучее ве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Химическое соединение, чей з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человек может обнаружить в наимень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концентрации – </a:t>
            </a: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ВАНИ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Его присутствие в воздухе можно </a:t>
            </a:r>
            <a:r>
              <a:rPr b="0" lang="ru-RU" sz="800" spc="-1" strike="noStrike">
                <a:solidFill>
                  <a:srgbClr val="990000"/>
                </a:solidFill>
                <a:latin typeface="Comic Sans MS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почувствовать при концентрации 2·10 в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одиннадцатой степени грамма в одном ли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nodeType="clickEffect" fill="hold">
                      <p:stCondLst>
                        <p:cond delay="0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8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9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2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4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5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6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nodeType="afterEffect" fill="hold">
                            <p:stCondLst>
                              <p:cond delay="6340"/>
                            </p:stCondLst>
                            <p:childTnLst>
                              <p:par>
                                <p:cTn id="2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0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1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2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7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8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nodeType="afterEffect" fill="hold">
                            <p:stCondLst>
                              <p:cond delay="9020"/>
                            </p:stCondLst>
                            <p:childTnLst>
                              <p:par>
                                <p:cTn id="2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2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3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ая кисл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Из неорганических кислот са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«кислой» счит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 Black"/>
              </a:rPr>
              <a:t>ИОДОВОДОРОДНАЯ (</a:t>
            </a: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</a:t>
            </a:r>
            <a:r>
              <a:rPr b="0" lang="ru-RU" sz="3200" spc="-1" strike="noStrike">
                <a:solidFill>
                  <a:srgbClr val="990000"/>
                </a:solidFill>
                <a:latin typeface="Arial Black"/>
              </a:rPr>
              <a:t>).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Она  кислее уксу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в 10 квадриллионов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nodeType="clickEffect" fill="hold">
                      <p:stCondLst>
                        <p:cond delay="0"/>
                      </p:stCondLst>
                      <p:childTnLst>
                        <p:par>
                          <p:cTn id="2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2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nodeType="afterEffect" fill="hold">
                            <p:stCondLst>
                              <p:cond delay="5340"/>
                            </p:stCondLst>
                            <p:childTnLst>
                              <p:par>
                                <p:cTn id="2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2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2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3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4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Кисл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Литосфера на 46,6% со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з связанного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ислород описали независимо др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 друга англичанин Джозе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истли и швед Карл Вильгель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Шееле. Открыв  «огненный» возду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ни остались привержен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флагистонной теории. Поэто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крывшим кислород счит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авуазье. В 1777 году А. Лавуаз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бъяснил процесс дыхания и го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ак взаимодействия веществ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ислородом. Название элем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(оксигениум – рождающий кисло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ал Лавуаз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Кислород"/>
          <p:cNvPicPr/>
          <p:nvPr/>
        </p:nvPicPr>
        <p:blipFill>
          <a:blip r:embed="rId2"/>
          <a:stretch/>
        </p:blipFill>
        <p:spPr>
          <a:xfrm>
            <a:off x="304920" y="1600200"/>
            <a:ext cx="4092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ый сильный адсорб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Самый сильный адсорбент был получен в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году из производног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КРАХМ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АКРИЛАМИ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АКРИЛОВОЙ КИСЛ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Оно способно удерживать воду, масса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 1300 раз превосходит его собстве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nodeType="clickEffect" fill="hold">
                      <p:stCondLst>
                        <p:cond delay="0"/>
                      </p:stCondLst>
                      <p:childTnLst>
                        <p:par>
                          <p:cTn id="2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2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2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2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2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26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8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9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2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4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5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6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ое сладкое ве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амый известный пищевой заменитель сахара –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САХАРИН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в 50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лаще сахарозы. Чтобы почувствовать вкус раствора саха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остаточно всыпать в железнодорожную цистерну воды всего лож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этого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Белок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МОНЕЛИН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лаще сахара в 200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Белок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ТАУМАТИН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лаще сахарозы в 400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и взаимодействии этого белка с ионами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образуется комплекс –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ТАЛИН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, слаще сахарозы в 35 00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Еще один сладкий белок –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МИРАКУЛИН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наз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«чудодейственным»: у человека, пожевавшего плоды, содержащие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белок, изменяются вкусовые ощущения. Так, у уксуса по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иятный винный вкус, лимонный сок превращается в слад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напиток, причем эффект продолжается длитель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1_1171_46"/>
          <p:cNvPicPr/>
          <p:nvPr/>
        </p:nvPicPr>
        <p:blipFill>
          <a:blip r:embed="rId2"/>
          <a:stretch/>
        </p:blipFill>
        <p:spPr>
          <a:xfrm>
            <a:off x="2209680" y="4267080"/>
            <a:ext cx="3353040" cy="2413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191120" y="6400800"/>
            <a:ext cx="12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99"/>
                </a:solidFill>
                <a:latin typeface="Arial Black"/>
              </a:rPr>
              <a:t>Тауматококус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11" descr="6a4f018e80de"/>
          <p:cNvPicPr/>
          <p:nvPr/>
        </p:nvPicPr>
        <p:blipFill>
          <a:blip r:embed="rId3"/>
          <a:stretch/>
        </p:blipFill>
        <p:spPr>
          <a:xfrm>
            <a:off x="228600" y="426708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304920" y="4343400"/>
            <a:ext cx="190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99"/>
                </a:solidFill>
                <a:latin typeface="Arial"/>
              </a:rPr>
              <a:t>Диоскореофилум куммунсия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16" descr="miraclefruitworldpicture5"/>
          <p:cNvPicPr/>
          <p:nvPr/>
        </p:nvPicPr>
        <p:blipFill>
          <a:blip r:embed="rId4"/>
          <a:stretch/>
        </p:blipFill>
        <p:spPr>
          <a:xfrm>
            <a:off x="5715000" y="42670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7"/>
          <p:cNvSpPr/>
          <p:nvPr/>
        </p:nvSpPr>
        <p:spPr>
          <a:xfrm>
            <a:off x="7926480" y="6400800"/>
            <a:ext cx="95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99"/>
                </a:solidFill>
                <a:latin typeface="Arial"/>
              </a:rPr>
              <a:t>Синсепалум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677" dur="indefinite" restart="never" nodeType="tmRoot">
          <p:childTnLst>
            <p:seq>
              <p:cTn id="2678" dur="indefinite" nodeType="mainSeq">
                <p:childTnLst>
                  <p:par>
                    <p:cTn id="2679" nodeType="clickEffect" fill="hold">
                      <p:stCondLst>
                        <p:cond delay="0"/>
                      </p:stCondLst>
                      <p:childTnLst>
                        <p:par>
                          <p:cTn id="2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nodeType="afterEffect" fill="hold">
                            <p:stCondLst>
                              <p:cond delay="5020"/>
                            </p:stCondLst>
                            <p:childTnLst>
                              <p:par>
                                <p:cTn id="2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6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nodeType="afterEffect" fill="hold">
                            <p:stCondLst>
                              <p:cond delay="7180"/>
                            </p:stCondLst>
                            <p:childTnLst>
                              <p:par>
                                <p:cTn id="2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2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3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4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nodeType="afterEffect" fill="hold">
                            <p:stCondLst>
                              <p:cond delay="9420"/>
                            </p:stCondLst>
                            <p:childTnLst>
                              <p:par>
                                <p:cTn id="2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0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0020"/>
                            </p:stCondLst>
                            <p:childTnLst>
                              <p:par>
                                <p:cTn id="2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2020"/>
                            </p:stCondLst>
                            <p:childTnLst>
                              <p:par>
                                <p:cTn id="2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4020"/>
                            </p:stCondLst>
                            <p:childTnLst>
                              <p:par>
                                <p:cTn id="2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3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9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0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1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2" fill="hold">
                            <p:stCondLst>
                              <p:cond delay="1440"/>
                            </p:stCondLst>
                            <p:childTnLst>
                              <p:par>
                                <p:cTn id="27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5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6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7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8" fill="hold">
                            <p:stCondLst>
                              <p:cond delay="3160"/>
                            </p:stCondLst>
                            <p:childTnLst>
                              <p:par>
                                <p:cTn id="27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1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2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3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120"/>
                            </p:stCondLst>
                            <p:childTnLst>
                              <p:par>
                                <p:cTn id="2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7120"/>
                            </p:stCondLst>
                            <p:childTnLst>
                              <p:par>
                                <p:cTn id="2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6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7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8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1480"/>
                            </p:stCondLst>
                            <p:childTnLst>
                              <p:par>
                                <p:cTn id="2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2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3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4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3880"/>
                            </p:stCondLst>
                            <p:childTnLst>
                              <p:par>
                                <p:cTn id="2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9" dur="8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0" dur="8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4" dur="8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5" dur="8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6" dur="8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8119"/>
                            </p:stCondLst>
                            <p:childTnLst>
                              <p:par>
                                <p:cTn id="2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0" dur="8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1" dur="8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2" dur="8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10040"/>
                            </p:stCondLst>
                            <p:childTnLst>
                              <p:par>
                                <p:cTn id="2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12040"/>
                            </p:stCondLst>
                            <p:childTnLst>
                              <p:par>
                                <p:cTn id="2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амый большой мыльный пуз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В заключении – один забавный рекорд, поставленный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рямом участии химии. Самый большой мыльный пузырь им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объем 113 литров и диаметр 61 см. Он был выдут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сохранности внутри стеклянного 200-литрового балл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«Строительным материалом» для него послужила см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следующего соста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ГЛИЦЕРИН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– 4 части;</a:t>
            </a: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5% РАСТВОР ДИБРОМСТЕАРАТА НАТРИЯ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– 2 ч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5% РАСТВОР ПОЛИВИНИЛОВОГО СПИРТА 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– 1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Прожил пузырь два года; за это время он постоянно уменьша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в объеме и, наконец, превратился в мыльную пл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nodeType="clickEffect" fill="hold">
                      <p:stCondLst>
                        <p:cond delay="0"/>
                      </p:stCondLst>
                      <p:childTnLst>
                        <p:par>
                          <p:cTn id="2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2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6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7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2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2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3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4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nodeType="clickEffect" fill="hold">
                      <p:stCondLst>
                        <p:cond delay="indefinite"/>
                      </p:stCondLst>
                      <p:childTnLst>
                        <p:par>
                          <p:cTn id="2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28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5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6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7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8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1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2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3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28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7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8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8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3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2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6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Азо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тмосфера на 78% со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з газообразного аз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лово «азот», было предложено в 18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Французским химиком Лавуазь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меет греческое происхож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«Азот» означает «безжизненны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зот не поддерживает горени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ыхания. На долю азота приход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коло3% от массы челове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ла. Соединения азота име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ромадное значение для наук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ногих отрасле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ля человечества 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лезна относительная инер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зота. Если бы азот был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ктивен, атмосфера была бы друг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Азот"/>
          <p:cNvPicPr/>
          <p:nvPr/>
        </p:nvPicPr>
        <p:blipFill>
          <a:blip r:embed="rId2"/>
          <a:stretch/>
        </p:blipFill>
        <p:spPr>
          <a:xfrm>
            <a:off x="304920" y="1600200"/>
            <a:ext cx="39718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Вод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селенная на 90% со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з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 1766 году Генри Кавендиш соб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ытесненный металлами из кис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«горючий газ». А 15 лет спуст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оказали, что он входит в состав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 дали ему название «гидрогени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ождающий воду. Солнечная 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точник жизни на Земле. А о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той энергии – термоядер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 Солнце. Результат ее –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 4 ядер водорода – ядра гели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вух позитронов. При -253С вод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тановится жидким, а при -256С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верд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Водород"/>
          <p:cNvPicPr/>
          <p:nvPr/>
        </p:nvPicPr>
        <p:blipFill>
          <a:blip r:embed="rId2"/>
          <a:stretch/>
        </p:blipFill>
        <p:spPr>
          <a:xfrm>
            <a:off x="304920" y="1600200"/>
            <a:ext cx="39718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Аст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 литосфере его содерж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всего лишь 0,16 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Был синтезирован в 1940 году. В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отопы астата неустойчи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сюда и название элемента (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реческого «астатос» - неустойчив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мпература плавления – 244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температура кипения – 309С.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хож на иод и обнаружи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ходство с полонием. Практ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рименение астата пока огранич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лишь сравнительно узкой обла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иохимических исслед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Астат"/>
          <p:cNvPicPr/>
          <p:nvPr/>
        </p:nvPicPr>
        <p:blipFill>
          <a:blip r:embed="rId2"/>
          <a:stretch/>
        </p:blipFill>
        <p:spPr>
          <a:xfrm>
            <a:off x="380880" y="16002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Радон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</a:rPr>
              <a:t>Самый тяжелый из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</a:rPr>
              <a:t>(10,05 г/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он – единственный газообраз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адиоактивный химический эле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бнаружен в 1899 г. английск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учеными Э. Резерфорд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.Оуэнсом. Радон – элемент оч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редкий. Чаще всего встречается т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где много радиоактивных руд.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ктивнее других инертных газов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аналогов. На практике примен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довольно широко, прежде всего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зучения физико-хим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войств твердых тел и в медиц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(радоновые ва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Rn"/>
          <p:cNvPicPr/>
          <p:nvPr/>
        </p:nvPicPr>
        <p:blipFill>
          <a:blip r:embed="rId2"/>
          <a:stretch/>
        </p:blipFill>
        <p:spPr>
          <a:xfrm>
            <a:off x="457200" y="16002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Калифорни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</a:rPr>
              <a:t>Самый дорогой 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</a:rPr>
              <a:t>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тоимость одного мик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ставляет 10 долларов. Это  знач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то цена одного моля калифор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оставляет 250 миллиардов доллар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что в 10 раз дороже стоимости лу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кспедиции американ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осмического корабля «Аполлон 17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Впервые получен в 1950 году и наз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 месту открытия (штат Калифор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Это мягкий радиоактивный метал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еребристо-белого цвета. Исполь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как мощный источник нейтр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алифорний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Ксен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меет наибольше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изотопов (3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ереработав 77,4 млн.л воздуха Рамз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лучил 300мл ксенона. Хим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чень инертен и свое название получ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т греческого «ксенос», что означ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«гость», «чужой», «посторонний». Лег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поглощает рентгеновские лучи. Э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способность при полном от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ядовитости могла бы использоватьс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медицине для введения ксенон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рганизм при рентгенов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следованиях внутренних орг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Однако отсутствие его зап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исключает такую возм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сенон"/>
          <p:cNvPicPr/>
          <p:nvPr/>
        </p:nvPicPr>
        <p:blipFill>
          <a:blip r:embed="rId2"/>
          <a:stretch/>
        </p:blipFill>
        <p:spPr>
          <a:xfrm>
            <a:off x="304920" y="1600200"/>
            <a:ext cx="403992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0" descr="Ксенон"/>
          <p:cNvPicPr/>
          <p:nvPr/>
        </p:nvPicPr>
        <p:blipFill>
          <a:blip r:embed="rId3"/>
          <a:stretch/>
        </p:blipFill>
        <p:spPr>
          <a:xfrm>
            <a:off x="304920" y="1600200"/>
            <a:ext cx="4039920" cy="449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Ксенон"/>
          <p:cNvPicPr/>
          <p:nvPr/>
        </p:nvPicPr>
        <p:blipFill>
          <a:blip r:embed="rId4"/>
          <a:stretch/>
        </p:blipFill>
        <p:spPr>
          <a:xfrm>
            <a:off x="304920" y="1600200"/>
            <a:ext cx="40399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9-12-22T18:15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