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2C6-900D-435F-B28A-6CAC342A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AAB-28C8-482E-8176-FEAFB752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E5A-A6D8-458E-9829-366C4F4E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A0F-8666-4DFA-A8D9-82CB1B0E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A9E12-EE8F-42E1-9B49-48105C9A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F4D92-33B3-42B1-839A-04D9B5C7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66155-E010-4398-BA70-F90A74E1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B74D8-B985-4D01-9724-9472482D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1F01F-25C7-4EA9-96A2-641C15D8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8397C-9D8C-4CD5-B016-54468984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407EF-9FB9-4BD1-AC8A-D80C33DE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DCA-5FDA-4182-800E-4D936CB0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E1BBE-75EE-4698-A8D1-EBDA2CE7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6FA58-37C6-4D0B-AFAC-C82AC30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E69CB-1598-4601-9510-9B7AFFBB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A68EB-167B-456C-962B-18FFBDC2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12965-2786-4E4D-AFF4-9CDF42DC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9DB-7E91-4ECC-84BA-F55D76EF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6B0-4C9B-4D76-9868-96E7A656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169-F2DD-473C-9BA7-C8636EB3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4DE-9A87-42EC-AFED-7A5853EF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76E-67BA-4BFF-A923-544DD047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BE9-A1A3-4053-A2F9-37EED121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638-404A-4F33-B899-23A5C6F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1870-8A20-4E80-A8E0-EBD3B3119A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7B94-2D73-4BC5-9BD9-ED4C7A9BEF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1447920"/>
            <a:ext cx="61563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3e3ff"/>
                </a:solidFill>
                <a:latin typeface="Arial"/>
              </a:rPr>
              <a:t>М.Ю.Лермонтов</a:t>
            </a:r>
            <a:br>
              <a:rPr sz="5400"/>
            </a:br>
            <a:r>
              <a:rPr b="1" i="1" lang="ru-RU" sz="5400" spc="-1" strike="noStrike">
                <a:solidFill>
                  <a:srgbClr val="e3e3ff"/>
                </a:solidFill>
                <a:latin typeface="Arial"/>
              </a:rPr>
              <a:t>1814-184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356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лири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6156360" y="44280"/>
            <a:ext cx="29336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600200"/>
            <a:ext cx="892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ЧЕМУ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ирический герой Лермонтова так одинок в целом мире, во вселенной? так душевно опустошен? находится в таком отчая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МИРЕ ЛЮДЕЙ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НЕТ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ТОЙ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ГАРМОНИ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КОТОРАЯ ЦАРИТ В ПРИРОДЕ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ирический герой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динок среди люд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ступает в непримиримый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конфликт с бездушным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ществом,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лишенным способности к искренним  чувствам, переживани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росает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зов бездуховности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«О, как мне хочется смутить веселость их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И дерзко бросить им в глаза железный стих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Облитый горечью и злостью!..»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страя тол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дикий шепот затверженных реч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бразы бездушные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риличьем стянутые ма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давно бестрепетные р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блеск и су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ирический гер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аскаю в душе старинную меч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ечу я вольной, вольной птиц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ранная тоска теснит гру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плачу и люб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амять ж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Тема родины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Жалобы турка» (1829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Я видел тень блаженства…» (1831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Бородино» (1837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Дума» (1838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Прощай, немытая Россия» (1841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Родина» (1841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3e3ff"/>
                </a:solidFill>
                <a:latin typeface="Arial"/>
              </a:rPr>
              <a:t>«Друг! Этот край… моя отчизна!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урция – агрессивное, воинственное, деспотическое государст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«Жалобы турка»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(1829г.) – в 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АЛЛЕГОРИЧЕСКОЙ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орме отразилось 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отношение М.Ю.Лермонтова к русской политической системе и крепостному пра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3e3ff"/>
                </a:solidFill>
                <a:latin typeface="Arial"/>
              </a:rPr>
              <a:t>«Я родину люблю и больше многих…» </a:t>
            </a:r>
            <a:r>
              <a:rPr b="0" i="1" lang="ru-RU" sz="2400" spc="-1" strike="noStrike">
                <a:solidFill>
                  <a:srgbClr val="e3e3ff"/>
                </a:solidFill>
                <a:latin typeface="Arial"/>
              </a:rPr>
              <a:t>(«Я видел тень блаженства…» 1831г.)</a:t>
            </a:r>
            <a:r>
              <a:rPr b="1" i="1" lang="ru-RU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вук ее речей…отголосок ра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уша смотрит из живых оче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них смотрю я, чуть дыш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ля мученья моего она, как ангел казни, богом создан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 пою о ней одно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се, что чуждо ей, то чуждо мн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3e3ff"/>
                </a:solidFill>
                <a:latin typeface="Arial"/>
              </a:rPr>
              <a:t>«Недаром помнит вся Россия про день Бородина!» (1837г.)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тклик на события 1812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Диалог поколения поэта с поколением отцов, участников вой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ШЛОЕ противопоставлено НАСТОЯЩЕ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«БОРОДИНО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коление отц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огучее, лихое пле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ыли…схватки боевы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ж постоим мы головою за родину свою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сква …за нами? Умремте ж под Моск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мереть…обещали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лятву верности сдержа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то значит русский бой удалый, наш рукопашный бо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овременники поэ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богатыри – не вы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3e3ff"/>
                </a:solidFill>
                <a:latin typeface="Arial"/>
              </a:rPr>
              <a:t>«Печально я гляжу на наше поколенье…»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стоящ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ечаль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жизнь том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овный путь без 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 добру и злу постыдно равнодуш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янем без борь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ред опасностью позорно-малодуш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 властию – презренные ра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сушили 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навидим …любим… случай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душе холод тай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рядущ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усто… тем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ше поколенье…в бездействии состар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 гробу спешим без счастья и без сл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д миром мы пройдем без шума и сл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«Прощай, немытая Россия…» (1841г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нависть к «стране рабов, стране господ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К рабски преданному своим угнетателям народ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К «мундирам голубым»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офицеры корпуса жандармов носили форму голубого цве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11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н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споведалс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в своих стихах невольно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А.С.Пушкин о Байрон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…Ты слушать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исповед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мою</a:t>
            </a:r>
            <a:br>
              <a:rPr sz="18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юда пришел, благодарю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се лучше перед кем-нибудь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ловами облегчить мне грудь;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 людям я не делал зла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потому мои дела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ного пользы вам узнать,—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А душу можно ль рассказа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?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М.Ю.Лермонтов «Мцыри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4356000" y="486900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Исповедь – 1. Церковное - покаяние в своих грехах перед священником; обряд отпущения священником грехов после опроса кающего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2. Книжное: искреннее и полное признание в чем-нибудь, покаянное, откровенное изложение чего-нибуд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3e3ff"/>
                </a:solidFill>
                <a:latin typeface="Arial"/>
              </a:rPr>
              <a:t>«Люблю Отчизну я, но странною любовью…» («Родина» 1841г.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За что любят обычн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 героическое прошлое («слава, купленная кровью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 гениальных соотечествен-ников («старины заветные предань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Что любит гер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епей холодное молчан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есов безбрежных колыхан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зливы рек, подобные мор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рожащие огни печальных дере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ымок спаленной жни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тепи ночующий обо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ету белеющих бере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О назначении поэта и поэз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1831-го июня 11 дн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Смерть поэта» (1837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Поэт» (1838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Есть речи – значенье…» (1839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Пророк» (1841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-30240" y="0"/>
            <a:ext cx="892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1831-го июня 11 дн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печ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го встревожит, он посмотрит вдал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видит облака с лазурью вол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белый парус, и бегучий чёл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мой курган!— любимые меч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ои подобны этим. Сладость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 всем, что не сбылось,— есть крас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таких картинах; только перен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х на бумагу трудно: мысль силь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гда размером слов не стесне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гда свободна, как игра дет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арфы звук в молчании ноче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«Смерть поэта» (1837г.)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600200"/>
            <a:ext cx="903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сстал он против мнений света один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вободный, смелый дар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ступил он в этот свет, завистливый и душный для сердца вольного и пламенных страсте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мер он — с напрасной жаждой мщень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 досадой тайною обманутых надежд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«Поэт» (1838г.)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1125000"/>
            <a:ext cx="9156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наш век изнеженный не так ли ты, поэ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ое утратил назначень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 злато променяв ту власть, которой св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нимал в немом благоговенье?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снешься ль ты опять, осмеянный проро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ль никогда, на голос мщень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 золотых ножон не вырвешь свой клино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крытый ржавчиной презренья?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22824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3e3ff"/>
                </a:solidFill>
                <a:latin typeface="Arial"/>
              </a:rPr>
              <a:t>«Есть речи – значенье темно иль ничтожно…» (1839г.)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м без волненья внимать невозмож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лны их звуки безумством желань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 пламя и света рожденное слов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 кончив молитвы, на звук тот отвечу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3e3ff"/>
                </a:solidFill>
                <a:latin typeface="Arial"/>
              </a:rPr>
              <a:t>«Пророк» (1841г.)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640" y="549360"/>
            <a:ext cx="89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очах людей читаю 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раницы злобы и порок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возглашать я стал люб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правды чистые учень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меня все ближние мо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росали бешено камень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мотрите: вот пример для вас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н горд был, не ужился с н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лупец, хотел уверить на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 бог гласит его устам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мотрите ж, дети, на нег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он угрюм, и худ, и бледен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мотрите, как он наг и беде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презирают все его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 чем может обрести счастье челове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чему лирический герой Лермонтова так и не находит в этой жизни счасть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чему так разочарован в жизни и в себ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разделенная любо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возможность быть с теми, кого люби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понимание, неприятие тебя другими людь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прочность человеческих взаимоотно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торванность от родного дома – род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3e3ff"/>
                </a:solidFill>
                <a:latin typeface="Arial"/>
              </a:rPr>
              <a:t>«Воздушный корабль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чему М.Ю.Лермонтов обращается к образу Наполео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Чем привлекает его эта личнос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рагический или героический образ рисует поэ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08000" y="189000"/>
            <a:ext cx="90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т, я не Байрон, я друг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ще неведомый избран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к он, гонимый миром стран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 только с русскою душ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 раньше начал, кончу ран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й ум немного соверш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душе моей, как в океан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дежд разбитых груз леж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то может, океан угрюм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вои изведать тайны? К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олпе мои расскажет дум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 - или бог - или никт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.Ю.Лермонтов, 183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Любовная лири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Расстались мы, но твой портрет…» (1837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Как небеса твой взор блистает…» (1838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Отчего» (1840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Нет, не тебя так пылко я люблю…» (1841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Творче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ково лирическому герою М.Ю.Лермонтова в этом мире? Что его радует, восхищает? Чем он гордится? Что его раздражает, тревожит, угнетает? В чём он, возможно,  находит примирение, утешение, спас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язательно в ответе использовать цитатный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40464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я душа…с детских лет чудесного искал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ыл страстей возвышенных я чувствую, но слов не нахожу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звестность, слава, что они? – а есть у них над мною власть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я влачу мучительные дни без цели, оклеветан, одинок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Хочу любить, - и небеса молю о новых муках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икто не дорожит мной на земле, и сам себе я в тягость, как другим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Я холоден и горд; и даже злым толпе кажус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рядущее тревожит грудь мою. Как жизнь я кончу, где душа моя блуждать осуждена…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Я вижу, что любить, как я, порок, и вижу, я слабей любить не мог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юбить необходимость мне; и я любил всем напряжением душевных сил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отучить не мог меня обман; пустое сердце ныло без страстей, и в глубине моих сердечных ран жила любовь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-360" y="0"/>
            <a:ext cx="932508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д ношей бытия не устает и не хладеет гордая душа; судьба ее так скоро не убьет, а лишь взбунтуе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 такой душой ты бог или злоде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нравились всегда пустыни мне. Люблю я ветер меж нагих холмов, и коршуна в небесной вышине, и на равни-не тени облако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 на земле прекрасней пирамид природы, этих снежных гор?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к жизнь скучна, когда боренья не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не нужно действовать, я каждый день бессмертным сделать бы желал…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нять я не могу, что значит отдых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гда кипит и зреет что-нибудь в моем уме. Желанье и тоска тревожат беспрестанно эту груд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не жизнь все как-то коротка и все боюсь, что не успею я свершить чего-то! – жажда бытия во мне сильней страданий роковых, хотя я презираю жизнь друг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0" y="228600"/>
            <a:ext cx="89280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Жизнь ненавистна, но и смерть страшна. Находишь корень мук в себе самом, и небо обвинить нельзя ни в че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ишь в человеке встретиться могло священное с порочным. Все его мученья происходят оттог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предузнал мой жребий, мой конец, и грусти ранняя на мне печать; и как я мучусь, знает лишь творец; но равнодушный мир не должен зн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ровавая меня могила ждет, могила без молитв и без креста, на диком берегу ревущих вод и под туманным небом; пустота круго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чего не понял свет великого, и как он не нашел себе друзей, и как любви привет к нему надежду снова не привел? Он был ее достоин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«1831-го ИЮНЯ 11 ДН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9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Тема одиноче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Как часто пестрою толпою окружен…» (1840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И скучно и грустно…» (1840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Воздушный корабль» (1840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Утес» (1841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На севере диком…» (1841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Листок» (1841г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Выхожу один я на дорогу…» (1841г.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480" y="2520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3e3ff"/>
                </a:solidFill>
                <a:latin typeface="Arial"/>
              </a:rPr>
              <a:t>Выпишите из стихотворений 1840-41гг. созвучные по настроению и мысли строки. Что является главным, определяющим в творчестве М.Лермонтова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3160" y="1371600"/>
            <a:ext cx="9123120" cy="67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…Так царства дивного всесильный господин 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долгие часы просиживал один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…стоит одиноко сосна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…одна и грустна…одинокая пальма расте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…одиноко он стоит…и тихонько плачет…в пустын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Дубовый листок оторвался от ветки родимой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…приюта он просит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…до срока созрел я и вырос в отчизне суровой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…один и без цели по свету ношуся давно я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Выхожу один я на дорогу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И скучно и грустно, и некому руку под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минуту душевной невзгоды..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Чем может быть вызвано чувство одиночества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разделенная люб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возможность быть с теми, кого любиш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понимание другими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прочность человеческих взаимоотно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удовлетворенность политической обстанов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орванность от родного дома – род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приятие общества – бездушного царства мас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зочарованность в себе и в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ушевная опустош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8:28:21Z</dcterms:created>
  <dc:creator>usertest1</dc:creator>
  <dc:description/>
  <dc:language>en-US</dc:language>
  <cp:lastModifiedBy>Alfat Mukhametshin</cp:lastModifiedBy>
  <dcterms:modified xsi:type="dcterms:W3CDTF">2019-12-24T21:14:48Z</dcterms:modified>
  <cp:revision>101</cp:revision>
  <dc:subject/>
  <dc:title>Лирика М.Ю.Лермонтова</dc:title>
</cp:coreProperties>
</file>