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9E1-774C-42BE-979D-4C6C9C2D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239-4EDD-4ABB-8644-E26023B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E59-D473-4291-8F6F-426E740F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2A4-4A70-4388-9E45-1DD726DB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C4C5-AD96-42EB-B570-0AFFD728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7DDE-1150-451C-B240-6E28098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C8DD-4187-4624-A0BE-DBE2748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C99B-C177-45B7-83B5-343A74EC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447-B298-4360-AA73-C8285F66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79F-5DCB-46FC-9E9C-9B66AC4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65DE-E1F4-4FE6-95DB-C0083D4A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7FC-A23F-4C1B-B2CC-E7F7E47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5C1C-A601-45E7-93D8-2895378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E92-8200-4E75-8E53-E2B2351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463-C093-462A-A1BC-E8055F5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AA9D-C838-40F1-98F2-94F8012D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C423-606F-4A44-86E0-193C9464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08E-8A47-4E5B-9912-0FE048E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360-9708-4094-A2D5-964885F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10F-E3EC-425B-A1F4-3BC3E63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9F0-C31C-406C-A627-1FDE8A4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1A4-B023-4069-AB18-B166CB7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357-995B-4A77-9EA2-B810DC0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44C-2753-48B4-9D97-F8424F7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F96-38F2-4E3C-A067-A74BDBF6E1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5CF0-0FDB-4EAE-8451-E546DE9B6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абота с учащимися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изкого уровня  обученности в школе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65908117_2368a002cf76b0369ec367bdd3ac1167bigscale"/>
          <p:cNvPicPr/>
          <p:nvPr/>
        </p:nvPicPr>
        <p:blipFill>
          <a:blip r:embed="rId1"/>
          <a:stretch/>
        </p:blipFill>
        <p:spPr>
          <a:xfrm>
            <a:off x="1295280" y="1600200"/>
            <a:ext cx="556272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14400" y="304920"/>
            <a:ext cx="7162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 можно больше уважения к челове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как можно больше требовательности к н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.С.Макарен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особы выявления учащихся с низким уровнем обучен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казатели низкого уровня обучен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P900430493"/>
          <p:cNvPicPr/>
          <p:nvPr/>
        </p:nvPicPr>
        <p:blipFill>
          <a:blip r:embed="rId1"/>
          <a:stretch/>
        </p:blipFill>
        <p:spPr>
          <a:xfrm>
            <a:off x="2514600" y="320040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Times New Roman"/>
              </a:rPr>
              <a:t>Трудности в учен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ленное вхождение в рабочее состояни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вышенная утомляемос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зкая концентрация внимани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рушение дисциплины, нежелание учитьс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35379"/>
                </a:solidFill>
                <a:latin typeface="Times New Roman"/>
              </a:rPr>
              <a:t>Причины неуспеваем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еумении учителя эти особенности учитыв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рушении учителем принципов индивидуального подход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и и посильности обуч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едостатках учебно-воспитательной работы, проводимой с ни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5379"/>
                </a:solidFill>
                <a:latin typeface="Times New Roman"/>
              </a:rPr>
              <a:t>Взаимосвязь типичных трудностей в обуч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исьменных работах пропускает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азвитость орфографической зор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удно понимает объяснение с первого раз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ая грязь в тетр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о списывает с доски, с тек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ытывает трудности при чт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усидчи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внимателен и рассея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ытывает затруднения при пересказывании тек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ытывает трудности при решении математических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хое знание таблицы сложения (умнож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35379"/>
                </a:solidFill>
                <a:uFillTx/>
                <a:latin typeface="Times New Roman"/>
              </a:rPr>
              <a:t>Внутренние</a:t>
            </a:r>
            <a:r>
              <a:rPr b="1" i="1" lang="ru-RU" sz="4000" spc="-1" strike="noStrike">
                <a:solidFill>
                  <a:srgbClr val="53537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35379"/>
                </a:solidFill>
                <a:latin typeface="Times New Roman"/>
              </a:rPr>
              <a:t>по отношению к школьни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достатки биологического разви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достатки психического развития лич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достатки воспитанности лич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535379"/>
                </a:solidFill>
                <a:uFillTx/>
                <a:latin typeface="Times New Roman"/>
              </a:rPr>
              <a:t>Внешние </a:t>
            </a:r>
            <a:br>
              <a:rPr sz="4000"/>
            </a:br>
            <a:r>
              <a:rPr b="1" i="1" lang="ru-RU" sz="4000" spc="-1" strike="noStrike">
                <a:solidFill>
                  <a:srgbClr val="535379"/>
                </a:solidFill>
                <a:latin typeface="Times New Roman"/>
              </a:rPr>
              <a:t>по отношению к школьни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достатки образования лич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достатки опыта влияния школ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достатки влияния внешкольной сре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35379"/>
                </a:solidFill>
                <a:latin typeface="Times New Roman"/>
              </a:rPr>
              <a:t>Основные</a:t>
            </a: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535379"/>
                </a:solidFill>
                <a:latin typeface="Times New Roman"/>
              </a:rPr>
              <a:t>способы выявления учащихся с низким уровнем обучен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людения за реакцией учащихся на трудности в работе, на успехи и неудач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просы учителя и его требования сформулировать то или иное положени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учающие самостоятельные работы в класс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а для работы с деть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ого уровня обучен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Фамилия, имя ученика_________________________________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ласс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о каким предметам испытывает затруднения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оведение ученика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Причины, которые привели к отставанию по предмету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акие средства (дидактические, воспитательные, учебные, внеклассные, дополнительные занятия) используются в работе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то привлечён к работе по преодолению затруднений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 Сколько времени уже длится эта работа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 Какие изменения наблюдаются ____________________________________________________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Результаты работы 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45Z</dcterms:created>
  <dc:creator/>
  <dc:description/>
  <dc:language>en-US</dc:language>
  <cp:lastModifiedBy>Admin</cp:lastModifiedBy>
  <dcterms:modified xsi:type="dcterms:W3CDTF">2015-02-16T10:43:23Z</dcterms:modified>
  <cp:revision>14</cp:revision>
  <dc:subject/>
  <dc:title>Math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50</vt:lpwstr>
  </property>
  <property fmtid="{D5CDD505-2E9C-101B-9397-08002B2CF9AE}" pid="7" name="AssetType">
    <vt:lpwstr>TP</vt:lpwstr>
  </property>
  <property fmtid="{D5CDD505-2E9C-101B-9397-08002B2CF9AE}" pid="8" name="AuthoringAssetId">
    <vt:lpwstr>TP00106905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Math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Math design template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rustLevel">
    <vt:lpwstr>Microsoft Managed Content</vt:lpwstr>
  </property>
  <property fmtid="{D5CDD505-2E9C-101B-9397-08002B2CF9AE}" pid="36" name="UACurrentWords">
    <vt:lpwstr>0</vt:lpwstr>
  </property>
  <property fmtid="{D5CDD505-2E9C-101B-9397-08002B2CF9AE}" pid="37" name="UALocComments">
    <vt:lpwstr/>
  </property>
  <property fmtid="{D5CDD505-2E9C-101B-9397-08002B2CF9AE}" pid="38" name="UALocRecommendation">
    <vt:lpwstr>Localize</vt:lpwstr>
  </property>
  <property fmtid="{D5CDD505-2E9C-101B-9397-08002B2CF9AE}" pid="39" name="UANotes">
    <vt:lpwstr>LEGACY PPTDT. 421488L. June 2003 retrofit. SEO Pilot 2008</vt:lpwstr>
  </property>
  <property fmtid="{D5CDD505-2E9C-101B-9397-08002B2CF9AE}" pid="40" name="Version">
    <vt:r8>1</vt:r8>
  </property>
  <property fmtid="{D5CDD505-2E9C-101B-9397-08002B2CF9AE}" pid="41" name="display_urn:schemas-microsoft-com:office:office#APAuthor">
    <vt:lpwstr>REDMOND\cynvey</vt:lpwstr>
  </property>
  <property fmtid="{D5CDD505-2E9C-101B-9397-08002B2CF9AE}" pid="42" name="display_urn:schemas-microsoft-com:office:office#APEditor">
    <vt:lpwstr>REDMOND\v-luannv</vt:lpwstr>
  </property>
</Properties>
</file>