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5BD-42D4-4C51-9C79-F88B0D8E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1B5-05D6-4AA8-9CD8-B274A82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93D-30F7-463F-983B-883D2882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325-9417-4EE4-9315-D8C95DFE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979-5180-4C00-845D-3A9CCFB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C58-73F3-4BA4-817D-6B64AF2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C0E-200A-47E1-993B-36B6C75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8BC-40A2-4A37-AC24-71558E77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2A5-4F4B-4B28-B6E0-FEF2C96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9D-70A6-4F06-85FE-1A95667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509-E0F0-4CDF-969A-2184304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1AB-C869-4733-A51F-C2A25AA6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DA2-5A2C-479B-81DC-768A784E1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6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BS00809_"/>
          <p:cNvPicPr/>
          <p:nvPr/>
        </p:nvPicPr>
        <p:blipFill>
          <a:blip r:embed="rId1"/>
          <a:stretch/>
        </p:blipFill>
        <p:spPr>
          <a:xfrm>
            <a:off x="0" y="2514600"/>
            <a:ext cx="273528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ему некоторые имена существительные могут быть как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го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ода?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ни называются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02" descr="IMG31"/>
          <p:cNvPicPr/>
          <p:nvPr/>
        </p:nvPicPr>
        <p:blipFill>
          <a:blip r:embed="rId1"/>
          <a:stretch/>
        </p:blipFill>
        <p:spPr>
          <a:xfrm>
            <a:off x="3581280" y="4191120"/>
            <a:ext cx="181152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т подходит к детво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тевает дра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се боятся во дв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ак___ забия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т подходит к детво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тевает дра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се боятся во дв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Такого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забия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т подходит к детво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тевает дра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се боятся во дв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Такую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забия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усском языке есть имена существительные с окончанием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а (-я) в единственном числ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которые относятся к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му род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сли обозначают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 мужского пол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и к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му род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сли обозначают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 женского пола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е имена существительные называютс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ИТЕЛЬНЫМИ ОБЩЕГО Р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мена существительные общего 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 урока: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знакомить учащихся с понятием «общий род» у имён существительных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умение находить существительные общего рода в предложении, тексте;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умения употреблять в речи существительные общего род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сферу употребления существительных общего р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опиши окончание прилагательных и местоиме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брат Витя – настоящ_ забия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ёнка  Оля – всем известн_ тихон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… маленьк… непоседа не мог усидеть покойно ни минут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002"/>
          <p:cNvPicPr/>
          <p:nvPr/>
        </p:nvPicPr>
        <p:blipFill>
          <a:blip r:embed="rId3"/>
          <a:stretch/>
        </p:blipFill>
        <p:spPr>
          <a:xfrm>
            <a:off x="6400800" y="5722920"/>
            <a:ext cx="274320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опиши окончание прилагательных и местоиме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брат Витя – настоящий забия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ёнка  Оля – всем известная тихон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т маленький непоседа не мог усидеть спокойно ни минут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002"/>
          <p:cNvPicPr/>
          <p:nvPr/>
        </p:nvPicPr>
        <p:blipFill>
          <a:blip r:embed="rId3"/>
          <a:stretch/>
        </p:blipFill>
        <p:spPr>
          <a:xfrm>
            <a:off x="6370560" y="5710320"/>
            <a:ext cx="2773440" cy="114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пражнение 229, стр.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од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по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мужской             жен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95120" y="2819520"/>
            <a:ext cx="1752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81952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76520" y="304920"/>
            <a:ext cx="532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я существительно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стомел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(пустослов) тот, кто болтает взд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бе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1)мелкий донос, клевета;2)то же, что ябедни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хо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ихий, смирный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любящий много спать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кс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от, кто много и часто плач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жеб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лентяй, бездельни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сед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чень подвижный, беспокойный, суетливый ребёно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ия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от, кто любит затевать драки, ссо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ях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еряшливый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лору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от или та, кто боится трудной, груб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C:\Documents and Settings\Лариса\Мои документы\Мои рисунки\Изображение 1\Изображение 1 009.jpg"/>
          <p:cNvPicPr/>
          <p:nvPr/>
        </p:nvPicPr>
        <p:blipFill>
          <a:blip r:embed="rId1"/>
          <a:stretch/>
        </p:blipFill>
        <p:spPr>
          <a:xfrm>
            <a:off x="7772400" y="4343400"/>
            <a:ext cx="106668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C:\Documents and Settings\Лариса\Мои документы\Мои рисунки\Изображение 1\Изображение 1 006.jpg"/>
          <p:cNvPicPr/>
          <p:nvPr/>
        </p:nvPicPr>
        <p:blipFill>
          <a:blip r:embed="rId3"/>
          <a:stretch/>
        </p:blipFill>
        <p:spPr>
          <a:xfrm>
            <a:off x="6629400" y="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mile31"/>
          <p:cNvPicPr/>
          <p:nvPr/>
        </p:nvPicPr>
        <p:blipFill>
          <a:blip r:embed="rId4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nap ITC"/>
              </a:rPr>
              <a:t>Неве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Snap ITC"/>
              </a:rPr>
              <a:t>ж</a:t>
            </a:r>
            <a:r>
              <a:rPr b="1" lang="ru-RU" sz="4000" spc="-1" strike="noStrike">
                <a:solidFill>
                  <a:srgbClr val="ffffff"/>
                </a:solidFill>
                <a:latin typeface="Snap ITC"/>
              </a:rPr>
              <a:t>а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рубый</a:t>
            </a:r>
            <a:r>
              <a:rPr b="1" lang="ru-RU" sz="4000" spc="-1" strike="noStrike">
                <a:solidFill>
                  <a:srgbClr val="ffffff"/>
                </a:solidFill>
                <a:latin typeface="Snap ITC"/>
              </a:rPr>
              <a:t>, невоспитанный челов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nap ITC"/>
              </a:rPr>
              <a:t>Неве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Snap ITC"/>
              </a:rPr>
              <a:t>жд</a:t>
            </a:r>
            <a:r>
              <a:rPr b="1" lang="ru-RU" sz="4000" spc="-1" strike="noStrike">
                <a:solidFill>
                  <a:srgbClr val="ffffff"/>
                </a:solidFill>
                <a:latin typeface="Snap ITC"/>
              </a:rPr>
              <a:t>а – безграмотный, необразованный челов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екс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Snap ITC"/>
              </a:rPr>
              <a:t>Запишите слова в два столбика: с положительной характеристикой и с отрицательной характеристикой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мница, сластена, тихоня, выскочка, задира, капризуля, ломака, неряха, невежа, невежда, забияка, симпатяга, работяга, трудя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екс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мница                                           Выск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стена                                         Зади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хоня                                             Капризу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мпатяга                                      Неря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ботяга                                         Неве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яга                                           Нев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бия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знилки и корилки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лакса, вакса, гуталин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носу горячий бл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лакать не годит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ожно простуд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знилки и корилки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дина-говядин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копейки даде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четвертую копей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бётся об скамей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знилки и корилки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 за шум, что за рё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ут не стадо ли кор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т, это не коровуш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Таня - рёв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хони, непоседы и задир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е руки, ноги ши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онитесь в сторон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ргайте глазк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рческо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писать сочинение – миниатюр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Характер моего друга»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употреблени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ительных общего рода по пл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положительные черты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рицательные черты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своё отно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6553080" y="4495680"/>
            <a:ext cx="2210040" cy="198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лова, обозначающие профе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ч, директор, хирург, биоло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го они ро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1800" y="1676520"/>
            <a:ext cx="8193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БСТВЕННЫЕ И НАРИЦАТЕЛЬНЫЕ;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а                      картошка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УШЕВЛЁННЫЕ И НЕОДУШЕВЛЁННЫЕ;</a:t>
            </a:r>
            <a:br>
              <a:rPr sz="28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корова                           стул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НОСЯТСЯ К ОДНОМУ ИЗ 3-Х РОДО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!!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Ж.Р.,                  М.Р.,                     С.Р.</a:t>
            </a:r>
            <a:br>
              <a:rPr sz="28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парта             кофе              шимпанз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оянные признаки имен существительны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ч Иванова выписала рецеп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ч Иванов назначил леч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69" descr="afficher_image564"/>
          <p:cNvPicPr/>
          <p:nvPr/>
        </p:nvPicPr>
        <p:blipFill>
          <a:blip r:embed="rId1"/>
          <a:stretch/>
        </p:blipFill>
        <p:spPr>
          <a:xfrm>
            <a:off x="8024760" y="2666880"/>
            <a:ext cx="1119240" cy="196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ог урок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ва тема уро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ществительные общего 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ового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ществительные общего рода могут бы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 род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если обозначаю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 пола,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могут быть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го род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обозначаю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а мужского пол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у научили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лись эти существительные употреблять в речи и правильно согласовывать их с прилагательными, местоимениями и глаголами в п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3" descr="Рисунок122"/>
          <p:cNvPicPr/>
          <p:nvPr/>
        </p:nvPicPr>
        <p:blipFill>
          <a:blip r:embed="rId1"/>
          <a:stretch/>
        </p:blipFill>
        <p:spPr>
          <a:xfrm>
            <a:off x="6823080" y="228600"/>
            <a:ext cx="2320920" cy="192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араграф  41 + т.-опрос;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пражнение № 230 (по заданию)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гвист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28600" y="10666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Задание: распределить имена существительные по родам в три столбика. Записать слова в именительном падеже, единственном чис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ещи, яблоки, хлеба, кольца, книги, пеналы, ружья, мячи, ум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гвист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28600" y="106668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Ж.Р.                  М.Р.              С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ещь                хлеб             ябл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нига               пенал           коль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Умница            мяч               ружьё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ниц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» – сказала мам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же ты за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сед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!» - воскликнула бабушк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у и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н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же ты!» – не выдержал папа.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ьчик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девочк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речь в предложениях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пределить к кому относятся эти слова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ком идёт реч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ниц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дочка!» – сказала мам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же ты з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сед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нучок!?» – воскликнула бабуш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рат, ну ты 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н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» – не выдержал папа.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вы можете определить о ком идёт речь в этих предложениях? Можно ли определить род этих существительных? 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ишите существительные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умница, непоседа, соня 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 определите род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Т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smile31"/>
          <p:cNvPicPr/>
          <p:nvPr/>
        </p:nvPicPr>
        <p:blipFill>
          <a:blip r:embed="rId1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мниц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, сынок!» – сказала мам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Что же ты за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епосед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, внученька?!» – воскликнула бабушк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Сестра, ну ты и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он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!» - не выдержал папа.</a:t>
            </a:r>
            <a:br>
              <a:rPr sz="4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пишите те же существительные и определите род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так можно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k"/>
          <p:cNvPicPr/>
          <p:nvPr/>
        </p:nvPicPr>
        <p:blipFill>
          <a:blip r:embed="rId1"/>
          <a:stretch/>
        </p:blipFill>
        <p:spPr>
          <a:xfrm>
            <a:off x="8381880" y="4853160"/>
            <a:ext cx="960480" cy="20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4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ЫВОД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а существительные могут быть ка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г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 – это постоянный признак имён существительн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проблему мы должны решить сегодня на уро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6" descr="C:\Documents and Settings\Admin\Мои документы\Мои рисунки\sova23.jpg"/>
          <p:cNvPicPr/>
          <p:nvPr/>
        </p:nvPicPr>
        <p:blipFill>
          <a:blip r:embed="rId1"/>
          <a:stretch/>
        </p:blipFill>
        <p:spPr>
          <a:xfrm>
            <a:off x="1295280" y="228600"/>
            <a:ext cx="1143000" cy="12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mile31"/>
          <p:cNvPicPr/>
          <p:nvPr/>
        </p:nvPicPr>
        <p:blipFill>
          <a:blip r:embed="rId2"/>
          <a:stretch/>
        </p:blipFill>
        <p:spPr>
          <a:xfrm>
            <a:off x="8244000" y="260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04-12-31T23:20:25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