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wmf" ContentType="image/x-wmf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A9B-0DC5-486A-B607-2B8C012C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470052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95000"/>
          </a:bodyPr>
          <a:p>
            <a:pPr marL="32580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7240" y="3954240"/>
            <a:ext cx="470052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95000"/>
          </a:bodyPr>
          <a:p>
            <a:pPr marL="32580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8AA-8546-4FFD-8E96-C71AB359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24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600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920-35F8-4986-9EC4-895CE3F3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6640" y="3495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36400" y="3495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7240" y="3954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46640" y="3954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36400" y="3954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9A9-159C-4A31-85DD-35BDC920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86C9-2CFB-4F17-B93F-46D71CE2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57240" y="3495240"/>
            <a:ext cx="47005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872A-E804-4E24-95E2-D6DCE258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47005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6499-2DCD-4D67-A6F3-E2CE416D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8B06-6CB3-482A-B69C-02AB4469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A652-B970-44D1-B633-3BD50D9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0280" y="1566720"/>
            <a:ext cx="809640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D4D-C9D2-4A13-AC4A-D9ACEB05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5724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48AE-ABA9-4962-A3C1-542398E5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7240" y="3495240"/>
            <a:ext cx="47005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48F-4B15-4A52-BCDC-3FEBD0AB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6600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FA6C-1982-4975-9DC4-3986ABF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57240" y="3954240"/>
            <a:ext cx="470052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95000"/>
          </a:bodyPr>
          <a:p>
            <a:pPr marL="32580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7F3-CF1A-402B-B5CA-0012DE2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470052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95000"/>
          </a:bodyPr>
          <a:p>
            <a:pPr marL="32580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57240" y="3954240"/>
            <a:ext cx="470052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95000"/>
          </a:bodyPr>
          <a:p>
            <a:pPr marL="32580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1E4B-3B49-4026-B8D7-E488AF5E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5724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6600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E201-25FB-417F-A3BB-2E6DFE7D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6640" y="3495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36400" y="3495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57240" y="3954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246640" y="3954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36400" y="3954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7849-0A91-4D7E-9843-87DAEAC9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C1E3-681B-4AFA-98E4-5324F670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657240" y="3495240"/>
            <a:ext cx="47005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1345-257B-4C9D-8F75-22FCB84F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47005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A4815-CA13-4E46-8F81-5BB5DEE5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E294-2B42-4519-AEA9-81416F2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1B54B-51F8-4E71-81C2-CABDB80B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47005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02B-05DC-489A-942E-C5A331B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60280" y="1566720"/>
            <a:ext cx="809640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9563-AE39-44A5-A4D7-A6A083B3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5724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310B-0D91-4866-8C6B-1093DDD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6600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EE5F-566E-4924-9EEB-F13633F0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57240" y="3954240"/>
            <a:ext cx="470052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95000"/>
          </a:bodyPr>
          <a:p>
            <a:pPr marL="32580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16F6-6108-41F6-83FA-C717D2B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470052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95000"/>
          </a:bodyPr>
          <a:p>
            <a:pPr marL="32580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57240" y="3954240"/>
            <a:ext cx="470052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95000"/>
          </a:bodyPr>
          <a:p>
            <a:pPr marL="32580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6629-85B5-4F82-AF75-EE446C4B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5724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6600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1A04-589C-4B98-8D2E-DA914997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6640" y="3495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36400" y="3495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657240" y="3954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246640" y="3954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836400" y="3954240"/>
            <a:ext cx="151344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56000"/>
          </a:bodyPr>
          <a:p>
            <a:pPr marL="1918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85FA-002E-4157-A801-ECCFDC5B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F1E-1F07-4241-92FE-0F53EC41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52D-23D7-4C39-AABF-BA6CD1A3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0280" y="1566720"/>
            <a:ext cx="809640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C6B-8AF0-4981-B535-471A22B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724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F81-8510-4B78-B14F-F48200E8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6000" y="3954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AE5-8F91-41B3-AA15-D764107B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724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6000" y="3495240"/>
            <a:ext cx="229356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81000"/>
          </a:bodyPr>
          <a:p>
            <a:pPr marL="27756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7240" y="3954240"/>
            <a:ext cx="4700520" cy="41868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95000"/>
          </a:bodyPr>
          <a:p>
            <a:pPr marL="325800"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97C-0E87-4839-81CD-066EDD5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5B091-C4C1-4F25-8E28-1F0B809120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0280" y="1566720"/>
            <a:ext cx="80964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57240" y="3495240"/>
            <a:ext cx="47005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 fontScale="22000"/>
          </a:bodyPr>
          <a:p>
            <a:pPr marL="75240" indent="0"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5240" indent="-75240" algn="r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75240" indent="-75240" algn="r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75240" indent="-75240" algn="r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75240" indent="-75240" algn="r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75240" indent="-75240" algn="r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75240" indent="-75240" algn="r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531120"/>
            <a:ext cx="21286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531120"/>
            <a:ext cx="2897280" cy="1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424720" y="6563880"/>
            <a:ext cx="5860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3F4D023-DEC4-40E2-86FA-3B1D0DEC1E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522360"/>
            <a:ext cx="65293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31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42164-5047-4E2D-ABBD-B6BC9FB96C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2000" y="576360"/>
            <a:ext cx="3743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Segoe UI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Segoe UI"/>
              </a:rPr>
              <a:t>Побег и п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4960" y="792000"/>
            <a:ext cx="3298680" cy="32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9933"/>
                </a:solidFill>
                <a:latin typeface="Arial"/>
              </a:rPr>
              <a:t>Цели урок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38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  <a:ea typeface="Microsoft YaHei"/>
              </a:rPr>
              <a:t>Узнать о строении поб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  <a:ea typeface="Microsoft YaHei"/>
              </a:rPr>
              <a:t>Выяснить типы листораспо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  <a:ea typeface="Microsoft YaHei"/>
              </a:rPr>
              <a:t>Изучить строение почек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H="1">
            <a:off x="1833480" y="1341360"/>
            <a:ext cx="803520" cy="569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1197000"/>
            <a:ext cx="1440" cy="4572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341360"/>
            <a:ext cx="914400" cy="5716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360"/>
            <a:ext cx="727236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  <a:ea typeface="Times New Roman"/>
              </a:rPr>
              <a:t>Листораспо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1512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Очередное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Супротивное             Мутовча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808000" cy="3744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2638440" cy="4035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72360" y="2492280"/>
            <a:ext cx="23428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5473800" y="54000"/>
          <a:ext cx="36702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3800" y="54000"/>
                    <a:ext cx="3670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 flipV="1">
            <a:off x="4643280" y="3859200"/>
            <a:ext cx="2521080" cy="1371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643280" y="1482480"/>
            <a:ext cx="1224000" cy="72396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88000" y="2158920"/>
            <a:ext cx="1836720" cy="12715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5240" y="530064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3080" y="35002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14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76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троение поб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996920"/>
            <a:ext cx="36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обег – это один из основных органов высших растений. Побег состоит из оси – стебля – и отходящих от него листьев и 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  <a:ea typeface="Segoe UI"/>
              </a:rPr>
              <a:t>Строение вегетативной п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052640"/>
          <a:ext cx="482436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4824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859280" y="1792440"/>
            <a:ext cx="417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- зачаточные лист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- конус нарас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- зачаточные по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- зачаточный сте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- почечные чешу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роение генеративной (цветочной) поч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413000"/>
          <a:ext cx="460836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46083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859280" y="1989000"/>
            <a:ext cx="38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- зачаточные лист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- конус нарас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- зачаточные по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- зачаточный сте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- почечные чешу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6- зачаточные цв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4172040" y="3108240"/>
            <a:ext cx="914400" cy="2286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611280" y="48096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ри удалении верхушечной почки образуется много боковых побе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  <a:ea typeface="Microsoft YaHei"/>
              </a:rPr>
              <a:t>Это свойство используется в садоводстве и цветоводстве. Растениеводы прищипкой верхушки  заставляют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обег сильнее ветвитьс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87280" y="2592360"/>
            <a:ext cx="4392720" cy="3743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824360" y="2592360"/>
            <a:ext cx="40323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698480"/>
            <a:ext cx="777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араграф 5 — учить. По желанию — сообщение «Обрезка кустарников и деревьев в ландшафтном дизайне и садоводств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7:45:24Z</dcterms:created>
  <dc:creator>Andrey</dc:creator>
  <dc:description/>
  <dc:language>en-US</dc:language>
  <cp:lastModifiedBy/>
  <dcterms:modified xsi:type="dcterms:W3CDTF">2019-12-22T12:33:29Z</dcterms:modified>
  <cp:revision>5</cp:revision>
  <dc:subject/>
  <dc:title>Урок биологии в 6 классе</dc:title>
</cp:coreProperties>
</file>