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move the slide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935-8B0D-4E1F-8FBE-9515DDF4A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4FC-1928-4ABC-80AE-FAE079891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C85-9669-463D-9C23-BD3AA756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E9A-E2D2-4E7E-898C-A91D23C6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362-7221-482C-B860-0D76992F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AF9-955F-4CD5-B7AE-FCA5875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152-7E42-4838-80AB-7C7C8AE4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DAE-594A-48AF-A102-75C0D0D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D5C-5C5D-44EA-9274-8286DBB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191-B8B7-4F35-B50E-C47B025B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980-2FBB-405C-A91E-D33F9C58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B2B-7EDF-44F0-9B0C-C634F43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274-0C76-477F-8A82-E79A961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9A2-BC06-4085-9584-80BF5679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278-6A39-4492-813F-0F92016A0B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1840" y="2693880"/>
            <a:ext cx="7772400" cy="14702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Century Gothic"/>
              </a:rPr>
              <a:t>«ПРЕДСТАВЛЕНИЕ ЧИСЕЛ </a:t>
            </a:r>
            <a:br>
              <a:rPr sz="4400"/>
            </a:br>
            <a:r>
              <a:rPr b="1" i="1" lang="en-US" sz="4400" spc="-1" strike="noStrike">
                <a:solidFill>
                  <a:srgbClr val="404040"/>
                </a:solidFill>
                <a:latin typeface="Century Gothic"/>
              </a:rPr>
              <a:t>В ПАМЯТИ КОМПЬЮТЕРА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348000" y="501336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250920" y="439560"/>
            <a:ext cx="8642160" cy="5978880"/>
          </a:xfrm>
          <a:custGeom>
            <a:avLst/>
            <a:gdLst>
              <a:gd name="textAreaLeft" fmla="*/ 704520 w 8642160"/>
              <a:gd name="textAreaRight" fmla="*/ 7937640 w 8642160"/>
              <a:gd name="textAreaTop" fmla="*/ 704520 h 5978880"/>
              <a:gd name="textAreaBottom" fmla="*/ 5274360 h 5978880"/>
            </a:gdLst>
            <a:ahLst/>
            <a:rect l="textAreaLeft" t="textAreaTop" r="textAreaRight" b="textAreaBottom"/>
            <a:pathLst>
              <a:path w="312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621" y="21600"/>
                </a:lnTo>
                <a:arcTo wR="3600" hR="3600" stAng="10800000" swAng="5400000"/>
                <a:lnTo>
                  <a:pt x="31221" y="3600"/>
                </a:lnTo>
                <a:arcTo wR="3600" hR="3600" stAng="5400000" swAng="5400000"/>
                <a:close/>
              </a:path>
            </a:pathLst>
          </a:custGeom>
          <a:noFill/>
          <a:ln w="152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57200" y="714240"/>
            <a:ext cx="671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ведите двоичные числа в десятичну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101101; б) 1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ереведите десятичные числа в двоич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55; б) 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C791-3BB4-4652-A8F2-B3A198AA8E7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2920" y="428760"/>
            <a:ext cx="8858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f7f7f"/>
                </a:solidFill>
                <a:latin typeface="Century Gothic"/>
              </a:rPr>
              <a:t>ПРЕДСТАВЛЕНИЕ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 числа в компьютере представляются в виде двоичных кодов, т.е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уле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диниц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менты числа, наз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разрядами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или битами. Память компьютера условно делиться на ячейки, каждая из которых имеет свой номер. Нумерация начинается с нуля(справа нале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инимальной адресуемой ячейкой памяти называется байт – 8 двоичных разрядов. порядковый номер байта называется его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адресо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ибольшую последовательность битов, которую процессор может обрабатывать как единое целое, наз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машинным слово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лина машинного слова может быть разной - 8 , 16 , 32 бит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>
            <a:lum contrast="10000"/>
          </a:blip>
          <a:srcRect l="24611" t="24172" r="22072" b="63382"/>
          <a:stretch/>
        </p:blipFill>
        <p:spPr>
          <a:xfrm>
            <a:off x="1042920" y="2708280"/>
            <a:ext cx="6500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714240" y="435780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очисленный формат (формат с фиксированной точкой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представления в компьютере целых положительных и отрицательных чисел. Для представления в компьютере положительных и отрицательных чисел существуют правила. Под знак отводится старший разряд ячей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0 - для положительны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 - для отрицатель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rcRect l="27540" t="44679" r="25001" b="25294"/>
          <a:stretch/>
        </p:blipFill>
        <p:spPr>
          <a:xfrm>
            <a:off x="1071720" y="785880"/>
            <a:ext cx="7056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60E4-4AB4-4369-A738-25B65152FE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14200" y="28584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Для положительного числа прямой, обратный и дополнительный к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выглядят одинак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ямо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воичного числа — это само двоичное число, причем значение знакового разряда для положительных чисел равно 0, а для отрицательных чисел 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Обратны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рицательного числа получается из прямого кода путем замены нулей единицами, а единиц нулями, исключая знаковый раз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Дополнительный код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рицательного числа образуется как результат суммирования обратного кода с единицей младшего разряда. Перенос в знаковый разряд при этом тер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0700-8A63-4289-8635-9FC6877B91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428760" y="2858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 1. Определить прямой, обратный и дополнительный коды следующих двоичных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111000; б) -111011; в) -1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ем считать, что число размещается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тах (2 байтах) . Старший бит – знак разряда. Незначащие нули добавляются слева от числа. Результат представим в виде таблиц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920" y="2928960"/>
          <a:ext cx="9001080" cy="1754280"/>
        </p:xfrm>
        <a:graphic>
          <a:graphicData uri="http://schemas.openxmlformats.org/drawingml/2006/table">
            <a:tbl>
              <a:tblPr/>
              <a:tblGrid>
                <a:gridCol w="2249280"/>
                <a:gridCol w="2252880"/>
                <a:gridCol w="2249280"/>
                <a:gridCol w="2249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ямо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рат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полнитель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0000000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1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00011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0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000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1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1111110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5760">
                      <a:solidFill>
                        <a:srgbClr val="005bd3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9" descr=""/>
          <p:cNvPicPr/>
          <p:nvPr/>
        </p:nvPicPr>
        <p:blipFill>
          <a:blip r:embed="rId2"/>
          <a:srcRect l="18010" t="18458" r="67816" b="71210"/>
          <a:stretch/>
        </p:blipFill>
        <p:spPr>
          <a:xfrm>
            <a:off x="6156360" y="4869000"/>
            <a:ext cx="280836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A6BB-2957-4B37-AF16-47F15032A8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00040" y="428760"/>
            <a:ext cx="84297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 2. Как будет представлено в памяти компьютера целое число 1234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размещения числа возьмем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кольку число положительное, то в старшем (15-м) бите будет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ведем число в двоичную систему счис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34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1100000011100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85920" y="2786040"/>
          <a:ext cx="3571920" cy="396720"/>
        </p:xfrm>
        <a:graphic>
          <a:graphicData uri="http://schemas.openxmlformats.org/drawingml/2006/table">
            <a:tbl>
              <a:tblPr/>
              <a:tblGrid>
                <a:gridCol w="714240"/>
                <a:gridCol w="1285920"/>
                <a:gridCol w="1571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11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5bd3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5bd3"/>
                      </a:solidFill>
                    </a:lnT>
                    <a:lnB w="12240">
                      <a:solidFill>
                        <a:srgbClr val="005bd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4"/>
          <p:cNvSpPr/>
          <p:nvPr/>
        </p:nvSpPr>
        <p:spPr>
          <a:xfrm>
            <a:off x="571680" y="35002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 числа                         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авая фигурная скобка 5"/>
          <p:cNvSpPr/>
          <p:nvPr/>
        </p:nvSpPr>
        <p:spPr>
          <a:xfrm rot="5400000">
            <a:off x="3339720" y="2089080"/>
            <a:ext cx="357120" cy="26082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2608200"/>
              <a:gd name="textAreaBottom" fmla="*/ 2599200 h 260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16200" y="10800"/>
                  <a:pt x="21600" y="10800"/>
                </a:cubicBezTo>
                <a:cubicBezTo>
                  <a:pt x="162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2d8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1284840" y="3214440"/>
            <a:ext cx="21492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20:07Z</dcterms:created>
  <dc:creator>ANNA</dc:creator>
  <dc:description/>
  <dc:language>en-US</dc:language>
  <cp:lastModifiedBy>54</cp:lastModifiedBy>
  <dcterms:modified xsi:type="dcterms:W3CDTF">2019-12-25T19:29:32Z</dcterms:modified>
  <cp:revision>28</cp:revision>
  <dc:subject/>
  <dc:title>Слайд 1</dc:title>
</cp:coreProperties>
</file>