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F8ED-06E1-4D9D-BF7B-1107E5C50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78A0-B5C2-48FE-82F1-F007F7E5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3DBE-EE23-4012-9C0A-650AE50C2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FC93-0ABA-4440-A4FE-633AB8666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FFFC-B8EC-4C61-98CF-D64C3F058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17ED-DBE8-4465-816F-B90CD3F7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F423-03B9-4F7B-B913-18E0AB6C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37B9-AA11-4265-92BC-9A3142E7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719C-4F2A-4EEC-BD40-4F3F921B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5A2E-4FBC-42ED-B12F-C1A55979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AC36-53FF-45FD-96DA-84B1D09F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99FF-06A9-49C8-998E-9DE1D068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4F13-5896-4265-AA5F-325681A0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9F67-C0E6-47DB-8DBF-2E625104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0AAD-D22A-49A4-BCF8-E9B7C352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FEA7-294E-45C7-BA55-E0B1E5CA3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2D2D-33C6-46DC-88AF-CF8BB9BED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3B70-AE76-4DFB-AD76-AC01365E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1C81-E69E-40CB-9FC8-70B58146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B17B-9184-408A-BC22-CC420DDC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35DA-F49B-4DF2-9489-DD60B201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AE48-BF9F-417D-96E8-B852461A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9A40-77B0-4554-95AC-C8ADAB0B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EB7C-86AD-4B2F-A190-AFF19582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2777d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83F0-5825-4DA4-8C40-6B6E3907CE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2777d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55B5-8AAF-4212-9519-FF79B53B06D5}" type="slidenum"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3840" cy="21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3366"/>
                </a:solidFill>
                <a:latin typeface="Times New Roman"/>
              </a:rPr>
              <a:t>Галерея Батика</a:t>
            </a:r>
            <a:br>
              <a:rPr sz="6000"/>
            </a:br>
            <a:endParaRPr b="1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55280" y="5589720"/>
            <a:ext cx="838836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Альбом подготовлен на основе творческих работ студентов отделения «ДПИ и народные промыслы»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2" name="Picture 6" descr="STP61500"/>
          <p:cNvPicPr/>
          <p:nvPr/>
        </p:nvPicPr>
        <p:blipFill>
          <a:blip r:embed="rId1"/>
          <a:stretch/>
        </p:blipFill>
        <p:spPr>
          <a:xfrm>
            <a:off x="3348000" y="2565360"/>
            <a:ext cx="2198880" cy="2881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STP61483"/>
          <p:cNvPicPr/>
          <p:nvPr/>
        </p:nvPicPr>
        <p:blipFill>
          <a:blip r:embed="rId2"/>
          <a:stretch/>
        </p:blipFill>
        <p:spPr>
          <a:xfrm>
            <a:off x="755640" y="2133720"/>
            <a:ext cx="2155680" cy="2877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STP61499"/>
          <p:cNvPicPr/>
          <p:nvPr/>
        </p:nvPicPr>
        <p:blipFill>
          <a:blip r:embed="rId3"/>
          <a:stretch/>
        </p:blipFill>
        <p:spPr>
          <a:xfrm>
            <a:off x="6156360" y="2205000"/>
            <a:ext cx="2141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Times New Roman"/>
              </a:rPr>
              <a:t>«Пионы»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6" name="Picture 27" descr="Изображение 409"/>
          <p:cNvPicPr/>
          <p:nvPr/>
        </p:nvPicPr>
        <p:blipFill>
          <a:blip r:embed="rId1">
            <a:lum contrast="24000"/>
          </a:blip>
          <a:srcRect l="0" t="4679" r="3104" b="5871"/>
          <a:stretch/>
        </p:blipFill>
        <p:spPr>
          <a:xfrm>
            <a:off x="2627280" y="1197000"/>
            <a:ext cx="386568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3366"/>
                </a:solidFill>
                <a:latin typeface="Times New Roman"/>
              </a:rPr>
              <a:t>«Бабочки»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9" name="Picture 4" descr="STP61488"/>
          <p:cNvPicPr/>
          <p:nvPr/>
        </p:nvPicPr>
        <p:blipFill>
          <a:blip r:embed="rId1"/>
          <a:srcRect l="3406" t="16958" r="14648" b="3414"/>
          <a:stretch/>
        </p:blipFill>
        <p:spPr>
          <a:xfrm>
            <a:off x="2700360" y="1197000"/>
            <a:ext cx="4032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Times New Roman"/>
              </a:rPr>
              <a:t>«Зима»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1" name="Picture 4" descr="STP61493"/>
          <p:cNvPicPr/>
          <p:nvPr/>
        </p:nvPicPr>
        <p:blipFill>
          <a:blip r:embed="rId1">
            <a:lum contrast="12000"/>
          </a:blip>
          <a:srcRect l="7309" t="16100" r="372" b="3443"/>
          <a:stretch/>
        </p:blipFill>
        <p:spPr>
          <a:xfrm>
            <a:off x="2484360" y="1197000"/>
            <a:ext cx="438012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Times New Roman"/>
              </a:rPr>
              <a:t>«Алиса»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3" name="Picture 4" descr="STP61491"/>
          <p:cNvPicPr/>
          <p:nvPr/>
        </p:nvPicPr>
        <p:blipFill>
          <a:blip r:embed="rId1"/>
          <a:srcRect l="4431" t="20530" r="8750" b="233"/>
          <a:stretch/>
        </p:blipFill>
        <p:spPr>
          <a:xfrm>
            <a:off x="2556000" y="907920"/>
            <a:ext cx="4213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77560"/>
            <a:ext cx="835344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Диптих </a:t>
            </a:r>
            <a:r>
              <a:rPr b="1" i="1" lang="ru-RU" sz="3200" spc="-1" strike="noStrike">
                <a:solidFill>
                  <a:srgbClr val="003366"/>
                </a:solidFill>
                <a:latin typeface="Times New Roman"/>
              </a:rPr>
              <a:t>«Маки и мальвы»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5" name="Picture 9" descr="Для сканирования 415"/>
          <p:cNvPicPr/>
          <p:nvPr/>
        </p:nvPicPr>
        <p:blipFill>
          <a:blip r:embed="rId1"/>
          <a:srcRect l="14358" t="15753" r="4466" b="3266"/>
          <a:stretch/>
        </p:blipFill>
        <p:spPr>
          <a:xfrm>
            <a:off x="2700360" y="907920"/>
            <a:ext cx="41036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Уважаемые коллеги!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Благодарю Вас за внимание</a:t>
            </a: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Автор проекта и составитель альбома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И.Ю.Миргород,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Times New Roman"/>
              </a:rPr>
              <a:t>преподаватель специальных дисциплин отделения «ДПИ и народные промыслы» ТОГОУ СПО «Педагогический колледж»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4T13:58:50Z</dcterms:created>
  <dc:creator>Drakhlerab</dc:creator>
  <dc:description/>
  <dc:language>en-US</dc:language>
  <cp:lastModifiedBy>mirgorod</cp:lastModifiedBy>
  <dcterms:modified xsi:type="dcterms:W3CDTF">2019-12-25T08:32:46Z</dcterms:modified>
  <cp:revision>13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