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B6B8-A6C6-4A21-90FC-2DB64C2A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532D-0DB6-41A0-9935-6D4CD3B1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7C5-A47F-49ED-A8CA-8FF22DEC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5CCF-FDFD-4E47-A4D9-41F16383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0AC0-2F53-43B0-A2AB-FCDB01CB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131F-5DF9-4CFC-81A5-35DB44DE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3E6D-64C7-463E-8C1C-61482715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66FB-7382-47C3-9ED3-826EED47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A3C-C815-49B3-ABA5-5A658975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B849-5D6F-40E2-9730-1BDC72A3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C69-7481-4338-A104-0C9E69FA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3D5-E2E3-44FE-B3B2-DF44CB76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D2FB-81F1-4951-B84C-541381F77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262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Загадочное сло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Snap ITC"/>
            </a:endParaRPr>
          </a:p>
        </p:txBody>
      </p:sp>
      <p:grpSp>
        <p:nvGrpSpPr>
          <p:cNvPr id="44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45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Ро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102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Рисунок 16" descr="Пословицы о Родине"/>
          <p:cNvPicPr/>
          <p:nvPr/>
        </p:nvPicPr>
        <p:blipFill>
          <a:blip r:embed="rId3"/>
          <a:stretch/>
        </p:blipFill>
        <p:spPr>
          <a:xfrm>
            <a:off x="2771640" y="615960"/>
            <a:ext cx="489600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262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С чего начинается Родина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Snap ITC"/>
            </a:endParaRPr>
          </a:p>
        </p:txBody>
      </p:sp>
      <p:grpSp>
        <p:nvGrpSpPr>
          <p:cNvPr id="108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109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Мурат Паранук, адыгейский по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114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Рисунок 10" descr="http://img1.liveinternet.ru/images/attach/b/4/112/661/112661973_large_Rojnov_Grg_Ars_gst49.jpg"/>
          <p:cNvPicPr/>
          <p:nvPr/>
        </p:nvPicPr>
        <p:blipFill>
          <a:blip r:embed="rId3"/>
          <a:stretch/>
        </p:blipFill>
        <p:spPr>
          <a:xfrm>
            <a:off x="3622680" y="765000"/>
            <a:ext cx="25448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Танзиля Зумакулова, кабардино-балкарская поэт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120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436840" y="971640"/>
            <a:ext cx="49147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Ростислав Братунь, украинский по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126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322800" y="404640"/>
            <a:ext cx="29368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адим Шефнер, российский по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132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916360" y="189000"/>
            <a:ext cx="3230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262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Язык до Киева доведёт.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Язык без костей, что хочет, то и лопочет.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Язык говорит, а голова не ведает.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Язык мал: великим человеком шатает.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Язык мой – враг мой: прежде ума рыщ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Snap ITC"/>
            </a:endParaRPr>
          </a:p>
        </p:txBody>
      </p:sp>
      <p:grpSp>
        <p:nvGrpSpPr>
          <p:cNvPr id="138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139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Баснописец Эз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144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971880" y="765000"/>
            <a:ext cx="1844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Философ Ксан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150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484360" y="979560"/>
            <a:ext cx="468000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8" descr="zelflo10"/>
          <p:cNvPicPr/>
          <p:nvPr/>
        </p:nvPicPr>
        <p:blipFill>
          <a:blip r:embed="rId1"/>
          <a:stretch/>
        </p:blipFill>
        <p:spPr>
          <a:xfrm>
            <a:off x="324000" y="0"/>
            <a:ext cx="91612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99308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«Много воды утекло»</a:t>
            </a:r>
            <a:br>
              <a:rPr sz="60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«Сквозь огонь и воду пройдёт»</a:t>
            </a: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«Как с гуся вода»</a:t>
            </a: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«Воды в рот набрал»</a:t>
            </a: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«Под лежачий камень вода не течёт»</a:t>
            </a: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«В ступе воду не толочь»</a:t>
            </a: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«Воду носить решетом»</a:t>
            </a:r>
            <a:br>
              <a:rPr sz="6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Snap ITC"/>
            </a:endParaRPr>
          </a:p>
        </p:txBody>
      </p:sp>
      <p:grpSp>
        <p:nvGrpSpPr>
          <p:cNvPr id="156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157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262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660066"/>
              </a:solidFill>
              <a:latin typeface="Snap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Snap ITC"/>
            </a:endParaRPr>
          </a:p>
        </p:txBody>
      </p:sp>
      <p:grpSp>
        <p:nvGrpSpPr>
          <p:cNvPr id="50" name="Рамка 6"/>
          <p:cNvGrpSpPr/>
          <p:nvPr/>
        </p:nvGrpSpPr>
        <p:grpSpPr>
          <a:xfrm>
            <a:off x="3724200" y="6321600"/>
            <a:ext cx="2828880" cy="609480"/>
            <a:chOff x="3724200" y="6321600"/>
            <a:chExt cx="2828880" cy="609480"/>
          </a:xfrm>
        </p:grpSpPr>
        <p:pic>
          <p:nvPicPr>
            <p:cNvPr id="51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321600"/>
              <a:ext cx="2828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848040" y="6419880"/>
              <a:ext cx="259092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zentacii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Рисунок 4" descr="http://www.hcenter-irk.info/sites/default/files/styles/alex/public/58bg.gif?itok=57CISFZq"/>
          <p:cNvPicPr/>
          <p:nvPr/>
        </p:nvPicPr>
        <p:blipFill>
          <a:blip r:embed="rId3"/>
          <a:stretch/>
        </p:blipFill>
        <p:spPr>
          <a:xfrm>
            <a:off x="1835280" y="1268280"/>
            <a:ext cx="619272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Два др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162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619280" y="214200"/>
            <a:ext cx="590544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 кабинете начальника ЖЭ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168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" descr=""/>
          <p:cNvPicPr/>
          <p:nvPr/>
        </p:nvPicPr>
        <p:blipFill>
          <a:blip r:embed="rId3"/>
          <a:srcRect l="9361" t="0" r="0" b="0"/>
          <a:stretch/>
        </p:blipFill>
        <p:spPr>
          <a:xfrm>
            <a:off x="2700360" y="957240"/>
            <a:ext cx="439272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Фрагмент комедии «Недорос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174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Рисунок 7" descr="http://do.gendocs.ru/pars_docs/tw_refs/303/302631/302631_html_413f1714.jpg"/>
          <p:cNvPicPr/>
          <p:nvPr/>
        </p:nvPicPr>
        <p:blipFill>
          <a:blip r:embed="rId3"/>
          <a:stretch/>
        </p:blipFill>
        <p:spPr>
          <a:xfrm>
            <a:off x="3581280" y="765000"/>
            <a:ext cx="26258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Мнимый грамо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180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557520" y="620640"/>
            <a:ext cx="27226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Сценка «Опять двойк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186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610080" y="549360"/>
            <a:ext cx="25732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А.С.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192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Рисунок 43" descr="http://kpfu.ru/portal/docs/F1730061120/pushkin.jpg"/>
          <p:cNvPicPr/>
          <p:nvPr/>
        </p:nvPicPr>
        <p:blipFill>
          <a:blip r:embed="rId3"/>
          <a:srcRect l="16958" t="0" r="13946" b="0"/>
          <a:stretch/>
        </p:blipFill>
        <p:spPr>
          <a:xfrm>
            <a:off x="3276720" y="404640"/>
            <a:ext cx="37144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262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Берегите наш великий русский язык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Snap ITC"/>
            </a:endParaRPr>
          </a:p>
        </p:txBody>
      </p:sp>
      <p:grpSp>
        <p:nvGrpSpPr>
          <p:cNvPr id="198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199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262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регите наш язык, наш прекрасный русский язык, – это клад, это достояние, переданное нам нашими предшественниками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. Тургене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Snap ITC"/>
            </a:endParaRPr>
          </a:p>
        </p:txBody>
      </p:sp>
      <p:grpSp>
        <p:nvGrpSpPr>
          <p:cNvPr id="204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205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262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Snap ITC"/>
            </a:endParaRPr>
          </a:p>
        </p:txBody>
      </p:sp>
      <p:grpSp>
        <p:nvGrpSpPr>
          <p:cNvPr id="210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211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262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660066"/>
              </a:solidFill>
              <a:latin typeface="Snap IT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Snap ITC"/>
            </a:endParaRPr>
          </a:p>
        </p:txBody>
      </p:sp>
      <p:grpSp>
        <p:nvGrpSpPr>
          <p:cNvPr id="57" name="Рамка 6"/>
          <p:cNvGrpSpPr/>
          <p:nvPr/>
        </p:nvGrpSpPr>
        <p:grpSpPr>
          <a:xfrm>
            <a:off x="3724200" y="6858000"/>
            <a:ext cx="2828880" cy="73080"/>
            <a:chOff x="3724200" y="6858000"/>
            <a:chExt cx="2828880" cy="73080"/>
          </a:xfrm>
        </p:grpSpPr>
        <p:pic>
          <p:nvPicPr>
            <p:cNvPr id="58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858000"/>
              <a:ext cx="282888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848040" y="6869520"/>
              <a:ext cx="2590920" cy="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zentacii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Рисунок 1" descr="http://deti.zp.ua/images/big4/sunduchokmiracle_2.jpg"/>
          <p:cNvPicPr/>
          <p:nvPr/>
        </p:nvPicPr>
        <p:blipFill>
          <a:blip r:embed="rId3"/>
          <a:stretch/>
        </p:blipFill>
        <p:spPr>
          <a:xfrm>
            <a:off x="2195640" y="1197000"/>
            <a:ext cx="581004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262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Великий и могучий наш русский язы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Snap ITC"/>
            </a:endParaRPr>
          </a:p>
        </p:txBody>
      </p:sp>
      <p:grpSp>
        <p:nvGrpSpPr>
          <p:cNvPr id="64" name="Рамка 6"/>
          <p:cNvGrpSpPr/>
          <p:nvPr/>
        </p:nvGrpSpPr>
        <p:grpSpPr>
          <a:xfrm>
            <a:off x="3724200" y="6669000"/>
            <a:ext cx="2828880" cy="262080"/>
            <a:chOff x="3724200" y="6669000"/>
            <a:chExt cx="2828880" cy="262080"/>
          </a:xfrm>
        </p:grpSpPr>
        <p:pic>
          <p:nvPicPr>
            <p:cNvPr id="65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669000"/>
              <a:ext cx="2828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848040" y="6711120"/>
              <a:ext cx="259092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zentacii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262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«Русский народ создал русский язык яркий, как радуга после весеннего ливня, меткий, как стрелы, певучий и богатый, задушевный, как песня над колыбелью» Л.Н.Толст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857240" y="568188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660066"/>
              </a:solidFill>
              <a:latin typeface="Snap ITC"/>
            </a:endParaRPr>
          </a:p>
        </p:txBody>
      </p:sp>
      <p:grpSp>
        <p:nvGrpSpPr>
          <p:cNvPr id="70" name="Рамка 6"/>
          <p:cNvGrpSpPr/>
          <p:nvPr/>
        </p:nvGrpSpPr>
        <p:grpSpPr>
          <a:xfrm>
            <a:off x="3724200" y="6858000"/>
            <a:ext cx="2828880" cy="73080"/>
            <a:chOff x="3724200" y="6858000"/>
            <a:chExt cx="2828880" cy="73080"/>
          </a:xfrm>
        </p:grpSpPr>
        <p:pic>
          <p:nvPicPr>
            <p:cNvPr id="71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858000"/>
              <a:ext cx="282888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848040" y="6869520"/>
              <a:ext cx="2590920" cy="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zentacii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262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Arial"/>
              </a:rPr>
              <a:t>Русский язык богат и выразителен. (В.Г.Белинский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Snap ITC"/>
            </a:endParaRPr>
          </a:p>
        </p:txBody>
      </p:sp>
      <p:grpSp>
        <p:nvGrpSpPr>
          <p:cNvPr id="76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77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262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660066"/>
                </a:solidFill>
                <a:latin typeface="Arial"/>
              </a:rPr>
              <a:t>Дивишься драгоценности нашего языка: что ни звук, то подарок. (Н.В.Гоголь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Snap ITC"/>
            </a:endParaRPr>
          </a:p>
        </p:txBody>
      </p:sp>
      <p:grpSp>
        <p:nvGrpSpPr>
          <p:cNvPr id="82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83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262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Arial"/>
              </a:rPr>
              <a:t>С русским языком можно творить чудеса. (К.Г.Паустовский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Snap ITC"/>
            </a:endParaRPr>
          </a:p>
        </p:txBody>
      </p:sp>
      <p:grpSp>
        <p:nvGrpSpPr>
          <p:cNvPr id="88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89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zelflo1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1262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660066"/>
                </a:solidFill>
                <a:latin typeface="Arial"/>
              </a:rPr>
              <a:t>Язык Тургенева, Толстого, Добролюбова, Чернышевского велик и могуч. (М.Горький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57240" y="46432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Snap ITC"/>
            </a:endParaRPr>
          </a:p>
        </p:txBody>
      </p:sp>
      <p:grpSp>
        <p:nvGrpSpPr>
          <p:cNvPr id="94" name="Рамка 6"/>
          <p:cNvGrpSpPr/>
          <p:nvPr/>
        </p:nvGrpSpPr>
        <p:grpSpPr>
          <a:xfrm>
            <a:off x="3724200" y="6597720"/>
            <a:ext cx="2828880" cy="333360"/>
            <a:chOff x="3724200" y="6597720"/>
            <a:chExt cx="2828880" cy="333360"/>
          </a:xfrm>
        </p:grpSpPr>
        <p:pic>
          <p:nvPicPr>
            <p:cNvPr id="95" name="Рамка 6" descr=""/>
            <p:cNvPicPr/>
            <p:nvPr/>
          </p:nvPicPr>
          <p:blipFill>
            <a:blip r:embed="rId2"/>
            <a:stretch/>
          </p:blipFill>
          <p:spPr>
            <a:xfrm>
              <a:off x="3724200" y="6597720"/>
              <a:ext cx="28288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848040" y="6651360"/>
              <a:ext cx="2590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-2189160" y="3107880"/>
            <a:ext cx="1352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регите наш язык, наш прекрасный русский язык, – это клад, это достояние, переданное нам нашими предшествен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 Турген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189160" y="3107880"/>
            <a:ext cx="1352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регите наш язык, наш прекрасный русский язык, – это клад, это достояние, переданное нам нашими предшествен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 Турген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3:42:06Z</dcterms:created>
  <dc:creator>LAN_OS</dc:creator>
  <dc:description/>
  <dc:language>en-US</dc:language>
  <cp:lastModifiedBy>LAN_OS</cp:lastModifiedBy>
  <dcterms:modified xsi:type="dcterms:W3CDTF">2004-12-31T22:50:59Z</dcterms:modified>
  <cp:revision>4</cp:revision>
  <dc:subject/>
  <dc:title>Слайд 1</dc:title>
</cp:coreProperties>
</file>