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0F4F-3D8C-407A-B0AD-0965C3FD30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04F4-FDF4-4D86-819B-405C96659B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8E9-4241-4372-824F-48438343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833-40B3-497E-85E5-76E8D6D7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1BC-0E45-4AFC-9B88-52AE30D8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3EA0-A525-43CE-A561-D3BEA9F4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5E87-7B8E-4CFB-A20A-E14EFC7A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7660-23ED-4520-9C92-8F4E735B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5E0B-7F2B-4419-BF78-6E75A6D7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3A7B-8591-447B-88B5-A95C1A54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228D-D1B1-4B0C-A70C-719C32AD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EA10-23FD-4F0C-99DF-ADFAF9ED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5B68-6ECF-440E-B983-89D1882D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CF29-2E63-4354-8403-7D62A897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BDD7-ED34-4775-AC63-34278366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E80C-2714-4074-AA42-21A645D0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6BAE-4F9C-40E3-AAB0-714BDBD8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4585-4D22-4C58-BF8D-F06CC766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9CF4-85EC-4B1C-AB4A-59091CAC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623E6-3920-4941-9AA6-7E51CA63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1073C-9BC2-4BF3-B9FF-7E197C72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644A3-DEA9-4AA9-B1C1-4A3A9CFF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ECB83-4A8E-43A6-A711-FF1F3505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365A-7239-4D81-98F6-EBA6297C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4DFF-35E6-4EFE-8FC9-1DC8BED2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BDADB-3FC9-4AED-8725-E9FAA9C8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7DEDA-EE3F-46C1-BB24-8E4A32AC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111FC-6231-47E9-94A6-70AC328E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9EC3D-9671-436E-AA21-00248F28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A5380-A8DE-4455-87E2-BD73A662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58173-F36C-40EC-AA93-AFC49643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9620E-FAB2-4FC5-9142-C075B6EE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BEBD9-9774-47D8-9B84-E120B200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9F766-E461-4A9D-8A82-7F4AEFB4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C6545-6D54-4626-96EE-F750ED40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7BB7-C737-4655-A35E-DBE85DED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62870-961E-41D8-BD53-365B4206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5264F-FA29-4018-9653-10C72CCF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B144E-0CC8-4E05-9870-918DB813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979D9-D503-42B8-90AB-3358E9F3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AB66F-55DE-46C1-B27D-197AE56E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54C64-D3E4-4FC6-AE18-7F8DFB03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8474C-2A3E-4A3A-AC2D-65A776ED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ADE7C-88BF-491A-928C-43B67709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1D537-BF69-4926-A6D1-B0C31112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4FAF7-EF97-493F-94F8-C3FC118B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27E-E020-4F56-8181-26A8107C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26F3D-89CF-4CB0-93D5-514B0D0F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39CE8-E551-4479-B5CD-8222D215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27D60-A698-4CC8-8F21-3721F80D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DEB3E-C07E-4B62-BF29-33971762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A2E98-5B05-4B21-85DE-60BCA2D7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33D3D-DA59-43A0-A797-FF53866E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A41EA-30DD-478A-8CDB-584C1BA4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1CBBD-6ABD-4AF3-B34C-E03615DB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09A48-0CFC-4F3B-96CC-89DBC0D3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604CC-F2B0-434B-BAFA-A96C8D4B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B82-F10F-4C45-B4DB-B6BDBBA8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F3320-658C-47D8-A5AD-BB62E7D7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6AE57-FB60-420D-8F8D-FFB848CB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F89F7-CABE-4B86-A946-2B911FFC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7606A-6413-4308-99D1-AE564356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5DEFD-85CC-48FD-B6E2-871B4516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587B9-6D71-4D3B-9F3E-0D1FA9AC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88E58-26BD-465A-B14A-76AC243C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A16F3-767B-4676-BB11-7CC88F4C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F9C61-0C5A-444D-B6C2-33ECA6C1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71FEC-5E8E-40E6-A52F-80E9D904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B81-8139-4E35-9058-9D80323B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67464-F5C0-424D-A42E-CEE2DD84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D44DA-C5CE-4762-9B30-3E8932A9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107FE-0C9F-477E-B69D-C83A4248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56AFA-782D-471E-90E7-AEADFB55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CA9B9-0F7D-476C-A89C-E66CF48F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244BD-D6BF-4C02-B0AC-E103ED70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BAD7D-3EB3-45E4-ABC5-C8C1BF71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ED446-91CA-414B-BBEB-1BE9AEB1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D9E2B-D9FE-401F-8546-71B39C1D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24781-FB5F-482D-B1D7-C5EEE9A2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973-11B7-43EB-B97E-A7A95EA5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CDA28-A950-4C0A-B19E-EDC8E76E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B3F2D-E4C6-4088-AC4B-59DCCEA4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AB50D-EF3D-470C-92C5-AB073504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20A22-4C8B-4E86-B917-1D334041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369BE-1AC0-4F68-B27C-94368834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1ED-80ED-45EE-8E95-D5F7A854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5C39-FA5D-464C-90B0-672C7696000F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E1A9-348A-4CF1-BF2C-1D7BB47B2AC2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7F79-3333-4E66-854D-E370F7A518B0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3235-E8E6-4CFE-A939-8CB7C80B999E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E84E-7F7D-4E0F-AE55-16EC8ABED76B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9079-908C-4DA8-B5A3-0EF2B0A14C89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D79C-12D5-4F34-9386-8C11C94561C7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mailto:moycmarkovo@mail.ru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Заголовок 1"/>
          <p:cNvGrpSpPr/>
          <p:nvPr/>
        </p:nvGrpSpPr>
        <p:grpSpPr>
          <a:xfrm>
            <a:off x="817560" y="2590920"/>
            <a:ext cx="8551800" cy="1725480"/>
            <a:chOff x="817560" y="2590920"/>
            <a:chExt cx="8551800" cy="1725480"/>
          </a:xfrm>
        </p:grpSpPr>
        <p:pic>
          <p:nvPicPr>
            <p:cNvPr id="32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817560" y="2590920"/>
              <a:ext cx="855180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042920" y="2643120"/>
              <a:ext cx="810108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300" spc="-1" strike="noStrike">
                  <a:solidFill>
                    <a:srgbClr val="7030a0"/>
                  </a:solidFill>
                  <a:latin typeface="바탕"/>
                  <a:ea typeface="바탕"/>
                </a:rPr>
                <a:t>«Письмо третьекласснице 2118 года»</a:t>
              </a:r>
              <a:br>
                <a:rPr sz="4300"/>
              </a:b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642760" y="4071960"/>
            <a:ext cx="6286680" cy="2643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orbel"/>
              </a:rPr>
              <a:t>Автор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orbel"/>
              </a:rPr>
              <a:t>Константинова Ольга Евгеньевна,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orbel"/>
              </a:rPr>
              <a:t>обучающаяся 3б класса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orbel"/>
              </a:rPr>
              <a:t>МБОУ « Центр образования с.Марково»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orbel"/>
              </a:rPr>
              <a:t>Руководитель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orbel"/>
              </a:rPr>
              <a:t>Алтухова Алёна Васильевна,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orbel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orbel"/>
              </a:rPr>
              <a:t>МБОУ «Центр образования с.Марково»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2017 год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1487880" y="1413000"/>
            <a:ext cx="713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Corbel"/>
              </a:rPr>
              <a:t>Региональный конкурс творческих раб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Corbel"/>
              </a:rPr>
              <a:t>«Счастливые мгновения дет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4e6d"/>
                </a:solidFill>
                <a:latin typeface="Corbel"/>
              </a:rPr>
              <a:t>в рамках Одиннадцатых Окружных Керековских ч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0" y="-228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1265400" y="-15840"/>
            <a:ext cx="7878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f6fc6"/>
                </a:solidFill>
                <a:latin typeface="Corbel"/>
              </a:rPr>
              <a:t>Муниципальное бюджетное обще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f6fc6"/>
                </a:solidFill>
                <a:latin typeface="Corbel"/>
              </a:rPr>
              <a:t>«Центр образования села Марково»</a:t>
            </a:r>
            <a:r>
              <a:rPr b="0" lang="ru-RU" sz="1400" spc="-1" strike="noStrike">
                <a:solidFill>
                  <a:srgbClr val="0f6fc6"/>
                </a:solidFill>
                <a:latin typeface="Corbel"/>
              </a:rPr>
              <a:t> 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f6fc6"/>
                </a:solidFill>
                <a:uFillTx/>
                <a:latin typeface="Corbel"/>
              </a:rPr>
              <a:t>689530, Чукотский автономный округ, Анадырский район, с. Марково, ул. Берзина,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f6fc6"/>
                </a:solidFill>
                <a:uFillTx/>
                <a:latin typeface="Corbel"/>
              </a:rPr>
              <a:t>тел./факс  (8 427 32) 91-2-67; </a:t>
            </a:r>
            <a:r>
              <a:rPr b="0" lang="en-US" sz="1400" spc="-1" strike="noStrike" u="sng">
                <a:solidFill>
                  <a:srgbClr val="0f6fc6"/>
                </a:solidFill>
                <a:uFillTx/>
                <a:latin typeface="Gill Sans MT"/>
              </a:rPr>
              <a:t>E</a:t>
            </a:r>
            <a:r>
              <a:rPr b="0" lang="ru-RU" sz="1400" spc="-1" strike="noStrike" u="sng">
                <a:solidFill>
                  <a:srgbClr val="0f6fc6"/>
                </a:solidFill>
                <a:uFillTx/>
                <a:latin typeface="Corbel"/>
              </a:rPr>
              <a:t>-</a:t>
            </a:r>
            <a:r>
              <a:rPr b="0" lang="en-US" sz="1400" spc="-1" strike="noStrike" u="sng">
                <a:solidFill>
                  <a:srgbClr val="0f6fc6"/>
                </a:solidFill>
                <a:uFillTx/>
                <a:latin typeface="Gill Sans MT"/>
              </a:rPr>
              <a:t>mail</a:t>
            </a:r>
            <a:r>
              <a:rPr b="0" lang="ru-RU" sz="1400" spc="-1" strike="noStrike" u="sng">
                <a:solidFill>
                  <a:srgbClr val="0f6fc6"/>
                </a:solidFill>
                <a:uFillTx/>
                <a:latin typeface="Corbel"/>
              </a:rPr>
              <a:t>: </a:t>
            </a:r>
            <a:r>
              <a:rPr b="0" lang="ru-RU" sz="1400" spc="-1" strike="noStrike" u="sng">
                <a:solidFill>
                  <a:srgbClr val="e2d700"/>
                </a:solidFill>
                <a:uFillTx/>
                <a:latin typeface="Corbel"/>
                <a:hlinkClick r:id="rId2"/>
              </a:rPr>
              <a:t>moycmarkovo@mail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Прямоугольник 6" descr=""/>
          <p:cNvPicPr/>
          <p:nvPr/>
        </p:nvPicPr>
        <p:blipFill>
          <a:blip r:embed="rId3"/>
          <a:stretch/>
        </p:blipFill>
        <p:spPr>
          <a:xfrm>
            <a:off x="4065480" y="6345360"/>
            <a:ext cx="750960" cy="32364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35280" y="475920"/>
            <a:ext cx="35287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907b9"/>
                </a:solidFill>
                <a:latin typeface="Times New Roman"/>
                <a:ea typeface="Times New Roman"/>
              </a:rPr>
              <a:t>Здравствуй, незнакомая девочка  - третьеклассница из  далекого 2118 года!</a:t>
            </a:r>
            <a:endParaRPr b="0" lang="en-US" sz="3300" spc="-1" strike="noStrike">
              <a:solidFill>
                <a:srgbClr val="006b8d"/>
              </a:solidFill>
              <a:latin typeface="Corbel"/>
            </a:endParaRPr>
          </a:p>
        </p:txBody>
      </p:sp>
      <p:pic>
        <p:nvPicPr>
          <p:cNvPr id="334" name="Picture 2" descr="C:\Users\КирохомцеваАВ\Desktop\20150901_104747.jpg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8:58:23Z</dcterms:created>
  <dc:creator>ас-ПК</dc:creator>
  <dc:description/>
  <dc:language>en-US</dc:language>
  <cp:lastModifiedBy>dns</cp:lastModifiedBy>
  <dcterms:modified xsi:type="dcterms:W3CDTF">2019-12-25T14:05:20Z</dcterms:modified>
  <cp:revision>49</cp:revision>
  <dc:subject/>
  <dc:title>БЕЗДОМНЫЕ ЖИВОТНЫЕ – ПРОБЛЕМА БЕРИНГОВСКОГО</dc:title>
</cp:coreProperties>
</file>