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6D61-3A29-43A8-9885-1B181E31E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EC3E-1D22-484E-88D6-DA8D96C0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84E0-C4F7-46DF-80C5-6881DD8E9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E5F9-244E-492A-8B0F-C7ADAEBA2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65E70-D116-448C-BFCA-4D54CC517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3422-3F7E-4E1E-BF0F-FCABA4990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8E410-B9CB-430B-B98D-03F778A3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96AD-E4FA-426D-BD6B-A738FB3E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40CD1-8888-4E0E-9742-0BD3D07E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0F8D-04BC-4F26-AE1D-A0B6CF4C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DE5AF-D589-465E-89D5-5F79C469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2326-04FB-48AF-A184-F8CBE019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8FEC-C291-4695-98D4-C7282424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C309-EFBE-4F7A-8B17-539F38AF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9972-F9EC-4BD3-BFC9-862FD655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3CE22-CBE6-4322-B7B3-0F3F6FCB5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F135-C10B-4ED1-A833-9CEF1C72E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59BB3-FFBC-45C9-A275-E83412228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17779-390E-484F-89E5-41F05412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6CEA0-5CDF-4761-92A7-9BD156C4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DA957-F2EF-4819-AFB9-BB605DB1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F904F-D6E7-4355-BBA6-95273231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8F0F-2C8A-4F7E-9F0C-8C48055F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FB8D5-70AE-497D-8E8F-F2036242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C5977-653D-4EA4-A240-D76432BA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01D7B-DD7F-41B2-8ABF-7D9A93D1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46A96-4EDE-4585-9F90-8265DBDA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AC79D-B7AC-4B96-96CD-8BB22A75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2CC38-1CF8-4AC6-9267-681398045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0D2FF-F444-4FC1-A99D-8A04C187A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01DF3-E01B-45CD-ACE4-2ED782586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4DC72-8CFE-4109-B1B4-290ED334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F6F69-6B11-4A37-BA36-D1E131EA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5EA3-9E71-42B3-9859-EC4BD0BC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E9D49-6107-4B75-A311-CCBF3085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03DD5-1B4A-407E-8017-6B4453A0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84B0C-568B-430D-98EF-2E86BBFF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09256-04CF-41AA-8F54-9A7B5494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B8506-2F53-4597-8853-69E0C61F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52F9D-0435-400A-AEE0-2CEEFA4D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37EA6-EB52-42B8-82E7-6C23172F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EA37D-6DB1-4500-A3AD-68A6DA2E8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EA97C-EE20-40C4-8B86-0D082FC7A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E86D2-4929-4614-97B9-562ECC144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8F22-F6FE-4DFD-84A2-159B3E72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DEF74-4B11-49C5-A509-35E099E5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1243B-B930-4EED-8677-29077922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622A4-AB38-4DEB-BD27-B7106462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EDE72-C939-4A14-9557-6BB3625D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00D34-2C71-41B4-B435-7139DF45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51A50-EE6A-4389-8827-ACF27454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DB897-40A4-4EFF-A9BE-4B98B83F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4C4B3-72F5-4098-A4F2-F8792DC1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20BF3-769C-4B82-9367-5E338484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BD7EA-29F2-4D72-BEB4-10F3E82D4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BCAE-DED8-421D-880B-FF00CC86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70D10-C3DA-4D05-BD7E-EB34AE68F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1F136-FAD9-4176-B318-21AE76579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DABC2-9D07-46A2-B196-6D1D6D0D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3FF6C-26DE-44B9-BA17-03A08A32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74D2D-76FF-4DFB-B2D6-A8A187C9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43A82-C59B-48E7-8283-2179F7F7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60898-9D16-4B5B-9457-B7E67173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23A4C-5E81-4489-B1B9-D649315B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E3DCF-B59D-4FA1-AC17-CEF1EC1E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2BBF2-1884-46B5-A818-6F087C74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740F-3086-42D2-A682-69A8AB2A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A8EFB-0D1E-413A-B9EA-6F33FA34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D96AC-6FD8-4C9D-BC14-BFD60CCCA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49CD1-F4C6-498F-A202-45C4C9CDB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F725F-EDEC-4A38-8B0E-4E4BEAEA7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6FB3F-39F6-41D3-9BF7-7C5E4D7D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E4A1A-E05C-45DA-B795-6D9FCD87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6FBDE-FFA7-42A9-8377-B0E1DD6F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FCFF2-2691-4020-B0F0-35923FA9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6BFE7-0B20-4B6D-86EC-18829C3F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FEA6A-3107-48AD-8C8C-AD735D9C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7574-CEEB-44BE-B4A9-B336C9B7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F501F-7FC3-43E9-88BB-4710B767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9E34E-AD69-4EBF-9650-F2402C4A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CCFBF-50C4-41A6-A516-580B417A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87F7C-BA16-4167-B625-4AD80BDF2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71F92-41F1-4C25-B1BB-C8F39D9A2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CFAA-D578-40BD-A60A-CD23F1BC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7712-1110-4A41-A082-F0B0D9ECB792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0c61a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4E14-FD31-4BA9-B64B-953CA40545A8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0c61a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8DFF-186A-47A5-827E-C653CDF79A5F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E19A-7E0F-4DA6-8596-9921C184734B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C1FB-EDFA-4E00-8FE8-F147817C0206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60EA-AD98-40F8-B54F-326DC7CDFFE7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3f4fc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bf5f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9557-8D6E-4C17-B753-6034D457899E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95640" y="836280"/>
            <a:ext cx="26636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c00000"/>
                </a:solidFill>
                <a:latin typeface="Corbel"/>
              </a:rPr>
              <a:t>Мое Марково</a:t>
            </a:r>
            <a:endParaRPr b="0" lang="en-US" sz="3500" spc="-1" strike="noStrike">
              <a:solidFill>
                <a:srgbClr val="006b8d"/>
              </a:solidFill>
              <a:latin typeface="Corbel"/>
            </a:endParaRPr>
          </a:p>
        </p:txBody>
      </p:sp>
      <p:pic>
        <p:nvPicPr>
          <p:cNvPr id="319" name="Picture 3" descr="G:\АЛЕНЕ\Поделки, рисунки\Моё Марково.jpg"/>
          <p:cNvPicPr/>
          <p:nvPr/>
        </p:nvPicPr>
        <p:blipFill>
          <a:blip r:embed="rId1"/>
          <a:stretch/>
        </p:blipFill>
        <p:spPr>
          <a:xfrm>
            <a:off x="963720" y="-79200"/>
            <a:ext cx="4333680" cy="3193920"/>
          </a:xfrm>
          <a:prstGeom prst="rect">
            <a:avLst/>
          </a:prstGeom>
          <a:ln w="0">
            <a:noFill/>
          </a:ln>
        </p:spPr>
      </p:pic>
      <p:sp>
        <p:nvSpPr>
          <p:cNvPr id="320" name="Заголовок 1"/>
          <p:cNvSpPr/>
          <p:nvPr/>
        </p:nvSpPr>
        <p:spPr>
          <a:xfrm>
            <a:off x="1258920" y="4005360"/>
            <a:ext cx="266544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 выборах Президента</a:t>
            </a:r>
            <a:br>
              <a:rPr sz="3500"/>
            </a:br>
            <a:r>
              <a:rPr b="1" lang="ru-RU" sz="3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2018 год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" descr="G:\АЛЕНЕ\Поделки, рисунки\Голосуй со мной.jpg"/>
          <p:cNvPicPr/>
          <p:nvPr/>
        </p:nvPicPr>
        <p:blipFill>
          <a:blip r:embed="rId2"/>
          <a:stretch/>
        </p:blipFill>
        <p:spPr>
          <a:xfrm>
            <a:off x="4206960" y="3376440"/>
            <a:ext cx="488160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8:58:23Z</dcterms:created>
  <dc:creator>ас-ПК</dc:creator>
  <dc:description/>
  <dc:language>en-US</dc:language>
  <cp:lastModifiedBy>dns</cp:lastModifiedBy>
  <dcterms:modified xsi:type="dcterms:W3CDTF">2019-12-25T14:07:25Z</dcterms:modified>
  <cp:revision>50</cp:revision>
  <dc:subject/>
  <dc:title>БЕЗДОМНЫЕ ЖИВОТНЫЕ – ПРОБЛЕМА БЕРИНГОВСКОГО</dc:title>
</cp:coreProperties>
</file>