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A4E-6DBF-4CE9-AB5A-CC98333C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E06-E3A9-44D2-B082-BAEB749B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78C-9DBB-4D53-A370-0C5B1392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803-DEBE-483B-9340-841B1D01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786-4839-470C-9FE5-DEEEBAB5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BEF-5767-454C-8988-6D275A90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B6E2-FBBB-43A5-BD02-5E32F44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1EF9-86C7-4499-8BE2-464B78F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B494-CFAB-4D95-8C64-C822F37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DCF9-3359-4EA5-828C-14C0397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B39-DC19-4147-85A6-9B08946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5CA-7E21-4109-BB62-9EBB00A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3FAE-E3A0-4FB2-81C3-57FE9F93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43C-F75B-4D0E-87DD-C03296E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110-2479-4B75-BBE9-6793BAD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3C9-EF01-4994-A741-F150AD30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609-DDD9-43EA-B5C5-9FB05D24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2570-4979-4EAA-873F-58DEC33F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0FAB-883B-42DE-9BEA-CF29F032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756D-13A6-4F1E-A813-C277D72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D851-3B4E-499F-9FB9-D75ACDE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1CEB-685F-44F1-A5E6-EE9C3586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4CC-A19C-4FF2-991C-2C65F3D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7CFF-CEF3-4B6B-B6DB-2C53B791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C900-D5D2-435B-B277-2FE9F6B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98C4-864C-4FC1-AA95-F53EF47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169B-ADC1-4607-9CE3-AB28ED3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3140-68E7-4700-A11A-407EAB9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7F42-D1BD-4244-A645-237BB54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A278-3BA9-4A45-BB40-A239B958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2F4F-72AB-462F-91AA-734EA6E8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8E08-7F96-4613-BF86-0F43A62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0BC9-C316-42B9-A6F0-230E435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51E-0602-4B42-B501-A05FA7B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3308-0237-4485-8A5E-F948D9F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A1FD-A340-4177-9783-EBFDF203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BC6C-65BD-4435-8907-4B2ABAF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C798-1C45-497A-94E7-5FE2BED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4046-0A5F-45AC-9057-415E9EA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BC13-C6E3-4C53-A24F-52CA8525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D9F5-6CB6-4A5C-8049-841F5F9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F049-623A-4358-BE4B-191D198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1A84-1AEC-4E98-A3BE-574699B1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1838-701C-41D8-B07B-FBBDA26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105-0F8F-44A9-AB55-FE48E8B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E432-F400-45FE-ACD7-816801E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BE770-6660-4C1D-991C-3B7AD97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1E62-9CB1-4FE2-9ECE-0630D61D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3EAA-0814-4BD0-8325-FE0D376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36EC-EA61-4B71-883B-CBC5E28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5F55-9C6F-4969-A574-9BC832E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3F7F-37D1-4F3F-A5BB-94D7341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74D9-B0E1-4ED7-B9E5-0D79DB7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4B36-02C9-4BBD-9E85-7CA88D7A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E936-0911-4FDB-A66E-EA229110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466-7C0F-4438-BAB6-7A972FB4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233D-DAB2-4FEA-BF82-AF38EC0A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951C-8096-4E89-B539-8848C1DC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3785-AA7E-4DC5-8944-CD4B58E4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EE6D9-38F7-486B-B3C9-DE42FB9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C610-273A-4021-8B82-1937592F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6948-6E99-451D-829B-E978740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945D-ADE8-45F2-BD3E-0C38670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912C-84B5-4E9A-A28B-3AF0B48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1180-4AB5-47B1-8A50-24FF0B8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7320-AB3D-4E9C-A071-32D733A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F2A-BC33-4D94-AEB9-1FD8773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99306-FC77-492D-B0DA-83FEDD70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2021-2C41-4EFE-997D-52FF6098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5336-0476-4FA0-8BF5-65BC936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C29A8-3BE9-43DE-A91E-16C7A2A2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7F83-6856-407B-ACFB-4A61AD6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B692A-42B2-441D-A12B-3C6B4E5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F98B-ECB9-49AD-AA65-C671A3C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AC36-EDF9-40BE-90BB-2151ED4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7E47E-E82F-4D0A-A2EB-CD7E9F9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9772-881A-45BC-B660-6F6078B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B24-66F1-482B-A23F-358624F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69DD-1CA1-43DE-AFB1-B729506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CA8C-FE1B-487C-8790-EBB0765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BC74-814A-4044-8B0F-90A3EAE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E01C-B1F4-4ECC-83F3-372A6A7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2D13-14F9-4655-A5EC-ED9E154D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4C3-9737-44B6-9573-C24E9FA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FE8-1DCB-4AD5-8C5C-10789956103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624-1FBD-40ED-BB49-C75F317E749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452-1579-4EC7-B51A-953C6C03FF6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38B8-40F0-4F13-BDC8-68FB5E1AB1F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2D6-2A09-4835-B66B-7E76A8DC6A2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69FD-7B41-4280-A3D4-40E08B788CC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C914-D39B-4799-80FF-A1190713821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Моя семья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4" descr="G:\АЛЕНЕ\семья\20150901_121343.jpg"/>
          <p:cNvPicPr/>
          <p:nvPr/>
        </p:nvPicPr>
        <p:blipFill>
          <a:blip r:embed="rId1"/>
          <a:stretch/>
        </p:blipFill>
        <p:spPr>
          <a:xfrm>
            <a:off x="1011240" y="1311120"/>
            <a:ext cx="3664080" cy="452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G:\АЛЕНЕ\семья\20150901_104140.jpg"/>
          <p:cNvPicPr/>
          <p:nvPr/>
        </p:nvPicPr>
        <p:blipFill>
          <a:blip r:embed="rId2"/>
          <a:stretch/>
        </p:blipFill>
        <p:spPr>
          <a:xfrm>
            <a:off x="5114880" y="1384200"/>
            <a:ext cx="3767040" cy="444996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6" descr=""/>
          <p:cNvPicPr/>
          <p:nvPr/>
        </p:nvPicPr>
        <p:blipFill>
          <a:blip r:embed="rId3"/>
          <a:stretch/>
        </p:blipFill>
        <p:spPr>
          <a:xfrm>
            <a:off x="1579680" y="5973840"/>
            <a:ext cx="2784240" cy="4507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7" descr=""/>
          <p:cNvPicPr/>
          <p:nvPr/>
        </p:nvPicPr>
        <p:blipFill>
          <a:blip r:embed="rId4"/>
          <a:stretch/>
        </p:blipFill>
        <p:spPr>
          <a:xfrm>
            <a:off x="5662440" y="5973840"/>
            <a:ext cx="24512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08:14Z</dcterms:modified>
  <cp:revision>49</cp:revision>
  <dc:subject/>
  <dc:title>БЕЗДОМНЫЕ ЖИВОТНЫЕ – ПРОБЛЕМА БЕРИНГОВСКОГО</dc:title>
</cp:coreProperties>
</file>