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B81-955A-427A-8C15-2C9A216F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D9E-E423-43CA-9892-2B53EE19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1C5-10C0-49EA-9A68-2EF71BD6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CD6-FFD7-4AB5-8538-FACA6DBE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5D4C-8361-4E49-AEC0-CB4327C5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026B-B674-413F-A0E1-4D9FB9E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6F8-6E54-49C3-B515-F71F494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E2DA-23FD-4AF4-8F01-BA99805F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5474-5F8B-41DB-8A76-23CC743D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2F34-AE3A-46E9-A2A7-63336ABB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5211-F3DE-4DE5-912D-EC5095D1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169-2B59-46A0-9C03-DA60E1F6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DE16-2497-4414-B36E-E0AC14B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2402-0FB2-4D6B-B3E1-C0CEF10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65D8-BAEB-4E1B-9AEA-7C4D40DB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63AA-39F5-464F-9008-0F2ED939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1433-805A-4417-83FF-FA3C1555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B062-207D-413B-98DA-5240C9F1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73FD-F109-457F-B83A-65C08CA5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B9F49-138E-4E78-90B1-A401E4F2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E8D8-655D-4293-BAC6-8F7D1133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0217-1001-4EB8-A755-41F2428A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B6C-8A7F-438F-860A-461CA48D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00FE-C096-4BD0-9C42-4C1A4593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F24E4-5DD6-4A2B-98C1-9308853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D38A-5A58-4F40-8078-57BAC787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E8CB-EF95-44F9-A2BA-A66D70C2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A2AA-B14E-4739-91F6-E3A25C37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2068-1845-4A01-B424-79ABA143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01ED-1146-46B6-A1BF-47DDA0F5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25ABB-D261-4471-95C7-4BDDB4D3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A7198-DE95-4C6F-B8E2-0E35028A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A2E6-00C6-48EC-A37B-FCB2682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021-8135-4A01-B8C1-8125D341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372CD-3038-406E-9D16-0BC08B2C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B97F0-AB9F-4442-984F-6F90098F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08A8-93CA-4C02-8F02-F8589ADE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2767-5B95-4AB0-8D6C-D3D61E4B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8D477-86A4-4865-8E71-8590D8F3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0131C-9DBE-4A28-8E12-CC4583E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42AB4-C6F7-4545-8A3C-F153034A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C39E-B8DC-442F-A182-218528D7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2188-1C59-4196-897C-2E26D2DB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F9FD9-F278-46FB-9A72-A8C96847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534-0E32-47CB-95CA-D9CA507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FC4E6-2F49-493D-B8CF-743E5E90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C500-93F7-4DC0-8120-62274DB6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30408-29CE-4BB7-89E6-0D7B422F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51341-1286-483C-9C06-0E7DEC18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0979A-7588-4842-969C-0AF38222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2D858-2A57-47D6-A5EE-72D0909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EA6E-DAAB-4AE0-81E0-8F1A5A3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7AED-4708-4D5C-9BAE-A654D675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E0CF-8C4C-486A-AE1C-77263CF3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09350-9F69-4534-AE97-BB156FE8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26B-4B8C-4353-AD99-D9F81D11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64476-127E-4314-AA82-A4FC66D1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47D17-AC16-4D83-8499-4FEEFEE5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354C-91ED-43D4-997F-A17101C5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3ED30-3EC9-42B5-B37A-360A8AFA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DBB8F-60E9-4E05-BF10-F060065E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F905-E0EB-4D65-9479-D7C230CA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1FCD-616C-4202-8470-138D5F72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8BEBD-B4D4-4036-9353-9AA73432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B32A2-FAAE-4DEA-80DE-CCF422FE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02604-583A-44D0-BB76-DD51E33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BB6-3EF7-4B1E-8AC7-52043C68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1B8CC-4B49-498D-BC71-C27A6347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7AD9E-5608-4E5C-811F-68B18CE8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B8854-1B7C-491A-AB36-40D65BFE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473F5-C3A2-4ADA-89D3-97431237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EC4D6-496D-4208-B2DF-86A01C8E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63C45-B1A2-4545-AA03-1F82FD13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AAA3E-5C50-4497-8905-AE64F15A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5C072-8641-4292-AAF8-1EBC1FED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1EF5A-944F-4EA3-ADB1-A4745083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F5C3-A371-46D4-9BBB-F03FDA4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EF6-A74C-4C03-8C2E-526E9A2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8012-A8CC-42C9-A130-2C96E7BC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22E05-B63D-4F95-A56A-84C98965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5D557-223E-4CE4-9F49-6D3C4E38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3C469-DAA3-4CCC-B9D0-52C9A194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28CF-AB77-45E7-AFCC-404EDA1B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1DE-28DF-48E3-B81A-6D11F67E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30FA-659B-4BD0-8A58-F01EC52141E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69A3-D679-43C5-AE35-A41D0EC57FB6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A9F8-59AA-40AC-8B32-F73ACB529381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9A41-EE64-4D78-BC0C-EAD0DEF0FDE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B17F-FB86-4D48-A727-F004DF86D0F5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166-2C34-4C6C-A434-1F0EDC954B9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0BA0-770D-4CE0-BE8C-B8714B5173A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3672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Моя любимая школа </a:t>
            </a:r>
            <a:br>
              <a:rPr sz="4300"/>
            </a:b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и класс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19" name="Picture 2" descr="C:\Users\КирохомцеваАВ\Desktop\фото А.В\Марковская школа.JPG"/>
          <p:cNvPicPr/>
          <p:nvPr/>
        </p:nvPicPr>
        <p:blipFill>
          <a:blip r:embed="rId1"/>
          <a:stretch/>
        </p:blipFill>
        <p:spPr>
          <a:xfrm>
            <a:off x="5278320" y="-79200"/>
            <a:ext cx="3957840" cy="3236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C:\Users\КирохомцеваАВ\Desktop\фото 3 б\IMG_20180307_112523.jpg"/>
          <p:cNvPicPr/>
          <p:nvPr/>
        </p:nvPicPr>
        <p:blipFill>
          <a:blip r:embed="rId2"/>
          <a:stretch/>
        </p:blipFill>
        <p:spPr>
          <a:xfrm>
            <a:off x="1036800" y="3352680"/>
            <a:ext cx="5357520" cy="344988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6" descr=""/>
          <p:cNvPicPr/>
          <p:nvPr/>
        </p:nvPicPr>
        <p:blipFill>
          <a:blip r:embed="rId3"/>
          <a:stretch/>
        </p:blipFill>
        <p:spPr>
          <a:xfrm>
            <a:off x="6589800" y="5973840"/>
            <a:ext cx="133488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09:17Z</dcterms:modified>
  <cp:revision>49</cp:revision>
  <dc:subject/>
  <dc:title>БЕЗДОМНЫЕ ЖИВОТНЫЕ – ПРОБЛЕМА БЕРИНГОВСКОГО</dc:title>
</cp:coreProperties>
</file>