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8097-1CA3-42B5-8C89-B5440D61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325A-1BF3-429F-A837-2FF0F18B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B72C-0704-4210-A579-6DAEC892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CB86-E2CD-4CF0-A5C3-1A9C77CC0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B676-082D-4B95-82E0-B9DCF9EE8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710B-ABD1-46AF-ADB7-FD566563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59CB-3C79-4E8E-8EC1-04FA5E87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5065-3FAF-43D4-B66D-B4D2DE25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4F4B-570E-4ABC-B40A-817F14F9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4A00-076E-4B10-8ADD-287A18C5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1A85-E1D0-4143-A212-4FB94AE1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E93D-5E30-47F8-B13A-1B0506E3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4680-07CB-4647-852A-D238BF7E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3493-56AC-4DB1-B867-37AFFD73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F543-726A-4A61-AB8D-4C60783B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BE29-19F8-45CA-A92F-8B9DA50A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940D-9F77-4849-97A0-D318149F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38854-B88A-476C-A34F-DCBEB35B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93839-23E0-4FC2-B789-0D4293E8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EB1D6-C6A7-4823-B204-F975E9F6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7E559-CD1A-4108-9A5B-9FF4B3A6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BB381-A33D-4D70-BD87-B48FBAC8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D4BA-1921-4CCD-A7D4-82104762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61C64-3268-459F-BDC7-0AA5069A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05D04-9B28-47E0-A3FF-AEA89E48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4CFE3-2CCB-456E-8ADF-2B4DDF17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C869F-FA93-4C4E-846B-9B994469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EE438-53A7-4A86-BA0D-F47F6B5E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C38AE-6BD7-468C-90A7-77EF6247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D65EF-BC3B-4517-AE2E-550614C8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2DA29-7A61-47A4-AED3-1A6D2883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FD047-9906-4280-86A5-5D29FB4B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579FD-1052-420B-AFF9-52B8979A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1289-81CF-4F92-AA37-3860F32C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029DB-F04D-488F-9D49-1B8D5904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3AF29-DD45-40DE-BE47-BA24B499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D1BA7-03D8-4CCC-BCF3-0AF1CFD1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79D50-A16D-4D02-A7C0-77B262AD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92D1D-A7B4-4E36-BEF2-1AA54B68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54AB8-46F0-4301-8784-0638576F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41FEC-A6F9-46B2-9A18-42843258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9647B-767C-4E52-BE9D-7239A697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D4FFF-DAE9-4F92-9418-0CF0A273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B346D-0662-461E-852D-6479CFFB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8862-79AD-475A-8BF6-415332A1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F25FE-CF21-487D-B186-BE437507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F0070-1FB9-403B-AFF6-14559633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7626D-4208-4D01-8DD1-A33290E6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57647-5968-401C-97E2-99B964C9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DB5BC-C5B7-41FB-A37C-FF34174F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6B99A-6B85-4470-A8B7-4CFC3DFC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AD26B-DC83-4F70-B7EE-56518986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6F9E1-ACD8-44FE-A9FA-EF8551C3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C85BE-BACE-4964-9883-536AF184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349B7-C1F6-4321-ACDA-D90E8B67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2766-175D-455E-BA39-A20C21BC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51B17-051C-4433-B90D-B174E689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CAE6D-7ED4-4A17-AE42-7BEB7246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61E82-7469-426C-827A-20462C38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8C27A-D7F1-486F-8BAD-C17EE9C5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DA52B-C605-453C-A5B3-89D88BB7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B7241-7AA0-495E-8C98-0E5E18A0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2C146-272C-4631-A825-6085F86A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EB803-D2C0-4406-BFAE-9B5ECDA8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B7CB6-FC09-4B36-8509-E53C220B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0E724-F970-4703-A651-D4134A68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28A3-55E5-4513-8BB2-B0A765E6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D95BA-B0E6-472C-ADB9-D97E97B8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22A47-6D44-4F02-B9C5-9349F6E0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16464-1C49-4CAF-9A1F-41F10991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C65FF-6A89-46B3-A83A-80608C0C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7CEAE-FA5A-4757-BE0D-52467A75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14154-948C-42BC-880E-1A3E868E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B02C2-5A3F-485F-9D51-C3E5EE16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64C5B-7BF5-4E71-B665-7C35CD3C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E1629-1855-4945-A72A-32B08B80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52AE5-79B5-4272-9A2A-D01EE8B5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D000-438B-407D-8177-4200ADF9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3B9F8-39BD-4FC3-A7BD-AF643FB6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9AD93-9AB4-4031-B42D-FB242C2E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1081F-7202-4278-82C1-84485312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E4819-8378-4BDF-A571-07F3B6423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D636F-4E94-4A93-A8F4-2B900EEF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8293-7237-497D-BFC3-346B446C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56A2-E960-44C9-92A5-FA8F5E9C92B6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9B82-E32A-4D42-A321-1F4C5EF6690F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A723-9C4A-401D-8242-46CBB3AB88E3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0526-E4FC-46FC-9464-8B31FA5C0E32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9828-AE53-4EC8-A13C-0A4C2D94E811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5F0E-00C8-49D1-A411-464328153B52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3f4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bf5f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8C0F-577C-420C-B732-DE91195466CC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92720" y="188640"/>
            <a:ext cx="172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Corbel"/>
              </a:rPr>
              <a:t>Мои друзья</a:t>
            </a:r>
            <a:endParaRPr b="0" lang="en-US" sz="3900" spc="-1" strike="noStrike">
              <a:solidFill>
                <a:srgbClr val="006b8d"/>
              </a:solidFill>
              <a:latin typeface="Corbel"/>
            </a:endParaRPr>
          </a:p>
        </p:txBody>
      </p:sp>
      <p:pic>
        <p:nvPicPr>
          <p:cNvPr id="319" name="Picture 5" descr="G:\АЛЕНЕ\Поделки, рисунки\С друзьями.jpg"/>
          <p:cNvPicPr/>
          <p:nvPr/>
        </p:nvPicPr>
        <p:blipFill>
          <a:blip r:embed="rId1"/>
          <a:stretch/>
        </p:blipFill>
        <p:spPr>
          <a:xfrm>
            <a:off x="963720" y="-85680"/>
            <a:ext cx="5138640" cy="36766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G:\АЛЕНЕ\с друзьями\20170915_150205.jpg"/>
          <p:cNvPicPr/>
          <p:nvPr/>
        </p:nvPicPr>
        <p:blipFill>
          <a:blip r:embed="rId2"/>
          <a:stretch/>
        </p:blipFill>
        <p:spPr>
          <a:xfrm>
            <a:off x="963720" y="5005440"/>
            <a:ext cx="2693880" cy="18097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G:\АЛЕНЕ\с друзьями\20170104_151800.jpg"/>
          <p:cNvPicPr/>
          <p:nvPr/>
        </p:nvPicPr>
        <p:blipFill>
          <a:blip r:embed="rId3"/>
          <a:stretch/>
        </p:blipFill>
        <p:spPr>
          <a:xfrm>
            <a:off x="3773520" y="3638520"/>
            <a:ext cx="3517920" cy="23288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G:\АЛЕНЕ\с друзьями\DSC_0059.JPG"/>
          <p:cNvPicPr/>
          <p:nvPr/>
        </p:nvPicPr>
        <p:blipFill>
          <a:blip r:embed="rId4"/>
          <a:stretch/>
        </p:blipFill>
        <p:spPr>
          <a:xfrm>
            <a:off x="6284880" y="1768320"/>
            <a:ext cx="270036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8:58:23Z</dcterms:created>
  <dc:creator>ас-ПК</dc:creator>
  <dc:description/>
  <dc:language>en-US</dc:language>
  <cp:lastModifiedBy>dns</cp:lastModifiedBy>
  <dcterms:modified xsi:type="dcterms:W3CDTF">2019-12-25T14:10:01Z</dcterms:modified>
  <cp:revision>49</cp:revision>
  <dc:subject/>
  <dc:title>БЕЗДОМНЫЕ ЖИВОТНЫЕ – ПРОБЛЕМА БЕРИНГОВСКОГО</dc:title>
</cp:coreProperties>
</file>