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517-3519-47BB-9012-7061F17A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085-8D60-4134-9F66-3C8CB94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0FA-B558-4346-99FE-B3C320F6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E8B-D2C3-4319-9B12-53AAB72C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75C-6D40-479E-8BED-EEF92FAD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9C36-DA15-4178-A239-8BD054F8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00D1-04E6-4EC3-9BB2-65D07DFF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99CD-23C0-4426-89FE-80BBD8F2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1DB-A108-44FF-8178-54CD5E56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561D-23BA-4501-B776-F9402AC9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421A-32FD-430C-B79F-48CCA03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378-D027-4EC8-AC50-9F2F54EE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B84C-DFB4-4587-A861-FF5A160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0D0F-916A-49E2-8333-4973942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BAE-C827-4F1C-9B90-2CEA542C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D016-BB35-4AF4-8DF7-12C98FE4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423C-B55F-4E18-BFC0-0D6A8328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47AC-6AA0-41B6-8A15-55459E2F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B744-964F-4EA3-A9CD-DF7BC946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8F38-2C1C-4632-AF2F-43A2EE2D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3C8C-39B3-44B3-BE93-5E72759E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E37D-4011-47ED-9B27-13CDB6A3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CB1-CB80-47FE-868D-49599DAB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8673-3143-4C44-9AAC-6440069D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40AA-6E86-4820-AD26-5EA1780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6BEE-A774-45B8-9576-D44E8BE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36E4-1FF7-4293-B271-F38031C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A81A-A4B2-44E1-9025-A6A30FE7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2C61-FB90-45EF-80D7-9A49887E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A022-146E-4925-B88E-587360F8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554F-EE74-4A46-8D15-529E3CB7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E1DC-277E-4479-9EC6-37E2A0E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EF0D-D739-4024-A7CE-B9EDF0B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38-FF63-4C93-ACA3-529D0BED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CCE9-EDD0-405C-B41C-D57A2D9A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5054-3E75-4934-B38E-6814A8F2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9C40-575E-4361-84D6-F7D018D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0475-0243-4AD4-B387-C28B75A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8456-B39C-4C98-BCAF-0F111EE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CD25-539B-4512-A9EF-FA324FB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33C8-BB77-4A73-8B41-DD8E354C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47DB-1CA0-4231-9FEE-C7AD62C6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D47B-D1C7-4610-A120-D1EA79A5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68EF-76CA-4B40-9623-6A2B833E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6E3-C798-449F-A36C-BB30719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999D-5431-4F9A-A80D-C9F0823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5363-6D45-4EB6-87BE-FE5A4B9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C892E-8663-4B8F-A89C-57CE173D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9C0F-9C60-4C5F-9F31-1F53347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CABF-C9A7-4ADA-9158-054B2513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8398-B5D9-47DD-BEC5-38305A7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D8CB-4949-40A7-9541-11EF37C6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B226-E01A-4972-8733-5432F0D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FE05-AAF9-4A84-80C3-1EF90B2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34B6-E086-439F-9B6F-3128FCA4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F9D-9859-4D85-9746-0F2B3B0F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26B8-690D-48FC-B343-4A52105A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BB882-16EE-4084-BEC8-488BD1DA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86488-3CAB-4985-9C8C-8CEA129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BEE8-D265-4419-93BB-CD54032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5910-2363-45E6-AA66-5B9384DB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FF14-5E2D-47F8-A166-5550B7AD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A012C-B014-486F-8DAD-8EBAA817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5DE3-C1A8-4D9D-9213-4AF40BF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38144-EE79-42D9-8ADB-6DED2C7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3F95-0137-49D8-83BE-8900C95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3F5-D677-4832-969C-3F342B7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4EAB-8E75-4A14-9B2F-9B6C6F2B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4FD6-9D04-40D9-8942-C70C5B2E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7E3C-6C28-49B0-AB39-797EEA2D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3CA83-9FC9-4BDA-9B36-47A16F1B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75B2-10EE-484A-9444-5C3F5962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412A-276E-4E3C-836E-1F29402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98DCF-4804-4932-9CDD-4187FFC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30898-6ED6-4C79-9BE3-318D5CB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D16EA-F380-45F1-A477-74E1CBC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DD731-0626-4F7C-BED8-BF6688E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092-E0DD-4E37-B647-789C993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D4B44-7DB9-4F36-949D-0665A29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0994-A18E-4112-BCC4-E620CD4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4832-2920-43AD-94F0-3C1620E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801A-335F-49F4-A0DF-C87259CC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A8C8-092E-4D35-88E4-33CB12CA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31C-E98E-4AEA-BD43-7DD7D15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517E-E3F6-4E28-BB7D-B9D3C2BF975B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C429-9492-4F30-AC7B-9FA193FB4C6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837C-0F7A-409D-86F4-47F8D8832EC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CAD-1D88-4936-A41D-DC591B7519D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6FE0-B66D-45EF-9AFB-3853890A124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5A9-4F73-48DA-A1DE-CB9F9745CC64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7363-772A-449C-86FC-BB5D7AEA0F3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C:\Users\КирохомцеваАВ\Desktop\Спорт К О\20170915_151941.jpg"/>
          <p:cNvPicPr/>
          <p:nvPr/>
        </p:nvPicPr>
        <p:blipFill>
          <a:blip r:embed="rId1"/>
          <a:stretch/>
        </p:blipFill>
        <p:spPr>
          <a:xfrm>
            <a:off x="963720" y="4218120"/>
            <a:ext cx="4619520" cy="2732040"/>
          </a:xfrm>
          <a:prstGeom prst="rect">
            <a:avLst/>
          </a:prstGeom>
          <a:ln w="0">
            <a:noFill/>
          </a:ln>
        </p:spPr>
      </p:pic>
      <p:sp>
        <p:nvSpPr>
          <p:cNvPr id="319" name="Заголовок 1"/>
          <p:cNvSpPr/>
          <p:nvPr/>
        </p:nvSpPr>
        <p:spPr>
          <a:xfrm>
            <a:off x="1619280" y="-24300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Мои увлечени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Прямоугольник 7" descr=""/>
          <p:cNvPicPr/>
          <p:nvPr/>
        </p:nvPicPr>
        <p:blipFill>
          <a:blip r:embed="rId2"/>
          <a:stretch/>
        </p:blipFill>
        <p:spPr>
          <a:xfrm>
            <a:off x="5389560" y="4950000"/>
            <a:ext cx="124308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G:\АЛЕНЕ\Отпуск\20170713_140432.jpg"/>
          <p:cNvPicPr/>
          <p:nvPr/>
        </p:nvPicPr>
        <p:blipFill>
          <a:blip r:embed="rId3"/>
          <a:stretch/>
        </p:blipFill>
        <p:spPr>
          <a:xfrm>
            <a:off x="5492880" y="590400"/>
            <a:ext cx="3754440" cy="2847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G:\АЛЕНЕ\Отпуск\20170730_153348.jpg"/>
          <p:cNvPicPr/>
          <p:nvPr/>
        </p:nvPicPr>
        <p:blipFill>
          <a:blip r:embed="rId4"/>
          <a:stretch/>
        </p:blipFill>
        <p:spPr>
          <a:xfrm>
            <a:off x="1011240" y="517680"/>
            <a:ext cx="2798640" cy="3663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C:\Users\КирохомцеваАВ\Desktop\IMG_20180104_153319.jpg"/>
          <p:cNvPicPr/>
          <p:nvPr/>
        </p:nvPicPr>
        <p:blipFill>
          <a:blip r:embed="rId5"/>
          <a:stretch/>
        </p:blipFill>
        <p:spPr>
          <a:xfrm>
            <a:off x="6473880" y="3608280"/>
            <a:ext cx="2755800" cy="33418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1" descr=""/>
          <p:cNvPicPr/>
          <p:nvPr/>
        </p:nvPicPr>
        <p:blipFill>
          <a:blip r:embed="rId6"/>
          <a:stretch/>
        </p:blipFill>
        <p:spPr>
          <a:xfrm>
            <a:off x="4022640" y="1706400"/>
            <a:ext cx="13906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0:56Z</dcterms:modified>
  <cp:revision>49</cp:revision>
  <dc:subject/>
  <dc:title>БЕЗДОМНЫЕ ЖИВОТНЫЕ – ПРОБЛЕМА БЕРИНГОВСКОГО</dc:title>
</cp:coreProperties>
</file>