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B85-6838-4332-BFA7-00282C9F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6E1-C2D6-4037-B924-87471790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E37-980F-4B54-8DB1-C1043515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277-1248-440E-AA48-F38B5261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3AF-EAD2-48D1-A1D6-2B75B93C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900-5C29-4E32-86E6-B9A6B0B6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56F-4C12-4163-AD20-E579766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CB4-C8F4-4433-978E-254CB2B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BD4F-A520-43C1-882D-280DF8B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01E-3132-487B-85B6-0C528C13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63C-BAC6-4D36-A99F-A27346C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916-20E2-4566-9957-B3DB0D35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A003-E12F-4B81-91EF-5C94110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005-44E8-4571-AA5C-1EEC6DE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6726-5BB1-49C3-925E-2587754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A829-B1BB-4B9E-BADA-693B0921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14E2-44C6-4837-949E-6051710F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FD11-883A-4627-BA99-3D37B5F8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9EEE-B17D-4294-87AF-9E7E6063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2B99-1A5C-4B37-A8C4-BDA2683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2FFE-E2A3-48A1-AD8E-6ADF6F9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3BBB-2EA1-4B28-A644-505A6958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36B-D420-494C-8DC1-A66C1D4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8130-D9B1-4883-8734-D6D953E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DAFA-5E45-45B2-9641-2570AB0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5D28-E16C-4757-BCAA-7F095E0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D244-DADE-4FE7-8421-1665125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AC46-B99E-4532-9519-781A1A0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061F-04A7-48DF-8843-494B9C42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DDCF-E9FC-49C3-A485-657D6C57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818C-BAC0-4E6B-9A8D-9DC6DCA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FF91-E249-4569-BB04-25314D0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29C7-F539-4599-968A-12A17A9F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17C-A715-48DE-BE22-DBAFB1FA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2EE2-3587-476C-9E53-AE5F7FD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5F53-56F5-406F-8FEF-AC288454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0D07-178A-4AC3-B653-D081B91B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40F1-B00D-4032-B446-B242051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8662-BD4F-445C-9128-7FDC42F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6CFA-1FF2-4027-8447-F8E3C5D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F75C-8219-48E4-AD06-A1A14B2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B5D2-180E-471C-9ABD-D6ADB4FC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62CC-D91A-4070-AE3A-1C9E2903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74C4-0A11-4581-86A9-D164723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E1A-D965-4575-8C30-A74DEFC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0290-0601-4C6E-A67C-39236BA5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47F1-7706-4886-A185-965DCB1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61E8-72CA-402E-A66B-F09AD565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E4843-2AF0-4CD3-9CCF-AACABA4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4C5D9-C46B-4E69-A618-0267A8B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8062-3D7D-453E-BD16-B1FA9AF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7AC0-F1C8-4D21-9130-3F32CDA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6391-37B8-49FB-809E-5FA093F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AF53-DFD7-4F93-8F8B-4B3F8586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D2CA-8006-4AB1-9A6B-607071C6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705-8E69-4495-91C7-428B7F4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035C-C48D-46A5-A969-BCD65737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F121-15A2-42DB-A7E8-9FD468F8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F29A-A7D6-41CF-AB88-332800B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B55B-6641-457D-8EDF-DBBCED6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935B-8484-4FAA-BD83-C0168C2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1070-5E1D-4133-8AD7-38665A3A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E960-6C46-4036-B0FC-9DD05680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2496-91C2-4842-B9A6-B5D8324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F534-A225-4C64-9A9F-6433688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D994-B1FA-42C9-906F-D68A43F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A53-F286-4C4F-9423-63961CD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6AD6-C653-4832-B9BC-2644F59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0EA1E-2E48-435F-B4AF-1EDCA077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9D76-9EB2-4418-8DFD-3CC82EF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ED1B-D7B5-4571-AA52-F8740BFA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A3CFD-A807-4A31-B519-71F49C0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D0BE-084D-417B-B48D-6C04177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F035-1CB9-454D-BE4A-BC2F685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02FFB-8D4C-406A-996C-B6AEE99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4D59-741F-40BF-88C6-F7EA5677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71D1-A911-488D-83C6-EE302F8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4ED-6006-4C4B-9510-B4D9F1A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AB15-41EA-46C8-AD6A-B85BBFE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608D-EEFA-4AF2-A563-C83FC39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BC0A-7205-4BD8-894B-C566306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829F-0280-4369-B4E4-06C08D07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EBBD-F6D9-46D4-A54E-92176386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C60-78D6-4B90-8EAF-33B50AE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BE4-1B8D-465C-A349-E3751D41D08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A89-D156-4E32-9417-21CA886B2DF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ECC5-362B-4362-926E-6341ADE491F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541E-CDFA-4AD4-83B3-7A9F54EFE25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8625-A7DD-4560-8211-30F5A957556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F68-4AA9-405C-93AB-8AAC6B7DD54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089F-8675-46DF-AE7D-041BA3CADE94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4" descr=""/>
          <p:cNvPicPr/>
          <p:nvPr/>
        </p:nvPicPr>
        <p:blipFill>
          <a:blip r:embed="rId1"/>
          <a:stretch/>
        </p:blipFill>
        <p:spPr>
          <a:xfrm>
            <a:off x="4175280" y="554040"/>
            <a:ext cx="2030400" cy="549360"/>
          </a:xfrm>
          <a:prstGeom prst="rect">
            <a:avLst/>
          </a:prstGeom>
          <a:ln w="0">
            <a:noFill/>
          </a:ln>
        </p:spPr>
      </p:pic>
      <p:sp>
        <p:nvSpPr>
          <p:cNvPr id="319" name="Заголовок 1"/>
          <p:cNvSpPr/>
          <p:nvPr/>
        </p:nvSpPr>
        <p:spPr>
          <a:xfrm>
            <a:off x="1547640" y="-31608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Мои увлечен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C:\Users\КирохомцеваАВ\Desktop\IMG_20180318_125053.jpg"/>
          <p:cNvPicPr/>
          <p:nvPr/>
        </p:nvPicPr>
        <p:blipFill>
          <a:blip r:embed="rId2"/>
          <a:stretch/>
        </p:blipFill>
        <p:spPr>
          <a:xfrm>
            <a:off x="963720" y="615960"/>
            <a:ext cx="2906640" cy="217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G:\АЛЕНЕ\Поделки, рисунки\IMG_20171113_142827.jpg"/>
          <p:cNvPicPr/>
          <p:nvPr/>
        </p:nvPicPr>
        <p:blipFill>
          <a:blip r:embed="rId3"/>
          <a:stretch/>
        </p:blipFill>
        <p:spPr>
          <a:xfrm>
            <a:off x="1006560" y="3906720"/>
            <a:ext cx="2217600" cy="3079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G:\АЛЕНЕ\Поделки, рисунки\20150825_112651.jpg"/>
          <p:cNvPicPr/>
          <p:nvPr/>
        </p:nvPicPr>
        <p:blipFill>
          <a:blip r:embed="rId4"/>
          <a:stretch/>
        </p:blipFill>
        <p:spPr>
          <a:xfrm>
            <a:off x="4316400" y="4029120"/>
            <a:ext cx="2273400" cy="2957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G:\АЛЕНЕ\Поделки, рисунки\20151223_182643.jpg"/>
          <p:cNvPicPr/>
          <p:nvPr/>
        </p:nvPicPr>
        <p:blipFill>
          <a:blip r:embed="rId5"/>
          <a:stretch/>
        </p:blipFill>
        <p:spPr>
          <a:xfrm>
            <a:off x="7278840" y="4133880"/>
            <a:ext cx="1950840" cy="2809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G:\АЛЕНЕ\Поделки, рисунки\20151223_182805.jpg"/>
          <p:cNvPicPr/>
          <p:nvPr/>
        </p:nvPicPr>
        <p:blipFill>
          <a:blip r:embed="rId6"/>
          <a:stretch/>
        </p:blipFill>
        <p:spPr>
          <a:xfrm>
            <a:off x="3846600" y="2054160"/>
            <a:ext cx="2633400" cy="1974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G:\АЛЕНЕ\Творчество\20170307_141127.jpg"/>
          <p:cNvPicPr/>
          <p:nvPr/>
        </p:nvPicPr>
        <p:blipFill>
          <a:blip r:embed="rId7"/>
          <a:stretch/>
        </p:blipFill>
        <p:spPr>
          <a:xfrm>
            <a:off x="6456240" y="615960"/>
            <a:ext cx="2779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2:05Z</dcterms:modified>
  <cp:revision>49</cp:revision>
  <dc:subject/>
  <dc:title>БЕЗДОМНЫЕ ЖИВОТНЫЕ – ПРОБЛЕМА БЕРИНГОВСКОГО</dc:title>
</cp:coreProperties>
</file>