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43C-D962-4F3B-A9AB-54904190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D70-DCC9-44F1-821D-AF12B65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E2D-7365-47CC-A0F9-484D9C2F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291-F1D5-49B4-9AB6-87A0F45F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24A-60F4-499A-8588-F4E50993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187F-E354-44AD-B44D-618DABA8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B3C7-1859-4337-81C3-B4DDA128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FDA-9351-438A-8EB8-F4E81557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63C9-E9EE-410A-80BF-1D9E94D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6C82-CCA3-4E47-83DF-926EF7F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13F-C44E-47E6-8296-49AA696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9D2-3EEC-49CA-BD60-0BE0BDA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0B99-EE20-448C-B5A6-D52D180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FC0C-67DB-4851-83E9-1B34AA6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BC7-0CE3-4417-B894-13D6C129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7A99-1496-4107-9925-28457495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FDFC-05E3-4452-86DA-32A15A29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112D-3B5F-43F2-9E0C-C961D0B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2F05-FC0B-4348-9E07-1B83724E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8F97-0261-4A8B-B5A4-8977978F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7BB4-654F-4512-879C-E7063EC6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69F8-33BE-42B7-ADF6-D7DA30A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5D1-59F2-4E1B-AC67-5770F37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0D2B-86FA-4FF4-A5FE-C1569D0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7543-5EE9-4A1B-8517-67511C1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7D15-32BE-4CAA-801B-110F94C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305A-CF52-462F-A9F8-31E511D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7C34-3636-4E62-B4E6-F6947938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0F4D-9961-41DE-B5AD-47D4D403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5DA3-1DAB-4F5B-A5D3-0D6B6833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EE98-DC8C-4F5F-9335-C2948D76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FFB1-B6D6-43EE-B379-39A0172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E373-63F2-4F93-8A6B-34645830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DB3-B2C0-4A4D-A3A9-F3ED516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30F0-D426-42F3-B29F-FE2AFF8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9D49-0383-44F9-897B-FFBFA87D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E84C-18BB-481F-B724-EA5A24A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493B-C7DA-4B67-98C1-45BA036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2835-4238-4638-A599-E5EAD25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ADA5-FEBB-4181-8C34-2973C45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75BC-8D92-4F28-919D-61D4DCE7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C6C1-F4DE-45A3-9122-449A125B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DC40-BFFC-4922-B3AA-9553166E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2422-218A-45A8-8040-2147142E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186-A490-48BD-BAED-C91D76A4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E23C-C7F2-4ECF-BA40-7994E2B3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0016-1A2E-42F6-BFA4-79F64F8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8A7D-AE4D-44D2-9827-AFDCB93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0314-A2CC-4FB6-BC66-CEE98537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3111-C1F2-4021-B386-03BEE4D3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0A86-734A-4D8B-8AFD-1344500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963C-78CE-44DC-8A3A-D2437C3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E24B-AFD7-4DBD-93EA-D96A6EF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FCB3-856B-4E3F-B86E-A05E741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6D24-944B-42E0-A24F-29F0B61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C31-2808-4A59-B798-17743F8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BA7F-AC62-42DB-AE11-07120F9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3300-8EDE-4316-80EE-6CC7B8EB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7E3C-848F-4C22-A42E-9FA5747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AC6A-35A4-42D3-A59A-8986958B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5895-C143-46C1-9700-771FCD61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E181-C8A8-417D-B409-EE2A1A9D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1F60-74BF-427C-8FCC-A0E0E774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3F385-5D2C-4D91-A4C7-8916876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84E9-41DB-4695-8A66-5B3B5D7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5411-937F-4882-B711-09666368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459-8804-447D-BAC9-382CA49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0233-BA92-4020-9FC5-B01C75C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13E7-904C-4633-9D34-7066BB69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DE81-D12D-42D3-ABC8-2139F96B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EDBD4-9544-442D-9E09-ACE34B52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1BEF-6E03-4E82-82C7-06211F4B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17BC-4653-4C27-AABA-B2670076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F148-7197-44A1-A434-06FE1A9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429A-9D06-406D-A798-D398304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88C5-35A2-4CF3-95BA-01826D5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49EC-1A80-43E2-B521-98D47A3E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434-B246-438F-A436-111F550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CE2E-6E7C-424F-B2A1-12BF175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4245-83C8-4DFC-A9D8-43D43F2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766A-B687-4E53-BF2B-F632CE2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24BD-AE19-4BBF-B19E-7C3ED2D7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569E-24C2-47CC-B574-325E3933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110-75C8-48F1-829B-867220E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21FF-7EBD-4649-9C7B-C6F79B49B33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13B-3E4F-4249-89A8-C802DB1492C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235-D971-4F0D-A2C6-222BD713EF3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40E-5B2B-4562-8CA6-4EBABD45F26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8D67-E448-4071-AEAB-D23AF1EFBBB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0773-2E31-4B95-B715-2688A98E909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7AD-F613-49F2-AF16-AD2A1CD942F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1"/>
          <p:cNvSpPr/>
          <p:nvPr/>
        </p:nvSpPr>
        <p:spPr>
          <a:xfrm>
            <a:off x="539640" y="-243000"/>
            <a:ext cx="86043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Иногда я мечтаю попасть в 2118 год и посмотреть, как живете вы - третьеклассники будущег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Но понимаю, что это только мечты и фантаз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6"/>
          <p:cNvSpPr/>
          <p:nvPr/>
        </p:nvSpPr>
        <p:spPr>
          <a:xfrm>
            <a:off x="6516720" y="501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Твоя незнако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третьекласс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Константинова 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C:\Users\КирохомцеваАВ\Desktop\Керековские чтения 2018\20160225_130118-1.jpg"/>
          <p:cNvPicPr/>
          <p:nvPr/>
        </p:nvPicPr>
        <p:blipFill>
          <a:blip r:embed="rId1"/>
          <a:stretch/>
        </p:blipFill>
        <p:spPr>
          <a:xfrm>
            <a:off x="1657440" y="1523880"/>
            <a:ext cx="4383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12:51Z</dcterms:modified>
  <cp:revision>49</cp:revision>
  <dc:subject/>
  <dc:title>БЕЗДОМНЫЕ ЖИВОТНЫЕ – ПРОБЛЕМА БЕРИНГОВСКОГО</dc:title>
</cp:coreProperties>
</file>