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643-4606-4CF5-B691-3987EC88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778-0004-445B-B26A-19B09577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7EB-040F-4B59-BD8C-E4F67FA7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976-9BA4-4738-9610-E5642630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F60B-0AF1-415A-80FA-CD3263C3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37F-1A55-46E9-B4DC-B6BC009B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2353-85C4-482A-9ED7-283898C3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BC52-F9B1-4673-8C59-8861FC1D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DAC1-CD5C-4E0E-8CC6-F6D19BFB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D91D-D67A-43A6-BFC5-28A915F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B64-9CDD-4A1E-A9A8-7C30EAB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1DF-4950-416B-8490-A5BC650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9BCD-001E-4C25-840A-370DE017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4E4F-3445-4266-9271-1F6C441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BD53-8EA3-4274-B019-EE33E2D5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8C57-AE94-4B57-B12F-16638B40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2B7-1D09-4310-B510-6374321E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CEBE-2190-4EC6-8669-6D376DE9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ED31-A5EC-4251-95D8-AF9ABD1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86D1-6612-4D9E-B5F4-20F09D58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F1E7-A9CE-494D-87EE-1FE25B9D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A9D9-6417-4C51-B438-85950EA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846-FC67-4AD6-B62D-90DB4A6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BFEA-3186-4AF7-9D72-8A401D5D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34A8-11FC-4B1C-9D53-4C771A5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7393-32EE-4B62-80D7-709077A8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A18E-47DD-43AF-A6F5-DD61B4F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DC1B-9BF5-4713-8775-79C4A90A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DFC3-7014-402E-908C-694DDF07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BA24-B66D-4157-8CE0-E379C0EE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206D-3972-481D-A64F-9E1DE440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7410-40CA-4C4D-B6AC-3999391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2B05-C9AE-4BA0-8C49-23CD5716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3C0-BBE0-4E25-B7CD-4898C6F2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566F-38B3-4BFF-A383-9D63D1E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7708-8E75-40F3-9F88-A3B9F25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4B7B-8BE3-4157-A6BC-949FDC9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56FE-F062-41BA-9D93-8D118CF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B98D-CDFD-40EC-88A0-39E874EC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4EB8-CC86-4C3D-A82A-F290CC2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61E5-AE70-4DE0-A34C-E848762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D27A-C0FC-4068-8683-89FB3E16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DE97-BE2C-4DEF-8F62-744131C9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10D6-F3B4-4899-84E9-71A17488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BFD-9383-4881-9A19-15C9B7F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8EDC-B911-4079-BE2C-A1CB4F2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ABD3-D2E0-4455-96A0-377F924D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4C86-B4DF-4070-B721-9E8990FD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002F-DC3B-43D4-9832-D185267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E59A-51D2-4637-B063-7FE8198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A6630-416F-41EE-9C0F-ED0340F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75E1-2F83-4E86-A71E-1F72C68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322D-C995-45E7-B1F7-3A34BC1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42C0-32E2-446C-96E4-12ECC642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BEFC-B9FF-4D68-9E29-ECFCFD3E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97E-1111-4527-93E7-1ED3C585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A26F-6E2E-4BFE-804D-57F73607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496-2C8D-44AC-8D7B-FF1D3B4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7CC-A1EC-41DB-9F7C-758F6AA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D95-E3C5-467C-8162-B713380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D0B-6614-492C-B4F3-9D7C21BCA7D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FA2C-E2D8-42E9-A30D-7CB57255CBE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52B4-3D42-4F6E-B465-19F39825D4C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CF90-D2BE-4DA3-96B0-5562D2852F6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6A6-3407-4CB9-8625-B5A1ED73488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15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Rage Italic"/>
              </a:rPr>
              <a:t>Анкетирование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4120" y="981000"/>
            <a:ext cx="8115120" cy="538344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у вас в доме животны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642960" y="543312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ибольшего количества опрошенных есть домашние животные, а у половины ребят  домашних животных 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Диаграм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 анкетирования и рассказа о бездомных животных ученик  нашего класса Чернов Роман создал   плакат, который  мы повесили на школьный стен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ятно осознавать, что после моего анкетирования среди одноклассников многие ребята даже изъявили желание заняться объяснением правил поведения с бездомными животными и правилами содержания домашних питомцев среди учеников 1 и 2 классов.   Вместе с учителем я провела классный час сначала в своем классе. А затем  и с помощью  одноклассников в 1 и  2 классе. Мы рассказали о бездомных животных и провели конкурс рисунков на тему « Мое животное» и «Приют для бездомных животных» во 2 и 3 класс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бята активно  участвовали в этих мероприятиях. А это  значит, что  и моя  работа нашла свое продолжение и не оказалась напрас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71680" y="907560"/>
            <a:ext cx="8229600" cy="552636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 бы ты завести ещ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571680" y="53946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о из опрошенных хотят завести домашнее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856800"/>
            <a:ext cx="8229600" cy="559764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ты уделяешь животному в ден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428760" y="4952160"/>
            <a:ext cx="82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о из опрошенных ( 14 человек)  уделяют своим питомцам весь день, 7 ребят  только иногда, когда есть время и только 2 одноклассника вообще не занимаются домашним питом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856800"/>
            <a:ext cx="8229600" cy="559764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члены семьи занимаются с домашним животны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500040" y="5100480"/>
            <a:ext cx="8286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о ребят подтверждают , что все члены семьи занимаются домашним живо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928800"/>
            <a:ext cx="8229600" cy="547344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ли проблема бездомных живот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571680" y="531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опрошенных уверены, что проблема 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чаще всего вы видите бездомных живот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571680" y="492192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зультатом анкетирования выяснилось, что большинство а именно 96% встречали бездомных животных на улицах посёлка, а это  значит, такая проблема существует в нашем посёлк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увство у тебя вызывают бездомные животны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500040" y="526860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ребят бездомные животные вызывают 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, как бороться с проблемой бездомных живот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Диаграмма 4" descr=""/>
          <p:cNvPicPr/>
          <p:nvPr/>
        </p:nvPicPr>
        <p:blipFill>
          <a:blip r:embed="rId1"/>
          <a:stretch/>
        </p:blipFill>
        <p:spPr>
          <a:xfrm>
            <a:off x="1487520" y="177336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 результатам анкетирования я сделала следующий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ывод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ольшинство моих одноклассников имеет у себя дома какого-нибудь домашнего любимца. Почти все понимают, что проблема бездомных животных существует и что с ней надо боротьс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 как бороться? Тут мнения разделились. В основном ребята думают о приютах, но многие из них не понимают, что приюты предназначены не для постоянного проживания там бездомных животных, а это лишь временное пристанище для бедняжек, где их отмоют, полечат, покормят и самое главное – найдут хозяин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Я  считаю, что проблему следует решать с самого начала: нужно не выкидывать животных на улицу, прежде чем взять домой, подумать: а сможешь ли ты уделять ему достаточно времен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2:50:53Z</dcterms:created>
  <dc:creator>User</dc:creator>
  <dc:description/>
  <dc:language>en-US</dc:language>
  <cp:lastModifiedBy>dns</cp:lastModifiedBy>
  <dcterms:modified xsi:type="dcterms:W3CDTF">2019-12-25T07:16:12Z</dcterms:modified>
  <cp:revision>100</cp:revision>
  <dc:subject/>
  <dc:title>Проектная работа на тему: «Бездомные животные в городской среде»</dc:title>
</cp:coreProperties>
</file>