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940-6D0F-4616-AC04-D912750A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1AB-CAEB-4BDB-9335-A3515F3D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45F1-BD18-43AF-A358-CEDD63DE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9DDD-BD46-44A3-9115-D9AD6E27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8803-1858-42CA-9A78-33A110BC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19AF-8245-4B9C-B75A-6D1A5BBA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95A2-FF60-4812-AB00-AB8496BE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53BF-9572-4855-8A9A-708CB31E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510C-4379-4D1A-96B8-DF8E47A7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6456-A05A-4EDE-8CF1-64C61FE8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BDF0-9805-41CF-858D-D30D8348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3883-9770-418A-8AB8-FFF0DE3B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C77E-F4AA-4365-9762-94D0FF31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F21B-1ACD-43F0-B09B-17D5B6E9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C0A4-D357-48F4-85A1-F6627A3A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2723-C08E-4963-866E-D09660CD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B22A-76AE-4227-9FA8-92C0A34D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A9BFB-B18F-4FAE-AFE9-6CE5A5B5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7C945-BEFC-4231-8C02-549442C3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D170C-2708-4E57-865C-0AFCE964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5449A-0425-4E68-A13F-FDFD6549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A9CC9-27C8-498C-9694-2A398BF7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9232-F3D7-412E-B8DA-BB447D5C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057BD-3F2F-4BDD-ACB9-5F70AD6E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F1743-ADA0-4DFA-A08C-9D00546B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FC983-0C37-4044-B9B7-85BFC996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CCE1F-2E0F-432F-97D0-32013F8C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0A725-A9CB-401C-8A4B-8EF576E9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91C65-E06F-45AB-B5FF-E752E81F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A59E9-86AB-4541-9DED-1D92D3C6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87413-9886-49CF-B287-5DBE82B9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4011E-F626-4B8D-895F-0D9D6713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D7058-38FE-4285-BC5B-43148815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408-D359-43AD-9DC4-4BA2724E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35C6D-A08E-4343-BD58-762D323E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C154D-4A1F-4036-A27C-A4AF87A0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BBEC0-67BD-4334-8430-BCD724DD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77807-5E6E-49AD-B7CF-82675163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49CC5-063D-4EE5-8279-5F1F67D4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BA423-DF7F-4A95-B46C-C2EEF96B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B8642-8256-4850-A47C-BCF706AF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8A359-5E4D-4D93-B6F7-ACB1C630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E555D-291F-4640-9B6A-54CB87E3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574FF-96F0-4046-89FF-7482AFFD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A36-218A-4E44-84DB-9F12FEEC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2760C-902D-4C8B-B4EB-E56D7E66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0949B-5E22-4D1C-9CB6-76AA7688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15EDC-DC1E-4A64-87BC-BA912312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FA232-1AEC-4483-810E-6A66B3B5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09B50-BF22-4FD6-83D1-7017FE78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9B77E-E2D8-4F10-9B53-CA3A92C9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7BED1-3442-4E0C-8EFE-B3011B68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DA2E4-B143-4F2F-B1DA-F8B4757F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948C7-8F7D-4BBA-A26E-39EE7D4B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EA340-A88A-41C8-B626-9F3F429B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F185-F850-4355-872E-C97B5926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42D88-10B1-440C-A93D-1F6EC2E0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E87-121B-422D-B0BB-59F0217D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8A15-BD94-4C40-8F71-AC83FBC4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C890-3C9D-4F25-8C86-EE8CBC09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4D29-2F8D-48F0-9E46-B4C77D2781D9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E76B-CC02-41E9-9A74-B36F55E87B99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7621-30A6-485B-A57C-4BE4B9F0FF1B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B4E6-906C-46EA-B53C-B1788272B9F1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DFEB-A7F9-4EDF-92EF-0673C2B34731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Users\МБОУ СОШ №1\Desktop\фото к исследовательской\DSCN0170.JPG"/>
          <p:cNvPicPr/>
          <p:nvPr/>
        </p:nvPicPr>
        <p:blipFill>
          <a:blip r:embed="rId1"/>
          <a:stretch/>
        </p:blipFill>
        <p:spPr>
          <a:xfrm>
            <a:off x="971640" y="44136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Users\МБОУ СОШ №1\Desktop\фото к исследовательской\DSCN0172.JPG"/>
          <p:cNvPicPr/>
          <p:nvPr/>
        </p:nvPicPr>
        <p:blipFill>
          <a:blip r:embed="rId2"/>
          <a:stretch/>
        </p:blipFill>
        <p:spPr>
          <a:xfrm>
            <a:off x="5076720" y="549360"/>
            <a:ext cx="2975040" cy="2232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:\Users\МБОУ СОШ №1\Desktop\фото к исследовательской\DSCN0171.JPG"/>
          <p:cNvPicPr/>
          <p:nvPr/>
        </p:nvPicPr>
        <p:blipFill>
          <a:blip r:embed="rId3"/>
          <a:stretch/>
        </p:blipFill>
        <p:spPr>
          <a:xfrm>
            <a:off x="2700360" y="4075200"/>
            <a:ext cx="3433680" cy="257652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3" descr=""/>
          <p:cNvPicPr/>
          <p:nvPr/>
        </p:nvPicPr>
        <p:blipFill>
          <a:blip r:embed="rId4"/>
          <a:stretch/>
        </p:blipFill>
        <p:spPr>
          <a:xfrm>
            <a:off x="1341360" y="2779560"/>
            <a:ext cx="6454800" cy="1116000"/>
          </a:xfrm>
          <a:prstGeom prst="rect">
            <a:avLst/>
          </a:prstGeom>
          <a:ln w="0">
            <a:noFill/>
          </a:ln>
        </p:spPr>
      </p:pic>
      <p:sp>
        <p:nvSpPr>
          <p:cNvPr id="224" name="Текст 6"/>
          <p:cNvSpPr/>
          <p:nvPr/>
        </p:nvSpPr>
        <p:spPr>
          <a:xfrm>
            <a:off x="428760" y="2643120"/>
            <a:ext cx="4062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това Елиза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Текст 6"/>
          <p:cNvSpPr/>
          <p:nvPr/>
        </p:nvSpPr>
        <p:spPr>
          <a:xfrm>
            <a:off x="5143680" y="2714760"/>
            <a:ext cx="342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лейник И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Текст 6"/>
          <p:cNvSpPr/>
          <p:nvPr/>
        </p:nvSpPr>
        <p:spPr>
          <a:xfrm>
            <a:off x="2643120" y="3643200"/>
            <a:ext cx="4143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чаш Я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-214560" y="3214800"/>
            <a:ext cx="2786040" cy="79200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релин Ег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28560" y="2714760"/>
            <a:ext cx="3421080" cy="792000"/>
          </a:xfrm>
          <a:prstGeom prst="rect">
            <a:avLst/>
          </a:prstGeom>
          <a:noFill/>
          <a:ln w="0">
            <a:noFill/>
          </a:ln>
        </p:spPr>
        <p:txBody>
          <a:bodyPr lIns="13716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Кузнецов Никола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Содержимое 8" descr="карелин.jpg"/>
          <p:cNvPicPr/>
          <p:nvPr/>
        </p:nvPicPr>
        <p:blipFill>
          <a:blip r:embed="rId1"/>
          <a:stretch/>
        </p:blipFill>
        <p:spPr>
          <a:xfrm>
            <a:off x="0" y="0"/>
            <a:ext cx="2487600" cy="3489480"/>
          </a:xfrm>
          <a:prstGeom prst="rect">
            <a:avLst/>
          </a:prstGeom>
          <a:ln w="0">
            <a:noFill/>
          </a:ln>
        </p:spPr>
      </p:pic>
      <p:pic>
        <p:nvPicPr>
          <p:cNvPr id="230" name="Содержимое 9" descr="кузнецов.jpg"/>
          <p:cNvPicPr/>
          <p:nvPr/>
        </p:nvPicPr>
        <p:blipFill>
          <a:blip r:embed="rId2"/>
          <a:stretch/>
        </p:blipFill>
        <p:spPr>
          <a:xfrm>
            <a:off x="2571840" y="3368520"/>
            <a:ext cx="3052800" cy="3489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Users\dns\Desktop\сканы рисунков\дом животн\чматова.jpg"/>
          <p:cNvPicPr/>
          <p:nvPr/>
        </p:nvPicPr>
        <p:blipFill>
          <a:blip r:embed="rId3"/>
          <a:stretch/>
        </p:blipFill>
        <p:spPr>
          <a:xfrm>
            <a:off x="5165640" y="0"/>
            <a:ext cx="3978360" cy="2786040"/>
          </a:xfrm>
          <a:prstGeom prst="rect">
            <a:avLst/>
          </a:prstGeom>
          <a:ln w="0">
            <a:noFill/>
          </a:ln>
        </p:spPr>
      </p:pic>
      <p:sp>
        <p:nvSpPr>
          <p:cNvPr id="232" name="Текст 6"/>
          <p:cNvSpPr/>
          <p:nvPr/>
        </p:nvSpPr>
        <p:spPr>
          <a:xfrm>
            <a:off x="5722920" y="2786040"/>
            <a:ext cx="342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90000" tIns="91440" bIns="46800" anchor="ctr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матова Дил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18352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Verdana"/>
              </a:rPr>
              <a:t>Хочется верить , что именно в этом году эта проблема хоть чуть-чуть будет решена – и в нашем посёлке появится приют для бездомных животных! 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Verdana"/>
              </a:rPr>
              <a:t>Например, вот такой!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 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Содержимое 3" descr="Чернов.jpg"/>
          <p:cNvPicPr/>
          <p:nvPr/>
        </p:nvPicPr>
        <p:blipFill>
          <a:blip r:embed="rId1"/>
          <a:stretch/>
        </p:blipFill>
        <p:spPr>
          <a:xfrm>
            <a:off x="1071720" y="2214720"/>
            <a:ext cx="7208640" cy="4386240"/>
          </a:xfrm>
          <a:prstGeom prst="rect">
            <a:avLst/>
          </a:prstGeom>
          <a:ln w="0">
            <a:noFill/>
          </a:ln>
        </p:spPr>
      </p:pic>
      <p:sp>
        <p:nvSpPr>
          <p:cNvPr id="235" name="Текст 6"/>
          <p:cNvSpPr/>
          <p:nvPr/>
        </p:nvSpPr>
        <p:spPr>
          <a:xfrm>
            <a:off x="0" y="6215040"/>
            <a:ext cx="40640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рнов Ром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МБОУ СОШ №1\Desktop\фото к исследовательской\DSCN0173.JPG"/>
          <p:cNvPicPr/>
          <p:nvPr/>
        </p:nvPicPr>
        <p:blipFill>
          <a:blip r:embed="rId1"/>
          <a:stretch/>
        </p:blipFill>
        <p:spPr>
          <a:xfrm>
            <a:off x="539640" y="487440"/>
            <a:ext cx="2481480" cy="1861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Users\МБОУ СОШ №1\Desktop\фото к исследовательской\DSCN0177.JPG"/>
          <p:cNvPicPr/>
          <p:nvPr/>
        </p:nvPicPr>
        <p:blipFill>
          <a:blip r:embed="rId2"/>
          <a:stretch/>
        </p:blipFill>
        <p:spPr>
          <a:xfrm>
            <a:off x="6488280" y="415800"/>
            <a:ext cx="2673360" cy="2005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C:\Users\МБОУ СОШ №1\Desktop\фото к исследовательской\DSCN0174.JPG"/>
          <p:cNvPicPr/>
          <p:nvPr/>
        </p:nvPicPr>
        <p:blipFill>
          <a:blip r:embed="rId3"/>
          <a:stretch/>
        </p:blipFill>
        <p:spPr>
          <a:xfrm>
            <a:off x="5145120" y="3720960"/>
            <a:ext cx="3692520" cy="2770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C:\Users\МБОУ СОШ №1\Desktop\фото к исследовательской\DSCN0175.JPG"/>
          <p:cNvPicPr/>
          <p:nvPr/>
        </p:nvPicPr>
        <p:blipFill>
          <a:blip r:embed="rId4"/>
          <a:stretch/>
        </p:blipFill>
        <p:spPr>
          <a:xfrm>
            <a:off x="3492360" y="371520"/>
            <a:ext cx="2519640" cy="1890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:\Users\МБОУ СОШ №1\Desktop\фото к исследовательской\DSCN0176.JPG"/>
          <p:cNvPicPr/>
          <p:nvPr/>
        </p:nvPicPr>
        <p:blipFill>
          <a:blip r:embed="rId5"/>
          <a:stretch/>
        </p:blipFill>
        <p:spPr>
          <a:xfrm>
            <a:off x="231840" y="3720960"/>
            <a:ext cx="3692520" cy="277020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3" descr=""/>
          <p:cNvPicPr/>
          <p:nvPr/>
        </p:nvPicPr>
        <p:blipFill>
          <a:blip r:embed="rId6"/>
          <a:stretch/>
        </p:blipFill>
        <p:spPr>
          <a:xfrm>
            <a:off x="-438120" y="2590920"/>
            <a:ext cx="9777240" cy="834840"/>
          </a:xfrm>
          <a:prstGeom prst="rect">
            <a:avLst/>
          </a:prstGeom>
          <a:ln w="0">
            <a:noFill/>
          </a:ln>
        </p:spPr>
      </p:pic>
      <p:sp>
        <p:nvSpPr>
          <p:cNvPr id="242" name="Текст 6"/>
          <p:cNvSpPr/>
          <p:nvPr/>
        </p:nvSpPr>
        <p:spPr>
          <a:xfrm>
            <a:off x="142920" y="2143080"/>
            <a:ext cx="3214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узнецов Никол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Текст 6"/>
          <p:cNvSpPr/>
          <p:nvPr/>
        </p:nvSpPr>
        <p:spPr>
          <a:xfrm>
            <a:off x="3286080" y="2071800"/>
            <a:ext cx="3932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ломиец Екате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Текст 6"/>
          <p:cNvSpPr/>
          <p:nvPr/>
        </p:nvSpPr>
        <p:spPr>
          <a:xfrm>
            <a:off x="6357960" y="2357280"/>
            <a:ext cx="3932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узков Ег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Текст 6"/>
          <p:cNvSpPr/>
          <p:nvPr/>
        </p:nvSpPr>
        <p:spPr>
          <a:xfrm>
            <a:off x="5500800" y="3357720"/>
            <a:ext cx="3932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рдиенко Улья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Текст 6"/>
          <p:cNvSpPr/>
          <p:nvPr/>
        </p:nvSpPr>
        <p:spPr>
          <a:xfrm>
            <a:off x="142920" y="3429000"/>
            <a:ext cx="3932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юшкин Влади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-360" y="1999800"/>
            <a:ext cx="3932280" cy="79236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ожкова Рим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00400" y="3285720"/>
            <a:ext cx="3932280" cy="792360"/>
          </a:xfrm>
          <a:prstGeom prst="rect">
            <a:avLst/>
          </a:prstGeom>
          <a:noFill/>
          <a:ln w="0">
            <a:noFill/>
          </a:ln>
        </p:spPr>
        <p:txBody>
          <a:bodyPr lIns="13716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матова Дила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Содержимое 8" descr="Рожкова Р.jpg"/>
          <p:cNvPicPr/>
          <p:nvPr/>
        </p:nvPicPr>
        <p:blipFill>
          <a:blip r:embed="rId1"/>
          <a:stretch/>
        </p:blipFill>
        <p:spPr>
          <a:xfrm>
            <a:off x="0" y="2714760"/>
            <a:ext cx="4848120" cy="3395520"/>
          </a:xfrm>
          <a:prstGeom prst="rect">
            <a:avLst/>
          </a:prstGeom>
          <a:ln w="0">
            <a:noFill/>
          </a:ln>
        </p:spPr>
      </p:pic>
      <p:pic>
        <p:nvPicPr>
          <p:cNvPr id="250" name="Содержимое 12" descr="чматова.jpg"/>
          <p:cNvPicPr/>
          <p:nvPr/>
        </p:nvPicPr>
        <p:blipFill>
          <a:blip r:embed="rId2"/>
          <a:stretch/>
        </p:blipFill>
        <p:spPr>
          <a:xfrm>
            <a:off x="4782960" y="357120"/>
            <a:ext cx="4148280" cy="2928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02:50:53Z</dcterms:created>
  <dc:creator>User</dc:creator>
  <dc:description/>
  <dc:language>en-US</dc:language>
  <cp:lastModifiedBy>dns</cp:lastModifiedBy>
  <dcterms:modified xsi:type="dcterms:W3CDTF">2019-12-25T07:16:50Z</dcterms:modified>
  <cp:revision>99</cp:revision>
  <dc:subject/>
  <dc:title>Проектная работа на тему: «Бездомные животные в городской среде»</dc:title>
</cp:coreProperties>
</file>