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AFF1-397E-4CAC-A802-2526CF7A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15E-CAC9-4E67-B8FE-FDEB56A4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41A2-654A-4663-A8A0-67B0DC24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60A8-1B76-4DB0-A975-176F9E6F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0996-F8E2-42A4-A77E-5376142B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7139-3844-4A45-9B37-EF539351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1C06-CA56-450F-ABCC-B1CE2924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02B6-1F02-4A7C-933D-17CC32CB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7D9F-6123-47C2-A48F-709FD605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A0E4-5D13-46A6-9839-15043A78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B370-8198-419F-A887-E3B0A05D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FD30-D674-45AA-9371-DAD42A2B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8240-ED96-4639-879A-4769D145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44CC-959F-4C84-BE1C-11DB32FF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AF6F-922A-4B7C-8F9F-0D5A55D3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3270-96D7-4D5E-8D13-0A7C83BA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C341-36E8-4ACE-B41D-799B5F02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E8108-9CF4-4220-B9DA-B3B62353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69B77-4D2B-4D75-8D6E-3759F648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709EF-F7BC-4AAE-8F5A-4933CFC6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EF4C6-8807-4077-BBCF-56F98452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B051A0-D259-4281-A988-A6EB96A2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1B32-E484-4303-8898-FDB70EE1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48FD21-A2E5-4813-8357-7E05A9E5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BF8F9-6E96-4228-B8F7-E0EA19F9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AA2C7C-034E-4EB8-8168-8D4EB284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E3074-781F-4815-9F46-A210070A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D90B0-40AE-479D-85C7-3BC8A1C1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56892-61F8-4B7A-AEC7-C1069291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13C41-0CB4-46A4-9537-E7452311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86A69-75AB-4DDD-AD7E-066A048A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C6CBD-5201-4A4D-8298-8A0DB158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313D4-80DB-4CB5-9703-40C78E4C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37D6-450D-4B04-AEF2-29A33531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65730-0750-4915-A829-6E6F0991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15927-E5BD-452D-B8C9-6B22CD51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B0DF6-F30B-4028-A554-D2245182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9D557-A1E5-444C-8759-49C51F5E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C8619-5B89-4490-B46B-E3A44974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E23D7-758E-4CD1-8BAE-B4BF05D8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C7EA9-EC09-4D0B-8481-4DE0F5E1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8B875-818A-4AFC-9756-CEFFF546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694EE-1F1C-41D0-81C2-EFC30C75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980B0A-E078-4866-84D1-76CD981C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A564-3941-4138-8898-58B8920E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771D53-F978-4D36-A49B-5AE82C97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297407-475C-4648-883C-0B505149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4139A5-6037-4B7B-8A2F-1EE71555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CDA7E5-2046-44AA-B7E5-8A733056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CED484-528A-4821-91F5-AE277CCD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777482-52B9-4FBF-BC67-8FEF539A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6BC9CC-E078-4964-B29F-D0F8A1C8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9EB80A-DCB4-478C-8075-88DA8FE2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624AA3-A426-4313-9C53-548C4032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84FF88-7D0D-41EA-844F-8E918A85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A208-7F4D-4F98-86F5-D0D55CC6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DA7790-02AA-4254-A29B-A771C1A1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D61754-A8AA-49BE-A69B-E0241EDD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97CF08-E246-4F23-AD1A-7A8E7088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9D5533-662E-4654-ABCA-A09C0C9A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A7E0A4-B726-458B-94FD-DD3DE0A3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2FD432-57CF-48B5-8745-147B78EA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0879F5-B26C-4729-82C6-1BA48680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6ED4BE-4462-4398-9155-D1448C94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62E9F1-F713-4341-8B26-520BDC05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BCCB7A-9770-43EF-8344-AF44D1A7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6086-76D1-47DD-B982-72A22C12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B4E02E-3EC0-4FCE-BB26-6BB3E1D6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FD7CB0-0A1B-4CBA-8D57-683293AC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3AD5C6-CD00-42E8-A9F3-12F01B93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BBCD29-7006-4640-B87E-CE99EB8C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B58B5F-841D-44C2-AAFF-05863D59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E41CEE-6637-4665-9356-0DE67383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070E11-4A92-472D-B645-3773CF68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36F54E-71D4-468F-BCF1-528D5A94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1F9077-ED95-4C83-A094-A35F8EA6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7E6DF5-88A1-457F-A85E-E1D0FD6C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C694-8F23-467E-A878-1EEAF70C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12CFD4-2C8D-4C1D-9F3D-1FD1F543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1C97F2-1C52-4FEA-AC63-8B7B76F7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61397F-690E-4078-9E1B-BB4049D2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CE3546-0BED-415F-9B2F-46243A7F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98C873-50CD-47F8-BD0C-1789319F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3AEA-B1F4-4EDA-8801-9F5D8552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12B3-36E9-471C-BEBB-4AF8DC10389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805E-4315-4427-8868-BD67F68ED23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E662-9AC2-407E-BC06-130B65FB64D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1E71-FCB8-4B6B-8BE4-D1CDC8F2820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B0C0-9B1E-4343-B239-A7A990B31B6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DFF9-3E57-4034-B3B4-DD2E53A25C0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3445-747B-4D1D-9D7B-1C19EDCF4DA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800600"/>
            <a:ext cx="68500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ОПАСНОСТЬ.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352" name="Текст 3"/>
          <p:cNvGrpSpPr/>
          <p:nvPr/>
        </p:nvGrpSpPr>
        <p:grpSpPr>
          <a:xfrm>
            <a:off x="347760" y="5284800"/>
            <a:ext cx="8375400" cy="1365120"/>
            <a:chOff x="347760" y="5284800"/>
            <a:chExt cx="8375400" cy="1365120"/>
          </a:xfrm>
        </p:grpSpPr>
        <p:pic>
          <p:nvPicPr>
            <p:cNvPr id="353" name="Текст 3" descr=""/>
            <p:cNvPicPr/>
            <p:nvPr/>
          </p:nvPicPr>
          <p:blipFill>
            <a:blip r:embed="rId1"/>
            <a:stretch/>
          </p:blipFill>
          <p:spPr>
            <a:xfrm>
              <a:off x="347760" y="5284800"/>
              <a:ext cx="83754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428760" y="5367240"/>
              <a:ext cx="8215200" cy="12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9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Century Schoolbook"/>
                </a:rPr>
                <a:t>В поселке Беринговский  очень много бездомных  собак и с каждым годом их становиться все больше и больше. Некоторые люди их подкармливают. Но этого не хватает, и собаки начинают бросаться на людей. Они вырывают из рук пакеты с мусором или с продуктами</a:t>
              </a:r>
              <a:r>
                <a:rPr b="0" lang="ru-RU" sz="700" spc="-1" strike="noStrike">
                  <a:solidFill>
                    <a:srgbClr val="ffffff"/>
                  </a:solidFill>
                  <a:latin typeface="Century Schoolbook"/>
                </a:rPr>
                <a:t>.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Picture 2" descr="G:\АЛЕНЕ\Отпуск\20150705_163735.jpg"/>
          <p:cNvPicPr/>
          <p:nvPr/>
        </p:nvPicPr>
        <p:blipFill>
          <a:blip r:embed="rId2"/>
          <a:stretch/>
        </p:blipFill>
        <p:spPr>
          <a:xfrm>
            <a:off x="-55440" y="-66600"/>
            <a:ext cx="2908080" cy="2346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G:\АЛЕНЕ\Отпуск\20160804_164949.jpg"/>
          <p:cNvPicPr/>
          <p:nvPr/>
        </p:nvPicPr>
        <p:blipFill>
          <a:blip r:embed="rId3"/>
          <a:stretch/>
        </p:blipFill>
        <p:spPr>
          <a:xfrm>
            <a:off x="2951280" y="433440"/>
            <a:ext cx="3138480" cy="22734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G:\АЛЕНЕ\Отпуск\20170730_153348.jpg"/>
          <p:cNvPicPr/>
          <p:nvPr/>
        </p:nvPicPr>
        <p:blipFill>
          <a:blip r:embed="rId4"/>
          <a:stretch/>
        </p:blipFill>
        <p:spPr>
          <a:xfrm>
            <a:off x="6431040" y="2152800"/>
            <a:ext cx="1854000" cy="23158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G:\АЛЕНЕ\Отпуск\цветная вечеринка.jpg"/>
          <p:cNvPicPr/>
          <p:nvPr/>
        </p:nvPicPr>
        <p:blipFill>
          <a:blip r:embed="rId5"/>
          <a:stretch/>
        </p:blipFill>
        <p:spPr>
          <a:xfrm>
            <a:off x="6431040" y="4297320"/>
            <a:ext cx="1927080" cy="24019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G:\АЛЕНЕ\Отпуск\DSC_0241.JPG"/>
          <p:cNvPicPr/>
          <p:nvPr/>
        </p:nvPicPr>
        <p:blipFill>
          <a:blip r:embed="rId6"/>
          <a:stretch/>
        </p:blipFill>
        <p:spPr>
          <a:xfrm>
            <a:off x="2951280" y="4084560"/>
            <a:ext cx="3187440" cy="2401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G:\АЛЕНЕ\Отпуск\20170713_140432.jpg"/>
          <p:cNvPicPr/>
          <p:nvPr/>
        </p:nvPicPr>
        <p:blipFill>
          <a:blip r:embed="rId7"/>
          <a:stretch/>
        </p:blipFill>
        <p:spPr>
          <a:xfrm>
            <a:off x="19080" y="3297240"/>
            <a:ext cx="3071880" cy="24019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9" descr="G:\АЛЕНЕ\Отпуск\20160818_144904.jpg"/>
          <p:cNvPicPr/>
          <p:nvPr/>
        </p:nvPicPr>
        <p:blipFill>
          <a:blip r:embed="rId8"/>
          <a:stretch/>
        </p:blipFill>
        <p:spPr>
          <a:xfrm>
            <a:off x="6504120" y="-66600"/>
            <a:ext cx="1817640" cy="2273400"/>
          </a:xfrm>
          <a:prstGeom prst="rect">
            <a:avLst/>
          </a:prstGeom>
          <a:ln w="0">
            <a:noFill/>
          </a:ln>
        </p:spPr>
      </p:pic>
      <p:pic>
        <p:nvPicPr>
          <p:cNvPr id="362" name="Прямоугольник 10" descr=""/>
          <p:cNvPicPr/>
          <p:nvPr/>
        </p:nvPicPr>
        <p:blipFill>
          <a:blip r:embed="rId9"/>
          <a:stretch/>
        </p:blipFill>
        <p:spPr>
          <a:xfrm>
            <a:off x="1243080" y="2554200"/>
            <a:ext cx="387828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8:58:23Z</dcterms:created>
  <dc:creator>ас-ПК</dc:creator>
  <dc:description/>
  <dc:language>en-US</dc:language>
  <cp:lastModifiedBy>dns</cp:lastModifiedBy>
  <dcterms:modified xsi:type="dcterms:W3CDTF">2019-12-25T14:16:04Z</dcterms:modified>
  <cp:revision>42</cp:revision>
  <dc:subject/>
  <dc:title>БЕЗДОМНЫЕ ЖИВОТНЫЕ – ПРОБЛЕМА БЕРИНГОВСКОГО</dc:title>
</cp:coreProperties>
</file>