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22945-1A87-4A6D-8DC6-3E8722291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A796F-DFE8-4EA7-B2D0-3C44876EE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7E45E-AECC-427F-9A0F-8F9B3AF20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596ED-6CE8-4C51-9144-61B8CE630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A6C45-EC43-4B1C-8B0B-1CCE3FD35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98902-DF86-4460-843F-F25112DB6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0ED81-6D50-42F4-9661-9D2D18FA7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A896B-7873-4FA7-A07F-4792E5198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B012A-EBE4-4D29-A739-DE3A2F3EA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D1BF4-6633-463B-B877-4643F4499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5A65F-2F35-49AD-BFF4-A40C5D5DA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3A669-A9EE-49AE-B3DB-6046C8B5A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8B355-DCF5-4307-B34A-603198411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407F3-47B5-45E8-AAE9-244BB7A7D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38CD3-E6A9-484E-BE78-32C8860FE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D417D-0AC1-41EF-818B-A5985B502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C6972-B33A-4C7E-8C4F-EDE141C14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27EAF18-AAF2-456F-BB41-AFEEA77A6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663B884-AFD7-4A70-AF14-3BDC0421D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868BA72-318F-4810-ACD3-9752FAA21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21F4C48-E8F4-46D6-BC25-E0AFF5B27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514AD43-0C0B-4228-8453-4DA7130DB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777C6-5767-47F5-B38F-C1A8F1E11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AF85741-E8B9-4D38-AA51-F459A8E61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61A839F-F09B-41BA-B849-BD2B1AE04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2C0FF18-A7AA-42EC-A050-86826007F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ED6F294-F9C8-4E4B-B148-1DE05EDA4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19F6DE-0E1D-474E-A87C-BF3336030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50AE4F5-C5ED-4E18-AA0F-2DB86FD3A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33F9777-91BD-4C18-AE3F-5D6B54013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31D2E9-9535-4C40-AB61-4E7194285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9C7B59-0EC1-40D0-A3FE-649B20DF3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A9B6BE-7BD4-40DC-AC58-5124FAFE7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19E8A-E8A5-4C1F-8B82-5D3090D8A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6DD85A-D9FF-4ABA-89A5-1B12B5770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F72722-E06D-477B-8BDB-4137110EB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E7CCB5-C05B-45E0-9981-3FDF0CA6D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312328-4798-4049-B84D-249476B2C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9356B9-111E-4830-8CCE-AD4FA89FC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DCAC97-1EC8-4539-BCE8-053355FD2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F1791B-FAC8-4DCE-9EF3-DCB9189A6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41F390-D01D-4EBC-BDE8-F355C603C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E0680B-E446-4946-91A1-AE1EF20D8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34460AE-C6BB-481C-B0C4-695278436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B7E85-C2D7-440C-B9D4-85BB12473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3CE397B-FB76-49CB-BE89-18AFC66F3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F5EED5B-E100-40CB-812D-97734F3C6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29BBD0C-6E3C-4D9A-86DC-5A825D39B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092076F-083A-4182-B4DD-30A38156D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16230E6-98B3-43D8-8E3C-BFC04009F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C0A2535-F242-4ABB-9349-2836F2ABD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69776A1-028D-482A-AF26-90A5620BF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6CC886F-FCD5-4D41-8F8B-EAD31CDD9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D6354EA-94F6-4AD1-85E7-E01F1AC14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2B6376D-754C-4D30-A935-ECFDB6104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50033-6B58-496A-AE0F-4F9D708E1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5345376-CE36-452B-ACD0-B615C86A7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35ACAD3-1D10-48C8-9546-653ACE72B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A75D759-C7EF-4C1B-BF89-1C66B4815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5FB8DF1-2B85-4C05-94B7-C95C3AD6B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3F7E904-E971-46E3-936C-8B752C074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4C39320-A01E-4B7D-A295-435710A66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23A0933-E6A7-4AD1-B2A1-77CB7A37B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B9C824D-36E2-48A6-83BB-AEF36B3C4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E66D92B-F7F4-4141-A819-248D2B158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0C1D906-EB10-4291-8E5A-EDDF06E67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8AC9F-59C2-4E24-8E06-B8F2A16D8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2ED9FC3-BBF4-4D55-B90F-8A9CBCE83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8D3E4E2-14A6-40C6-A645-FADE5DDEB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CA40640-BF3E-4301-9A6A-6373395AD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3D884B6-A9D4-447E-B49B-3272F4453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072DC67-A58F-414D-B832-43243401C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AD8E52D-26CD-4079-8682-E0F279DD4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EEF2BD5-88BD-4A0A-95FE-899FB60CA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416BEC9-51B3-48C5-9850-815B43E50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AF7DC95-C34E-4918-9A1E-B94E41B06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3E27910-521E-4280-9A95-24D1D2150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10BD9-D747-42CB-98F8-715B164D8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4E32185-E2C2-4788-A94B-61EA289BB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9002A94-9071-4C1A-A8DE-01782B72D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A4D5D1E-50F7-4D9A-9304-28B470635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420B6F5-092E-49B3-B938-81C615515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E05661A-814E-4060-B476-8700E4D35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BCCE9-C2FE-478F-93C8-2054B2B3C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C15B0-7A6D-4542-9E76-74B0C69FD746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Прямоугольник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Прямоугольник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Прямоугольник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Прямая соединительная линия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Прямая соединительная линия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Прямая соединительная линия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Прямая соединительная линия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Прямая соединительная линия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Прямая соединительная линия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Прямоугольник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Овал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Овал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Овал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Овал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Овал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22710-6F2E-430B-9D46-3E8BEA25048B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E12F3-AF4E-4863-B65F-5427057DD7D8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Прямоугольник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Прямоугольник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Прямоугольник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Прямая соединительная линия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Прямая соединительная линия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Прямая соединительная линия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Прямая соединительная линия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Прямая соединительная линия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Овал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Овал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Овал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Прямая соединительная линия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786CB-C3B0-46EF-B3DD-4EE2C6B2F914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405F2-7E69-4958-801E-4062B40274A8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Прямая соединительная линия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Прямая соединительная линия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Прямая соединительная линия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Прямоугольник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Прямая соединительная линия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Овал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49329-2DC5-4657-B4BB-37E870AA05DA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Овал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Прямая соединительная линия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Прямая соединительная линия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42F82-6908-4462-942D-5C9FE4903CC1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500880" y="457200"/>
            <a:ext cx="2262240" cy="5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entury Schoolbook"/>
              </a:rPr>
              <a:t>РЕШЕНИЕ ЕСТЬ</a:t>
            </a:r>
            <a:endParaRPr b="0" lang="en-US" sz="2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500520" y="999720"/>
            <a:ext cx="2428920" cy="50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Schoolbook"/>
              </a:rPr>
              <a:t>Я считаю, для того чтобы помочь  голодным собакам и обезопасить людей, живущих в поселке, нужно построить приют для бездомных животных.  Кормить можно остатками пищи из общественных столовых. А ухаживать за ними могут волонтёры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3" name="Picture 5" descr="G:\АЛЕНЕ\Творчество\DSC_5814.JPG"/>
          <p:cNvPicPr/>
          <p:nvPr/>
        </p:nvPicPr>
        <p:blipFill>
          <a:blip r:embed="rId1"/>
          <a:stretch/>
        </p:blipFill>
        <p:spPr>
          <a:xfrm>
            <a:off x="3352680" y="-60480"/>
            <a:ext cx="2859120" cy="208440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6" descr="G:\АЛЕНЕ\Творчество\20170307_141127.jpg"/>
          <p:cNvPicPr/>
          <p:nvPr/>
        </p:nvPicPr>
        <p:blipFill>
          <a:blip r:embed="rId2"/>
          <a:stretch/>
        </p:blipFill>
        <p:spPr>
          <a:xfrm>
            <a:off x="-60480" y="3084480"/>
            <a:ext cx="2181240" cy="153684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7" descr="G:\АЛЕНЕ\Творчество\20161125_151001.jpg"/>
          <p:cNvPicPr/>
          <p:nvPr/>
        </p:nvPicPr>
        <p:blipFill>
          <a:blip r:embed="rId3"/>
          <a:stretch/>
        </p:blipFill>
        <p:spPr>
          <a:xfrm>
            <a:off x="4005360" y="3084480"/>
            <a:ext cx="2219400" cy="163368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8" descr="G:\АЛЕНЕ\Творчество\вручение грамоты.jpg"/>
          <p:cNvPicPr/>
          <p:nvPr/>
        </p:nvPicPr>
        <p:blipFill>
          <a:blip r:embed="rId4"/>
          <a:stretch/>
        </p:blipFill>
        <p:spPr>
          <a:xfrm>
            <a:off x="1262160" y="5072040"/>
            <a:ext cx="3303360" cy="184644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9" descr="G:\АЛЕНЕ\Поделки, рисунки\20151223_182805.jpg"/>
          <p:cNvPicPr/>
          <p:nvPr/>
        </p:nvPicPr>
        <p:blipFill>
          <a:blip r:embed="rId5"/>
          <a:stretch/>
        </p:blipFill>
        <p:spPr>
          <a:xfrm>
            <a:off x="6303960" y="298440"/>
            <a:ext cx="2584440" cy="193212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10" descr="G:\АЛЕНЕ\Поделки, рисунки\IMG_20171003_114536.jpg"/>
          <p:cNvPicPr/>
          <p:nvPr/>
        </p:nvPicPr>
        <p:blipFill>
          <a:blip r:embed="rId6"/>
          <a:stretch/>
        </p:blipFill>
        <p:spPr>
          <a:xfrm>
            <a:off x="6589800" y="3090960"/>
            <a:ext cx="2054160" cy="2766960"/>
          </a:xfrm>
          <a:prstGeom prst="rect">
            <a:avLst/>
          </a:prstGeom>
          <a:ln w="0">
            <a:noFill/>
          </a:ln>
        </p:spPr>
      </p:pic>
      <p:pic>
        <p:nvPicPr>
          <p:cNvPr id="359" name="Прямоугольник 10" descr=""/>
          <p:cNvPicPr/>
          <p:nvPr/>
        </p:nvPicPr>
        <p:blipFill>
          <a:blip r:embed="rId7"/>
          <a:stretch/>
        </p:blipFill>
        <p:spPr>
          <a:xfrm>
            <a:off x="817560" y="2054160"/>
            <a:ext cx="4844880" cy="71280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2" descr="C:\Users\КирохомцеваАВ\Desktop\IMG_20180318_125053.jpg"/>
          <p:cNvPicPr/>
          <p:nvPr/>
        </p:nvPicPr>
        <p:blipFill>
          <a:blip r:embed="rId8"/>
          <a:stretch/>
        </p:blipFill>
        <p:spPr>
          <a:xfrm>
            <a:off x="-66600" y="-60480"/>
            <a:ext cx="2809800" cy="218124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3" descr="C:\Users\КирохомцеваАВ\Desktop\IMG_20180220_124023.jpg"/>
          <p:cNvPicPr/>
          <p:nvPr/>
        </p:nvPicPr>
        <p:blipFill>
          <a:blip r:embed="rId9"/>
          <a:stretch/>
        </p:blipFill>
        <p:spPr>
          <a:xfrm>
            <a:off x="2359080" y="2798640"/>
            <a:ext cx="1609560" cy="21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3-27T08:58:23Z</dcterms:created>
  <dc:creator>ас-ПК</dc:creator>
  <dc:description/>
  <dc:language>en-US</dc:language>
  <cp:lastModifiedBy>dns</cp:lastModifiedBy>
  <dcterms:modified xsi:type="dcterms:W3CDTF">2019-12-25T14:18:32Z</dcterms:modified>
  <cp:revision>41</cp:revision>
  <dc:subject/>
  <dc:title>БЕЗДОМНЫЕ ЖИВОТНЫЕ – ПРОБЛЕМА БЕРИНГОВСКОГО</dc:title>
</cp:coreProperties>
</file>