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76B-E81C-4BA6-B758-02A763BA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E09-54F4-4484-9091-9463545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CE3-76C4-4DD9-B9EF-AD94DD4F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FBA-261F-429B-833C-5F8C012C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962F-5EBD-4761-8078-7C539ABD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E01-C9EF-42EC-AA33-63A0295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00B-7313-4437-9258-0C143F6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DAFD-C065-4B8B-B246-007A0E35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6746-35A1-4C14-A573-AAE84D61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E322-3FA8-4C0C-AE22-29C2899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6DD-3CD6-446C-9DE1-36B9229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727-6542-44AF-A61F-1C81FFC3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C5E1-3CBE-427D-914C-F1642098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BA6-05F4-4919-B150-C2564BE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BEDB-4F04-45DE-9DE7-308B69E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533E-ACEC-4D12-AD07-1273CDAC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79E0-EF06-472D-9295-14DA4C5D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2300C-18E3-461B-8F5D-B693F354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3A799-72E9-4FDC-A6F9-E649E7C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33397-65D2-474C-B4E8-DA3DC98E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B5D37-0E96-44D3-BBF8-A24495F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358E1-BE8B-4419-9CA2-AA4F9050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AB3-B9C4-4344-885D-AC1A16B3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77B3-BC38-4D65-84A1-A5D554A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B49EA-CF43-46A2-9569-2B359A0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90123-C433-4096-BC41-932ABF0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60B55-1E6B-43FD-81AF-1FF183B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F18DC-1A70-4279-977F-47D4C683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687C4-1A55-4985-AE74-7333FB79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86C37-230E-47DA-AB27-CC2AC476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59D2-2102-4FC6-BB06-97C6837A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705C-9759-4AC5-89D2-4ABFD36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077F-5D16-4CA5-9772-A98A01C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046-E66B-4F82-B5A5-D9573F30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DC61-CC8D-4E79-9D85-18F8610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CB16-7DEA-44CF-8863-3D4F44A5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DE54-1CF7-42C8-8590-B08BF09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FDA5-C1FE-41E7-8549-AD847861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9524-AE56-40F8-BB3C-7F0BBB7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C389-4EF2-47CF-BBFE-0F6232E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F145-F71A-4C78-A347-7B164272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B8B9-3340-4871-A4A8-4D89F87A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0432-FC6B-4329-A4C1-115CC6FE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6D85F-CA71-4166-91AE-CDE9FFC0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1B6-F8C3-44A1-8B62-4185BE0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9418A-1ED6-4642-8618-D641174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DDE9E-BD24-4CC8-97FC-E1BA348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8BA0C-ECB6-4211-9393-DA179092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B7EF9-D91C-40E2-81A4-0A0F5F02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5D923-EBEA-4B13-A55A-9DC5DED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41286-6BB2-478F-98CD-C95FF7A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C8DDE-7722-4270-9AB1-9A5B185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95FE9-F993-4635-BA3F-C6755B3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3CAED-87ED-4AA0-BF03-113A0A0C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8B619-0F2D-44E2-841E-66BF3FFE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3F4-856F-418C-9C4B-C5D8E924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AD7C8-040C-4D21-95DF-78323B3C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A7FF7-063D-41AA-A872-41079869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37DBB-6992-4892-B0C3-5A8FFE4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97B91-02BB-4739-AC74-8BD046AC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87D64-CB1E-4A03-9688-B169D1FB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9D024-F84E-4F33-B400-038940E0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DA0E5-7B78-4CAE-B536-A0F892EB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81CAA-41F2-467C-9DED-5E04907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4E754-142F-4A90-889C-0347753A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26776-31C7-4358-A95C-B7400D6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68C-1B47-45DB-8326-5644797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C7FF9-5D90-4A9A-9BA8-3C8FCC92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17281-1B93-4619-993A-EA3D6359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5DD90-93AF-4788-8D1A-B806E266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CE5C4-752B-4FA8-B790-AA7DEB3A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2D88D-00EA-46ED-BBF8-0D512CB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CC8B7-F35B-46B3-A3A0-458EA4B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94490-209F-419E-99BD-9D38803B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8F232-0EEA-4873-87E3-3B0B9EC5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D5BD6-D6BC-46A0-91E8-ECFD1A5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29F20-78C7-4B02-AAC9-E144DD74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68C-E698-4FC2-9558-1C78DBC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A19C3-E1AE-47DB-B8D6-B3F989E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AFCEA-6655-4825-AE45-07833CB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4F33F-8D7F-496E-B13B-711837A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0AA87-B6EA-4408-AD75-6BDFEAB0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23589-1741-4DC3-BA42-1BEAA6D5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1E9-4BA2-4AB4-A837-98418E7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AC7-85F3-481B-925B-CAB95798C8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855-9184-4655-B96A-34CD0B1802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63B7-0E9F-4AAE-BF0D-210E1432CC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8F6B-5B9B-4C63-A4F7-C462B3CE90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FE51-093A-4A81-8EC8-1BB6B43925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8B7-77E6-4C5E-97B0-291EB2CCF4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5F8D-4F94-4F55-8E4C-F9D07E95E8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71520" y="5643360"/>
            <a:ext cx="1981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ЧЕРНОВ РОМАН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286240" y="500040"/>
            <a:ext cx="34797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! 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ьте внимательны к животным, не бросайте их,  ведь мы в ответе за тех, кого приручили!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G:\АЛЕНЕ\Поделки, рисунки\Голосуй со мной.jpg"/>
          <p:cNvPicPr/>
          <p:nvPr/>
        </p:nvPicPr>
        <p:blipFill>
          <a:blip r:embed="rId1"/>
          <a:stretch/>
        </p:blipFill>
        <p:spPr>
          <a:xfrm>
            <a:off x="49320" y="907920"/>
            <a:ext cx="3084480" cy="2189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G:\АЛЕНЕ\Поделки, рисунки\Моё Марково.jpg"/>
          <p:cNvPicPr/>
          <p:nvPr/>
        </p:nvPicPr>
        <p:blipFill>
          <a:blip r:embed="rId2"/>
          <a:stretch/>
        </p:blipFill>
        <p:spPr>
          <a:xfrm>
            <a:off x="3193920" y="907920"/>
            <a:ext cx="2975040" cy="2213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G:\АЛЕНЕ\Поделки, рисунки\С друзьями.jpg"/>
          <p:cNvPicPr/>
          <p:nvPr/>
        </p:nvPicPr>
        <p:blipFill>
          <a:blip r:embed="rId3"/>
          <a:stretch/>
        </p:blipFill>
        <p:spPr>
          <a:xfrm>
            <a:off x="1047600" y="3481560"/>
            <a:ext cx="4017960" cy="2882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G:\АЛЕНЕ\Поделки, рисунки\IMG_20171003_114524.jpg"/>
          <p:cNvPicPr/>
          <p:nvPr/>
        </p:nvPicPr>
        <p:blipFill>
          <a:blip r:embed="rId4"/>
          <a:stretch/>
        </p:blipFill>
        <p:spPr>
          <a:xfrm>
            <a:off x="6340320" y="480960"/>
            <a:ext cx="2041560" cy="2884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G:\АЛЕНЕ\Поделки, рисунки\20151223_182643.jpg"/>
          <p:cNvPicPr/>
          <p:nvPr/>
        </p:nvPicPr>
        <p:blipFill>
          <a:blip r:embed="rId5"/>
          <a:stretch/>
        </p:blipFill>
        <p:spPr>
          <a:xfrm>
            <a:off x="6340320" y="4121280"/>
            <a:ext cx="1974960" cy="28335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8" descr=""/>
          <p:cNvPicPr/>
          <p:nvPr/>
        </p:nvPicPr>
        <p:blipFill>
          <a:blip r:embed="rId6"/>
          <a:stretch/>
        </p:blipFill>
        <p:spPr>
          <a:xfrm>
            <a:off x="1139760" y="122400"/>
            <a:ext cx="43275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9:22Z</dcterms:modified>
  <cp:revision>41</cp:revision>
  <dc:subject/>
  <dc:title>БЕЗДОМНЫЕ ЖИВОТНЫЕ – ПРОБЛЕМА БЕРИНГОВСКОГО</dc:title>
</cp:coreProperties>
</file>