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gif" ContentType="image/gif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8.gif" ContentType="image/gif"/>
  <Override PartName="/ppt/media/image18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20D9-76A7-4F5E-B1EB-7E27E192E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5AC5-CE7B-439C-BA26-C2DFDF4C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B63E-70DE-49A5-8A48-6BF37BBD9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48E6-B0A8-4331-B6AD-BDBE7E4C7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B2E4-9D50-4605-87BE-058B71411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0484-0B1B-4A9D-B434-17BC8223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4EDE-FFD8-4018-9DB0-E105A258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51BB-AC0A-40CD-8E4D-0DC8C0D1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E3DF-406F-4A37-8409-4697DC9D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7D0C-7087-486B-9429-74E77B22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1406-897D-4A6F-9166-7E0FB8C8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5EB3-3F6C-42FB-A36B-726F8216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B885-4B67-4FE5-9A0F-45E6A82A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4480-7830-4AED-884A-DA1DC987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5C7C-2CD7-407D-81BF-E76ACFF0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FAB3-98F1-42DB-9CDD-1A513BC36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1CC8-6D56-4972-BC7C-B3A450185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9FCB-FC4E-4FF8-B0C3-29F4B5B8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8094-178B-476E-87E7-A2E6C3C6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1626-8995-499D-B1D2-FE056B6D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67D9-778B-4179-BC27-5B3043EF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00E2-AAC2-4E05-92C7-3B31C569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2A98-9AF1-4733-AC6C-6E2D864B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1082-D685-429C-935C-5064193A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Прямая соединительная линия 6"/>
          <p:cNvSpPr/>
          <p:nvPr/>
        </p:nvSpPr>
        <p:spPr>
          <a:xfrm>
            <a:off x="514080" y="534960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BD2FE4-A38E-424B-B37C-98179149AA9F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B353760-291B-4A4B-9187-1063FD8CD329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4578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44342a"/>
              </a:solidFill>
              <a:latin typeface="Franklin Gothic Book"/>
            </a:endParaRPr>
          </a:p>
        </p:txBody>
      </p:sp>
      <p:pic>
        <p:nvPicPr>
          <p:cNvPr id="91" name="Picture 4" descr="F:\консультация для сайта\0_eb1aa_2a3d4d5b_orig.png"/>
          <p:cNvPicPr/>
          <p:nvPr/>
        </p:nvPicPr>
        <p:blipFill>
          <a:blip r:embed="rId1"/>
          <a:stretch/>
        </p:blipFill>
        <p:spPr>
          <a:xfrm>
            <a:off x="0" y="332640"/>
            <a:ext cx="8964000" cy="597636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1441800" y="3086280"/>
            <a:ext cx="63363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Развитие фонематического слух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3"/>
          <p:cNvSpPr/>
          <p:nvPr/>
        </p:nvSpPr>
        <p:spPr>
          <a:xfrm>
            <a:off x="2549520" y="4635360"/>
            <a:ext cx="59248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" rig="harsh"/>
            </a:scene3d>
            <a:sp3d extrusionH="57150" prstMaterial="matte">
              <a:bevelT prst="angle" w="63500" h="12700"/>
              <a:contourClr>
                <a:schemeClr val="bg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Подготов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учитель-логопед МАДОУ № 30 «Улыб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Таранич Юлия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126" name="Объект 3" descr=""/>
          <p:cNvPicPr/>
          <p:nvPr/>
        </p:nvPicPr>
        <p:blipFill>
          <a:blip r:embed="rId1"/>
          <a:stretch/>
        </p:blipFill>
        <p:spPr>
          <a:xfrm>
            <a:off x="107640" y="188640"/>
            <a:ext cx="8883720" cy="66690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2988000" y="548640"/>
            <a:ext cx="58323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Различение сл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гра «Похлопаем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 объясняете ребенку, что есть короткие и длинные слова. Проговаривает их, интонационно разделяя слоги. Совместно с ребенком произносить слова (па-па, ло-па-та, ба-ле-ри-на), отхлопывая сл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ее сложный вариант: предложить ребенку самостоятельно отхлопать количество слогов в сло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гра «Что лишне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 произносите ряды слогов «па-па-ба-па», «фа-фа-ва-фа». Ребенок должен хлопнуть, когда услышит лишний (другой) сло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5" descr=""/>
          <p:cNvPicPr/>
          <p:nvPr/>
        </p:nvPicPr>
        <p:blipFill>
          <a:blip r:embed="rId2"/>
          <a:stretch/>
        </p:blipFill>
        <p:spPr>
          <a:xfrm>
            <a:off x="1331640" y="4816440"/>
            <a:ext cx="1919880" cy="18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130" name="Объект 3" descr=""/>
          <p:cNvPicPr/>
          <p:nvPr/>
        </p:nvPicPr>
        <p:blipFill>
          <a:blip r:embed="rId1"/>
          <a:stretch/>
        </p:blipFill>
        <p:spPr>
          <a:xfrm>
            <a:off x="276480" y="444600"/>
            <a:ext cx="8714880" cy="626436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6"/>
          <p:cNvSpPr/>
          <p:nvPr/>
        </p:nvSpPr>
        <p:spPr>
          <a:xfrm>
            <a:off x="2286000" y="1720800"/>
            <a:ext cx="457164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395640" y="505080"/>
            <a:ext cx="8424720" cy="38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Различие зву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Звукоподраж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омар звенит: « З-З-З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Жук жужжит: « Ж-Ж-Ж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гра « Поймай зву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просите ребенка, чтобы он хлопнул в ладоши, если услыш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вук «…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вуковой ря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134" name="Объект 3" descr=""/>
          <p:cNvPicPr/>
          <p:nvPr/>
        </p:nvPicPr>
        <p:blipFill>
          <a:blip r:embed="rId1"/>
          <a:stretch/>
        </p:blipFill>
        <p:spPr>
          <a:xfrm>
            <a:off x="179640" y="161280"/>
            <a:ext cx="8811720" cy="6480360"/>
          </a:xfrm>
          <a:prstGeom prst="rect">
            <a:avLst/>
          </a:prstGeom>
          <a:ln w="0">
            <a:noFill/>
          </a:ln>
        </p:spPr>
      </p:pic>
      <p:sp>
        <p:nvSpPr>
          <p:cNvPr id="135" name="TextBox 5"/>
          <p:cNvSpPr/>
          <p:nvPr/>
        </p:nvSpPr>
        <p:spPr>
          <a:xfrm>
            <a:off x="279720" y="374040"/>
            <a:ext cx="84434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Times New Roman"/>
              </a:rPr>
              <a:t>Освоение навыков анализа и синте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2000" spc="-1" strike="noStrike">
                <a:solidFill>
                  <a:srgbClr val="c00000"/>
                </a:solidFill>
                <a:latin typeface="Times New Roman"/>
              </a:rPr>
              <a:t>Первый этап – выделение первого и последнего звука в слове(гласный зву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Звукоподраж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Больной говорит: « А-а-а-а», когда показывает горло врач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олк воет на луну: « У-у-у-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гра «Первый звук в слов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Разложите перед ребенком карточки с изображением предметов. Задача ребенка – произнести вслух то, что изображено, выделяя первый звук более сильно. (сначала выполните это упражнение вмест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гра «Последний звук в слов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Разложите перед ребенком карточки с изображением предметов. Задача ребенка – произнести вслух то, что изображено, выделяя последний звук более сильно. (сначала выполните это упражнение вмест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137" name="Объект 3" descr=""/>
          <p:cNvPicPr/>
          <p:nvPr/>
        </p:nvPicPr>
        <p:blipFill>
          <a:blip r:embed="rId1"/>
          <a:stretch/>
        </p:blipFill>
        <p:spPr>
          <a:xfrm>
            <a:off x="180000" y="371520"/>
            <a:ext cx="8811720" cy="64803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5"/>
          <p:cNvSpPr/>
          <p:nvPr/>
        </p:nvSpPr>
        <p:spPr>
          <a:xfrm>
            <a:off x="2915640" y="718920"/>
            <a:ext cx="6075360" cy="62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Times New Roman"/>
              </a:rPr>
              <a:t>Освоение навыков анализа и синте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2000" spc="-1" strike="noStrike">
                <a:solidFill>
                  <a:srgbClr val="c00000"/>
                </a:solidFill>
                <a:latin typeface="Times New Roman"/>
              </a:rPr>
              <a:t>Первый этап – выделение первого и последнего звука в слове(согласный зву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гра «Выбирай и называ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добрать название цветов, животных птиц, посуды , которые начинаются с заданного зву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гра «Найди зву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ыбрать только те предметные картинки, названия которых начинаются на звук «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гра "Заблудился звук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Ребенок должен выбрать из списка слово, неподходящее по смыслу, подобрав вместо него нужное:  Мама с бочками (дочками) пош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 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 дороге вдоль с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 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Мишка плачет и ре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 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сит пчел, чтоб дали лед (мед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140" name="Объект 3" descr=""/>
          <p:cNvPicPr/>
          <p:nvPr/>
        </p:nvPicPr>
        <p:blipFill>
          <a:blip r:embed="rId1"/>
          <a:stretch/>
        </p:blipFill>
        <p:spPr>
          <a:xfrm>
            <a:off x="165960" y="131400"/>
            <a:ext cx="8883720" cy="6480360"/>
          </a:xfrm>
          <a:prstGeom prst="rect">
            <a:avLst/>
          </a:prstGeom>
          <a:ln w="0">
            <a:noFill/>
          </a:ln>
        </p:spPr>
      </p:pic>
      <p:sp>
        <p:nvSpPr>
          <p:cNvPr id="141" name="TextBox 4"/>
          <p:cNvSpPr/>
          <p:nvPr/>
        </p:nvSpPr>
        <p:spPr>
          <a:xfrm>
            <a:off x="971640" y="1052640"/>
            <a:ext cx="727236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863640" y="312120"/>
            <a:ext cx="7488360" cy="38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Times New Roman"/>
              </a:rPr>
              <a:t>Освоение навыков анализа и синте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2000" spc="-1" strike="noStrike">
                <a:solidFill>
                  <a:srgbClr val="c00000"/>
                </a:solidFill>
                <a:latin typeface="Times New Roman"/>
              </a:rPr>
              <a:t>Второй этап – закрепление навыка фонематического анализа и синте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 помощью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особия «Птичка»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пределить где находится звук «…» Медленно проговаривая слово, мы одновременно ведем пальцем по птичке, определяя где находится заданный звук (в начале слова, в середине слова, 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</a:rPr>
              <a:t>в конце слов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6" descr=""/>
          <p:cNvPicPr/>
          <p:nvPr/>
        </p:nvPicPr>
        <p:blipFill>
          <a:blip r:embed="rId2"/>
          <a:stretch/>
        </p:blipFill>
        <p:spPr>
          <a:xfrm>
            <a:off x="268200" y="4116600"/>
            <a:ext cx="4303440" cy="250596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7" descr=""/>
          <p:cNvPicPr/>
          <p:nvPr/>
        </p:nvPicPr>
        <p:blipFill>
          <a:blip r:embed="rId3"/>
          <a:stretch/>
        </p:blipFill>
        <p:spPr>
          <a:xfrm>
            <a:off x="5148000" y="1109160"/>
            <a:ext cx="31251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146" name="Picture 2" descr="F:\консультация для сайта\img0 (2).jpg"/>
          <p:cNvPicPr/>
          <p:nvPr/>
        </p:nvPicPr>
        <p:blipFill>
          <a:blip r:embed="rId1"/>
          <a:stretch/>
        </p:blipFill>
        <p:spPr>
          <a:xfrm>
            <a:off x="179640" y="404640"/>
            <a:ext cx="8856720" cy="6120360"/>
          </a:xfrm>
          <a:prstGeom prst="rect">
            <a:avLst/>
          </a:prstGeom>
          <a:ln w="0">
            <a:noFill/>
          </a:ln>
        </p:spPr>
      </p:pic>
      <p:sp>
        <p:nvSpPr>
          <p:cNvPr id="147" name="TextBox 2"/>
          <p:cNvSpPr/>
          <p:nvPr/>
        </p:nvSpPr>
        <p:spPr>
          <a:xfrm>
            <a:off x="467640" y="876240"/>
            <a:ext cx="619236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Развивая фонематиче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слу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Вы облегчите ребенк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процесс осво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чтением и письм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95" name="Picture 3" descr="F:\консультация для сайта\img1.jpg"/>
          <p:cNvPicPr/>
          <p:nvPr/>
        </p:nvPicPr>
        <p:blipFill>
          <a:blip r:embed="rId1"/>
          <a:stretch/>
        </p:blipFill>
        <p:spPr>
          <a:xfrm>
            <a:off x="323640" y="332640"/>
            <a:ext cx="84247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97" name="Picture 2" descr="F:\консультация для сайта\img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99" name="Picture 3" descr="F:\консультация для сайта\veselyie-rebyata-shablon-prevyu-2.png"/>
          <p:cNvPicPr/>
          <p:nvPr/>
        </p:nvPicPr>
        <p:blipFill>
          <a:blip r:embed="rId1"/>
          <a:stretch/>
        </p:blipFill>
        <p:spPr>
          <a:xfrm>
            <a:off x="107640" y="332640"/>
            <a:ext cx="8928720" cy="61923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2"/>
          <p:cNvSpPr/>
          <p:nvPr/>
        </p:nvSpPr>
        <p:spPr>
          <a:xfrm>
            <a:off x="2915640" y="339120"/>
            <a:ext cx="5976360" cy="62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Ошибки, возникающие из-за несформированности фонематического слу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мешение звук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звонких согласных с глухи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</a:rPr>
              <a:t>       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</a:rPr>
              <a:t>(“блакала” – плакала, “том” – дом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вистящих согласных с шипящи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2060"/>
                </a:solidFill>
                <a:latin typeface="Times New Roman"/>
              </a:rPr>
              <a:t>       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</a:rPr>
              <a:t>(“чаши” – час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твердых согласных с мягки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</a:rPr>
              <a:t>      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</a:rPr>
              <a:t>(“потерала” – потерял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онорные: звук [р] на [л] и обрат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</a:rPr>
              <a:t>      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</a:rPr>
              <a:t>(“лжи ” – ржи, “тли” – три)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звук [м] на [н] и обратно 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</a:rPr>
              <a:t>(“ небель ” – мебель, “нешок” – меш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ерестановка и включение отдельных звуков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 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2060"/>
                </a:solidFill>
                <a:latin typeface="Times New Roman"/>
              </a:rPr>
              <a:t>(“наушинки” – наушники, “каторная” – картонна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2060"/>
                </a:solidFill>
                <a:latin typeface="Times New Roman"/>
              </a:rPr>
              <a:t>“ 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</a:rPr>
              <a:t>нулжа ” – луж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102" name="Picture 2" descr="F:\консультация для сайта\1-full.jpg"/>
          <p:cNvPicPr/>
          <p:nvPr/>
        </p:nvPicPr>
        <p:blipFill>
          <a:blip r:embed="rId1"/>
          <a:stretch/>
        </p:blipFill>
        <p:spPr>
          <a:xfrm>
            <a:off x="304920" y="445320"/>
            <a:ext cx="8686440" cy="59763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/>
          <p:cNvSpPr/>
          <p:nvPr/>
        </p:nvSpPr>
        <p:spPr>
          <a:xfrm>
            <a:off x="312480" y="534600"/>
            <a:ext cx="8686440" cy="40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опуск гласных и согласных звуков, пропуск звуков при стечении нескольких согласных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(“днь” –день, “межу” – между, “латочка” – ласточка, “оманул” – обману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опуск слогов, безударных частей слова, лишние слог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(“метает” – подметает, “сматривает” – подсматривает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амена зву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( табака – собака, идют - идет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бозначение мягкости при помощи 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(васельки - васел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шибки при чтени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(пропуск букв, слогов, предлог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замена и перестановка букв, слог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«застревание» на какой-либо букве, слоге, слов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105" name="Picture 2" descr="F:\консультация для сайта\veselyie-rebyata-shablon-prevyu-3.png"/>
          <p:cNvPicPr/>
          <p:nvPr/>
        </p:nvPicPr>
        <p:blipFill>
          <a:blip r:embed="rId1"/>
          <a:stretch/>
        </p:blipFill>
        <p:spPr>
          <a:xfrm>
            <a:off x="251640" y="404640"/>
            <a:ext cx="8784720" cy="59043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2"/>
          <p:cNvSpPr/>
          <p:nvPr/>
        </p:nvSpPr>
        <p:spPr>
          <a:xfrm>
            <a:off x="304920" y="457200"/>
            <a:ext cx="868644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Когда же начать развивать фонематический слух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ямо с рождения!!!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 первых дней жизни малыш может различать на слух неречевые звучания и их направление. Обратите внимание ребенка на звуки за окном, и предложите их послушать. Если он не может определить их источник – помогите ему в э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просите ег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Что гудит? ( машин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то поет? ( птиц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то так громко кричит? ( девочк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3" descr=""/>
          <p:cNvPicPr/>
          <p:nvPr/>
        </p:nvPicPr>
        <p:blipFill>
          <a:blip r:embed="rId2"/>
          <a:stretch/>
        </p:blipFill>
        <p:spPr>
          <a:xfrm>
            <a:off x="6228360" y="2277000"/>
            <a:ext cx="1472760" cy="86364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4" descr=""/>
          <p:cNvPicPr/>
          <p:nvPr/>
        </p:nvPicPr>
        <p:blipFill>
          <a:blip r:embed="rId3"/>
          <a:stretch/>
        </p:blipFill>
        <p:spPr>
          <a:xfrm>
            <a:off x="3852000" y="2896920"/>
            <a:ext cx="1583640" cy="11584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5" descr=""/>
          <p:cNvPicPr/>
          <p:nvPr/>
        </p:nvPicPr>
        <p:blipFill>
          <a:blip r:embed="rId4"/>
          <a:stretch/>
        </p:blipFill>
        <p:spPr>
          <a:xfrm>
            <a:off x="7022520" y="3074040"/>
            <a:ext cx="1772280" cy="32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111" name="Объект 4" descr=""/>
          <p:cNvPicPr/>
          <p:nvPr/>
        </p:nvPicPr>
        <p:blipFill>
          <a:blip r:embed="rId1"/>
          <a:stretch/>
        </p:blipFill>
        <p:spPr>
          <a:xfrm>
            <a:off x="107640" y="185400"/>
            <a:ext cx="8883720" cy="66690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"/>
          <p:cNvSpPr/>
          <p:nvPr/>
        </p:nvSpPr>
        <p:spPr>
          <a:xfrm>
            <a:off x="2699640" y="457200"/>
            <a:ext cx="6291360" cy="51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Times New Roman"/>
              </a:rPr>
              <a:t>Различие на слух неречевых звуков является фундаментом и основой развития фонематического слу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апример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гра «Угадай, что звучало»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ам помож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нимательно послушайте с ребенком шум воды, шелест газеты, звон колокольчика (ложек), скрип двери и другие бытовые зв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едложите закрыть глаз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и отгадать, что это звучал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гра «Жмурк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Ребенку завязывают глаз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и он двигается в сторон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венящего колокольчика, буб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вит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6" descr=""/>
          <p:cNvPicPr/>
          <p:nvPr/>
        </p:nvPicPr>
        <p:blipFill>
          <a:blip r:embed="rId2"/>
          <a:stretch/>
        </p:blipFill>
        <p:spPr>
          <a:xfrm>
            <a:off x="6156000" y="2853000"/>
            <a:ext cx="2546640" cy="359352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7" descr=""/>
          <p:cNvPicPr/>
          <p:nvPr/>
        </p:nvPicPr>
        <p:blipFill>
          <a:blip r:embed="rId3"/>
          <a:stretch/>
        </p:blipFill>
        <p:spPr>
          <a:xfrm rot="19393200">
            <a:off x="1691280" y="5232240"/>
            <a:ext cx="1014840" cy="123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116" name="Объект 3" descr=""/>
          <p:cNvPicPr/>
          <p:nvPr/>
        </p:nvPicPr>
        <p:blipFill>
          <a:blip r:embed="rId1"/>
          <a:stretch/>
        </p:blipFill>
        <p:spPr>
          <a:xfrm>
            <a:off x="107640" y="161280"/>
            <a:ext cx="8883720" cy="64803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539640" y="457200"/>
            <a:ext cx="7704360" cy="47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Times New Roman"/>
              </a:rPr>
              <a:t>Различие звуков ре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Times New Roman"/>
              </a:rPr>
              <a:t>По тембру, силе и выс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гра «Три медвед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Ребенок отгадывает, за кого из персонажей сказки Вы говорите. Более сложный вариант: ребенок сам говорит за трех медведей, изменяя высоту голо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гра «Громко- тих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Договариваетесь с ребенком, что он будет выполнять определенные действия, когда Вы произносите слова громко и когда тихо. Есть похожий вариант игры «Далеко - близк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5" descr=""/>
          <p:cNvPicPr/>
          <p:nvPr/>
        </p:nvPicPr>
        <p:blipFill>
          <a:blip r:embed="rId2"/>
          <a:stretch/>
        </p:blipFill>
        <p:spPr>
          <a:xfrm>
            <a:off x="4434480" y="2428560"/>
            <a:ext cx="3809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120" name="Объект 3" descr=""/>
          <p:cNvPicPr/>
          <p:nvPr/>
        </p:nvPicPr>
        <p:blipFill>
          <a:blip r:embed="rId1"/>
          <a:stretch/>
        </p:blipFill>
        <p:spPr>
          <a:xfrm>
            <a:off x="179640" y="188640"/>
            <a:ext cx="8811720" cy="64803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516960" y="457200"/>
            <a:ext cx="813672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Times New Roman"/>
              </a:rPr>
              <a:t>Различие сходных по звучанию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гра «Слушай и выбира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еред ребенком лежат картинки со сходным по звучанию словами (ком, сом, лом, дом). Вы называете предмет, а ребенок поднимает соответствующую карти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гра «Верно - неверн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ы показываете ребенку картинку и называете предмет, заменяя один звук (форота, корота, морота, ворота, порота, хорота). Задача ребенка хлопнуть в ладоши тогда, когда он услышит правильный вариант произно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6" descr=""/>
          <p:cNvPicPr/>
          <p:nvPr/>
        </p:nvPicPr>
        <p:blipFill>
          <a:blip r:embed="rId2"/>
          <a:stretch/>
        </p:blipFill>
        <p:spPr>
          <a:xfrm>
            <a:off x="7068600" y="2049120"/>
            <a:ext cx="1472760" cy="127404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7" descr=""/>
          <p:cNvPicPr/>
          <p:nvPr/>
        </p:nvPicPr>
        <p:blipFill>
          <a:blip r:embed="rId3"/>
          <a:stretch/>
        </p:blipFill>
        <p:spPr>
          <a:xfrm rot="2130600">
            <a:off x="4630680" y="2604600"/>
            <a:ext cx="1663560" cy="37548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8" descr=""/>
          <p:cNvPicPr/>
          <p:nvPr/>
        </p:nvPicPr>
        <p:blipFill>
          <a:blip r:embed="rId4"/>
          <a:stretch/>
        </p:blipFill>
        <p:spPr>
          <a:xfrm>
            <a:off x="3606120" y="2440440"/>
            <a:ext cx="135108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1386</TotalTime>
  <Application>LibreOffice/7.4.7.2$Linux_X86_64 LibreOffice_project/40$Build-2</Application>
  <AppVersion>15.0000</AppVersion>
  <Words>820</Words>
  <Paragraphs>130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7:11:42Z</dcterms:created>
  <dc:creator>Ольга</dc:creator>
  <dc:description/>
  <dc:language>en-US</dc:language>
  <cp:lastModifiedBy>Семья</cp:lastModifiedBy>
  <dcterms:modified xsi:type="dcterms:W3CDTF">2019-12-15T10:05:29Z</dcterms:modified>
  <cp:revision>2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5</vt:r8>
  </property>
</Properties>
</file>