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D57D-4C7A-4FA5-8937-32C903F3B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07E7-F73F-4E65-A7FE-EAC765729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3664-CE93-4838-99B7-68E189B8C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7D5-96B4-4D5D-AB2F-ED024E03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9D7-53FE-4389-B447-B6F6AE2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030-B7F2-4996-A4B0-4545297D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E58-5046-4553-9889-90545B4C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99C-94E9-4372-983C-1ADD3B4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783-3FC6-45E7-A493-EBB7BBA4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652-411D-4BA2-B795-F723A4C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14A-308E-4A3D-BD81-D74349A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991-2499-4279-A6AE-AB9AE78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E25-F165-4703-9437-A4E62ED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BC6-484A-4D4D-B6AB-FE3BE5A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F11-05C3-4980-A210-0368119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534-40F7-4AB4-A485-3C29FB46A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зентация к уроку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Уравнения химических реакций. Классификация»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втор презентации: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учитель химии Морозов И.В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. Москва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Школа «Ступени»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01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.00.00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 «Уравнения химических реакций. Классифика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Уравнение химической реакци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– графическая запись химической реакции при помощи химических формул веществ и коэффиц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l +   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  Al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делите предложенные уравнения реакций по признаку исходных и конечных веществ на четыр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 + 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C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Zn + 2HCl = ZnCl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H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 + S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H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H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 = 2H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aF + HCl = NaCl +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 CaO + CO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95480" y="1371600"/>
          <a:ext cx="381240" cy="39672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17"/>
          <p:cNvSpPr/>
          <p:nvPr/>
        </p:nvSpPr>
        <p:spPr>
          <a:xfrm>
            <a:off x="34290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86200" y="1371600"/>
          <a:ext cx="380880" cy="39672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" name="Text Box 31"/>
          <p:cNvSpPr/>
          <p:nvPr/>
        </p:nvSpPr>
        <p:spPr>
          <a:xfrm>
            <a:off x="44197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76920" y="1371600"/>
          <a:ext cx="380880" cy="39672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42"/>
          <p:cNvSpPr/>
          <p:nvPr/>
        </p:nvSpPr>
        <p:spPr>
          <a:xfrm>
            <a:off x="54100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867280" y="1371600"/>
          <a:ext cx="381240" cy="39672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53"/>
          <p:cNvSpPr/>
          <p:nvPr/>
        </p:nvSpPr>
        <p:spPr>
          <a:xfrm>
            <a:off x="2590920" y="17636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исходны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4648320" y="1752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конечны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33526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7"/>
          <p:cNvSpPr/>
          <p:nvPr/>
        </p:nvSpPr>
        <p:spPr>
          <a:xfrm>
            <a:off x="40406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8"/>
          <p:cNvSpPr/>
          <p:nvPr/>
        </p:nvSpPr>
        <p:spPr>
          <a:xfrm>
            <a:off x="46501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9880" y="3124080"/>
          <a:ext cx="4953240" cy="365400"/>
        </p:xfrm>
        <a:graphic>
          <a:graphicData uri="http://schemas.openxmlformats.org/drawingml/2006/table">
            <a:tbl>
              <a:tblPr/>
              <a:tblGrid>
                <a:gridCol w="4953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:  C + 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= C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             H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 + S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= H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09880" y="3657600"/>
          <a:ext cx="4953240" cy="365040"/>
        </p:xfrm>
        <a:graphic>
          <a:graphicData uri="http://schemas.openxmlformats.org/drawingml/2006/table">
            <a:tbl>
              <a:tblPr/>
              <a:tblGrid>
                <a:gridCol w="4953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:  Zn + 2HCl = ZnCl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H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9880" y="4191120"/>
          <a:ext cx="4953240" cy="365040"/>
        </p:xfrm>
        <a:graphic>
          <a:graphicData uri="http://schemas.openxmlformats.org/drawingml/2006/table">
            <a:tbl>
              <a:tblPr/>
              <a:tblGrid>
                <a:gridCol w="4953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:  2H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 = 2H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+ 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      CaC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= CaO + CO</a:t>
                      </a: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809880" y="4724280"/>
          <a:ext cx="4953240" cy="365400"/>
        </p:xfrm>
        <a:graphic>
          <a:graphicData uri="http://schemas.openxmlformats.org/drawingml/2006/table">
            <a:tbl>
              <a:tblPr/>
              <a:tblGrid>
                <a:gridCol w="4953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:  NaF + HCl = NaCl + 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" y="5562720"/>
          <a:ext cx="8305920" cy="36504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19320" y="6019920"/>
          <a:ext cx="380880" cy="3808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352680" y="6019920"/>
          <a:ext cx="381240" cy="38088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486400" y="6019920"/>
          <a:ext cx="380880" cy="38088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467480" y="6019920"/>
          <a:ext cx="381240" cy="365040"/>
        </p:xfrm>
        <a:graphic>
          <a:graphicData uri="http://schemas.openxmlformats.org/drawingml/2006/table">
            <a:tbl>
              <a:tblPr/>
              <a:tblGrid>
                <a:gridCol w="381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5520" y="45720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реакции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реакции ра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реакции зам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 реакции об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380880"/>
          <a:ext cx="2209680" cy="36540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8280"/>
                <a:gridCol w="368280"/>
                <a:gridCol w="368280"/>
                <a:gridCol w="368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895480" y="380880"/>
          <a:ext cx="2971800" cy="365400"/>
        </p:xfrm>
        <a:graphic>
          <a:graphicData uri="http://schemas.openxmlformats.org/drawingml/2006/table">
            <a:tbl>
              <a:tblPr/>
              <a:tblGrid>
                <a:gridCol w="371520"/>
                <a:gridCol w="371520"/>
                <a:gridCol w="318960"/>
                <a:gridCol w="424080"/>
                <a:gridCol w="371520"/>
                <a:gridCol w="371520"/>
                <a:gridCol w="371160"/>
                <a:gridCol w="371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04920" y="1295280"/>
          <a:ext cx="2209680" cy="38124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8280"/>
                <a:gridCol w="368280"/>
                <a:gridCol w="368280"/>
                <a:gridCol w="3682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895480" y="1295280"/>
          <a:ext cx="2971800" cy="381240"/>
        </p:xfrm>
        <a:graphic>
          <a:graphicData uri="http://schemas.openxmlformats.org/drawingml/2006/table">
            <a:tbl>
              <a:tblPr/>
              <a:tblGrid>
                <a:gridCol w="371520"/>
                <a:gridCol w="371520"/>
                <a:gridCol w="371520"/>
                <a:gridCol w="371520"/>
                <a:gridCol w="371520"/>
                <a:gridCol w="371520"/>
                <a:gridCol w="371160"/>
                <a:gridCol w="3715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04920" y="2209680"/>
          <a:ext cx="3352680" cy="381240"/>
        </p:xfrm>
        <a:graphic>
          <a:graphicData uri="http://schemas.openxmlformats.org/drawingml/2006/table">
            <a:tbl>
              <a:tblPr/>
              <a:tblGrid>
                <a:gridCol w="372960"/>
                <a:gridCol w="371520"/>
                <a:gridCol w="372960"/>
                <a:gridCol w="372960"/>
                <a:gridCol w="371520"/>
                <a:gridCol w="373320"/>
                <a:gridCol w="372960"/>
                <a:gridCol w="371520"/>
                <a:gridCol w="372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04920" y="3429000"/>
          <a:ext cx="4343400" cy="380880"/>
        </p:xfrm>
        <a:graphic>
          <a:graphicData uri="http://schemas.openxmlformats.org/drawingml/2006/table">
            <a:tbl>
              <a:tblPr/>
              <a:tblGrid>
                <a:gridCol w="387360"/>
                <a:gridCol w="388800"/>
                <a:gridCol w="407880"/>
                <a:gridCol w="393840"/>
                <a:gridCol w="396720"/>
                <a:gridCol w="395280"/>
                <a:gridCol w="395280"/>
                <a:gridCol w="393840"/>
                <a:gridCol w="393840"/>
                <a:gridCol w="396720"/>
                <a:gridCol w="3938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198"/>
          <p:cNvSpPr/>
          <p:nvPr/>
        </p:nvSpPr>
        <p:spPr>
          <a:xfrm>
            <a:off x="152280" y="79848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Реакции, при которых из нескольких простых или сложных веществ образуется одно слож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9"/>
          <p:cNvSpPr/>
          <p:nvPr/>
        </p:nvSpPr>
        <p:spPr>
          <a:xfrm>
            <a:off x="174600" y="1752480"/>
            <a:ext cx="88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Реакции, при которых из одного сложного образуется несколько простых или сло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0"/>
          <p:cNvSpPr/>
          <p:nvPr/>
        </p:nvSpPr>
        <p:spPr>
          <a:xfrm>
            <a:off x="152280" y="2743200"/>
            <a:ext cx="883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Реакции между простым и сложным веществами, в результате которых атомы простого вещества замещают первый компонент в слож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1"/>
          <p:cNvSpPr/>
          <p:nvPr/>
        </p:nvSpPr>
        <p:spPr>
          <a:xfrm>
            <a:off x="228600" y="388620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Реакции между двумя сложными веществами, которые обмениваются первыми компон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5105520"/>
          <a:ext cx="4267440" cy="38088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401760"/>
                <a:gridCol w="387360"/>
                <a:gridCol w="388800"/>
                <a:gridCol w="388800"/>
                <a:gridCol w="387360"/>
                <a:gridCol w="387360"/>
                <a:gridCol w="387360"/>
                <a:gridCol w="389160"/>
                <a:gridCol w="387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52280" y="6095880"/>
          <a:ext cx="3353040" cy="381240"/>
        </p:xfrm>
        <a:graphic>
          <a:graphicData uri="http://schemas.openxmlformats.org/drawingml/2006/table">
            <a:tbl>
              <a:tblPr/>
              <a:tblGrid>
                <a:gridCol w="373320"/>
                <a:gridCol w="371160"/>
                <a:gridCol w="373320"/>
                <a:gridCol w="372960"/>
                <a:gridCol w="371520"/>
                <a:gridCol w="372960"/>
                <a:gridCol w="373320"/>
                <a:gridCol w="371160"/>
                <a:gridCol w="3733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5105520"/>
          <a:ext cx="4267440" cy="36504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401760"/>
                <a:gridCol w="387360"/>
                <a:gridCol w="388800"/>
                <a:gridCol w="388800"/>
                <a:gridCol w="387360"/>
                <a:gridCol w="387360"/>
                <a:gridCol w="387360"/>
                <a:gridCol w="389160"/>
                <a:gridCol w="3873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638680" y="6095880"/>
          <a:ext cx="3353040" cy="381240"/>
        </p:xfrm>
        <a:graphic>
          <a:graphicData uri="http://schemas.openxmlformats.org/drawingml/2006/table">
            <a:tbl>
              <a:tblPr/>
              <a:tblGrid>
                <a:gridCol w="373320"/>
                <a:gridCol w="371160"/>
                <a:gridCol w="373320"/>
                <a:gridCol w="372960"/>
                <a:gridCol w="371520"/>
                <a:gridCol w="372960"/>
                <a:gridCol w="373320"/>
                <a:gridCol w="371160"/>
                <a:gridCol w="3733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411"/>
          <p:cNvSpPr/>
          <p:nvPr/>
        </p:nvSpPr>
        <p:spPr>
          <a:xfrm>
            <a:off x="2826000" y="449568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йдите и исправьте оши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ятиугольник 18"/>
          <p:cNvSpPr/>
          <p:nvPr/>
        </p:nvSpPr>
        <p:spPr>
          <a:xfrm>
            <a:off x="8534520" y="45720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иугольник 19"/>
          <p:cNvSpPr/>
          <p:nvPr/>
        </p:nvSpPr>
        <p:spPr>
          <a:xfrm>
            <a:off x="8534520" y="137160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ятиугольник 20"/>
          <p:cNvSpPr/>
          <p:nvPr/>
        </p:nvSpPr>
        <p:spPr>
          <a:xfrm>
            <a:off x="8534520" y="228600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ятиугольник 21"/>
          <p:cNvSpPr/>
          <p:nvPr/>
        </p:nvSpPr>
        <p:spPr>
          <a:xfrm>
            <a:off x="8534520" y="35053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286000" y="142920"/>
            <a:ext cx="4572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6:46Z</dcterms:created>
  <dc:creator>Sergey M</dc:creator>
  <dc:description/>
  <dc:language>en-US</dc:language>
  <cp:lastModifiedBy>ИГОРЬ</cp:lastModifiedBy>
  <dcterms:modified xsi:type="dcterms:W3CDTF">2019-12-22T17:53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