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1760" y="358164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9512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21760" y="358164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9512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17340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540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22176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17340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2540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512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9512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221760" y="358164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9512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340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540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176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340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540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7340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540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22176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7340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12540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9512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21760" y="358164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9512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7340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12540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22176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17340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12540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9512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221760" y="358164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9512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17340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12540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22176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17340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12540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9512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221760" y="358164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9512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17340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12540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22176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17340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12540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9512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1760" y="358164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9512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7340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540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176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7340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2540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9512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21760" y="358164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9512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17340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540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2176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17340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2540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9512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21760" y="358164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9512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17340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540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22176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17340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12540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9512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1760" y="358164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9512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17340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12540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22176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17340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12540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9512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1760" y="358164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9512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17340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540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176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17340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2540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512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9512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1760" y="358164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9512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7340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540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22176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7340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540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9512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21760" y="3581640"/>
            <a:ext cx="8729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5120" y="126792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2176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95120" y="3581640"/>
            <a:ext cx="4259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17340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5400" y="126792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22176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17340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5400" y="3581640"/>
            <a:ext cx="28108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Номер слайда 3"/>
          <p:cNvSpPr/>
          <p:nvPr/>
        </p:nvSpPr>
        <p:spPr>
          <a:xfrm>
            <a:off x="8317080" y="6381720"/>
            <a:ext cx="65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D053-B95A-4D7A-A258-0E77F3D1F0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0" y="6507000"/>
            <a:ext cx="9144000" cy="35100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7" descr="rzd_logo.png"/>
          <p:cNvPicPr/>
          <p:nvPr/>
        </p:nvPicPr>
        <p:blipFill>
          <a:blip r:embed="rId2"/>
          <a:stretch/>
        </p:blipFill>
        <p:spPr>
          <a:xfrm>
            <a:off x="8502480" y="6510240"/>
            <a:ext cx="478080" cy="347760"/>
          </a:xfrm>
          <a:prstGeom prst="rect">
            <a:avLst/>
          </a:prstGeom>
          <a:ln w="0">
            <a:noFill/>
          </a:ln>
        </p:spPr>
      </p:pic>
      <p:sp>
        <p:nvSpPr>
          <p:cNvPr id="5" name="Text Box 868"/>
          <p:cNvSpPr/>
          <p:nvPr/>
        </p:nvSpPr>
        <p:spPr>
          <a:xfrm>
            <a:off x="305640" y="6576840"/>
            <a:ext cx="3187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F54F-788C-444F-AB8D-8C9BCCD3CAF2}" type="slidenum">
              <a:rPr b="0" lang="ru-RU" sz="1000" spc="-1" strike="noStrike">
                <a:solidFill>
                  <a:srgbClr val="000000"/>
                </a:solidFill>
                <a:latin typeface="RussianRail A Pro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RussianRail A Pro"/>
              </a:rPr>
              <a:t>| </a:t>
            </a:r>
            <a:r>
              <a:rPr b="0" lang="ru-RU" sz="1000" spc="-1" strike="noStrike">
                <a:solidFill>
                  <a:srgbClr val="000000"/>
                </a:solidFill>
                <a:latin typeface="RussianRail A Pro"/>
              </a:rPr>
              <a:t>Презентация Кобзева С.А. </a:t>
            </a:r>
            <a:r>
              <a:rPr b="0" lang="en-US" sz="1000" spc="-1" strike="noStrike">
                <a:solidFill>
                  <a:srgbClr val="000000"/>
                </a:solidFill>
                <a:latin typeface="RussianRail A Pro"/>
              </a:rPr>
              <a:t>|</a:t>
            </a:r>
            <a:r>
              <a:rPr b="0" lang="ru-RU" sz="1000" spc="-1" strike="noStrike">
                <a:solidFill>
                  <a:srgbClr val="000000"/>
                </a:solidFill>
                <a:latin typeface="RussianRail A Pro"/>
              </a:rPr>
              <a:t> 14/03/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221760" y="1267920"/>
            <a:ext cx="8729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1027" descr="2574_s"/>
          <p:cNvPicPr/>
          <p:nvPr/>
        </p:nvPicPr>
        <p:blipFill>
          <a:blip r:embed="rId1"/>
          <a:stretch/>
        </p:blipFill>
        <p:spPr>
          <a:xfrm>
            <a:off x="0" y="0"/>
            <a:ext cx="9144000" cy="57484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cover_2.png"/>
          <p:cNvPicPr/>
          <p:nvPr/>
        </p:nvPicPr>
        <p:blipFill>
          <a:blip r:embed="rId2"/>
          <a:srcRect l="0" t="48518" r="0" b="0"/>
          <a:stretch/>
        </p:blipFill>
        <p:spPr>
          <a:xfrm>
            <a:off x="0" y="3774960"/>
            <a:ext cx="9191520" cy="348948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4"/>
          <p:cNvSpPr/>
          <p:nvPr/>
        </p:nvSpPr>
        <p:spPr>
          <a:xfrm>
            <a:off x="357120" y="4502160"/>
            <a:ext cx="849168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RussianRail A Pro"/>
              </a:rPr>
              <a:t>знаний в группах на КЦ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RussianRail A Pro"/>
              </a:rPr>
              <a:t>составитель поездов, сигналист (хозяйства перевоз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ussianRail A Pro"/>
              </a:rPr>
              <a:t>Преподаватель И.В. Лавреню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747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21760" y="374760"/>
            <a:ext cx="8729640" cy="62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9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ом расстоянии должны находиться грузы (кроме балласта, выгружаемого для путевых работ) от наружной грани головки крайнего рельса, если высота груза составляет 1500 мм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21760" y="387360"/>
            <a:ext cx="8729640" cy="62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10: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ельный столбик устанавливается по середине междупутья в том месте, где расстояние между осями смежных ж.д.  путей составляет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0 м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00 м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00 м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00 м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21760" y="387360"/>
            <a:ext cx="8729640" cy="62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11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ие светофоры устанавливаются перед разводными моста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евров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рыт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адительны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21760" y="387360"/>
            <a:ext cx="8729640" cy="62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12: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ым ли будет такое назначение въездных (выездных) светофоров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решающие или запрещающие въезд железнодорожного подвижного состава в производственное помещение на железнодорожных путях необщего пользования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21760" y="387360"/>
            <a:ext cx="8729640" cy="62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13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расстояние между осями ж.д. путей на двухпутном перегон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21760" y="387360"/>
            <a:ext cx="8729640" cy="62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 каких частей состоит стрелочный перевод? (перечислите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1760" y="387360"/>
            <a:ext cx="8729640" cy="62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 допускаемое в эксплуатации стрелочного перевода  расстояние между рабочими гранями сердечника крестовины и головки контррельс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1760" y="387360"/>
            <a:ext cx="8729640" cy="62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1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ая ширина колеи на стрелочных переводах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1760" y="387360"/>
            <a:ext cx="8729640" cy="62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17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их случаях разрешено эксплуатировать стрелочный перевод при разъединение стрелочных остряков с тягам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азъединение произошло только по отношению к одной тя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становлена скорость движения по стрелочному переводу не более 5 км/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становлена скорость движения по стрелочному переводу не более 15 км/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луатировать стрелочный перевод запреща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21760" y="387360"/>
            <a:ext cx="8729640" cy="62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18: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акой из перечисленных неисправностей запрещается эксплуатировать стрелочный перевод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тавание остряка от рамного рельса на 4 мм и более у второй соединительной тя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ыв одного контррельсового болта в двухболтовом вкладыш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крашивание остряка длиной более 200 мм на главном железнодорожном  пу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т между рабочей гранью упорных накладок и шейкой остряка 10 м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1580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21760" y="442440"/>
            <a:ext cx="8729640" cy="61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ина колеи при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вой 250 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1760" y="387360"/>
            <a:ext cx="8729640" cy="62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19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олжен подаваться при маневрах ручной сигнал «Стой!»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ём - движением по кругу развёрнутого красного или жёлтого флага; ночью - ручного фонаря с любым огнё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ём - движением по кругу развёрнутого красного  флага; ночью - ручного фонаря с красным огнё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ём - движением по кругу развёрнутого жёлтого  флага; ночью - ручного фонаря с прозрачно-белым или жёлтым огнё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ым непонятным для машиниста сигнал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21760" y="387360"/>
            <a:ext cx="8729640" cy="62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20: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акрепление подвижного состава запрещается использовать тормозные стояночные башмак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рав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азученные, замаслен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ж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ответы вер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1580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1760" y="442440"/>
            <a:ext cx="8729640" cy="61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ина колеи при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вой 250 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35 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17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66320" y="387360"/>
            <a:ext cx="8977320" cy="64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2: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 между осями ж.д. . путей грузовых районов: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00 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0 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00 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500 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00 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1580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66320" y="374400"/>
            <a:ext cx="8769240" cy="62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3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медицинские осмотры проходят работники за счет средств работодател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варительные и периодическ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9052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49120" y="317160"/>
            <a:ext cx="8715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4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о ли дано определени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гнал – видимый или звуковой знак, при помощи которого подается определенный приказ работникам ж.д. транспорт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9860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66320" y="471600"/>
            <a:ext cx="8729640" cy="63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5: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 между осями  ж.д. путей на грузовом двор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00 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0 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00 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500 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603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21760" y="387000"/>
            <a:ext cx="8921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ким видимым сигналам относятся крылья семафоров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невны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189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80720" y="331560"/>
            <a:ext cx="8729640" cy="63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7: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ельный столбик устанавливаетс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лее, по оси ж.д. пут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лее одного из сходящихся ж.д. путей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середине междупутья, между осями   сходящихся ж.д. путе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отив остряк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9052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22120" y="304920"/>
            <a:ext cx="848232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8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инимальное расстояние допускается между осями ж.д. путей, предназначенных для перегрузки грузов и контейнеров из вагона в вагон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600 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17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66320" y="387360"/>
            <a:ext cx="8977320" cy="64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2: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 между осями ж.д. . путей грузовых районов: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00 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0 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00 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00 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00 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747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21760" y="374760"/>
            <a:ext cx="8729640" cy="62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9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ом расстоянии должны находиться грузы (кроме балласта, выгружаемого для путевых работ) от наружной грани головки крайнего рельса, если высота груза составляет 1500 мм?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ближе  2,5 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21760" y="387360"/>
            <a:ext cx="8729640" cy="62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10: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ельный столбик устанавливается по середине междупутья в том месте, где расстояние между осями смежных ж.д.  путей составляет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0 м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00 м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00 м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100 м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21760" y="387360"/>
            <a:ext cx="8729640" cy="62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11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ие светофоры устанавливаются перед разводными моста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евров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крыт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адительны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21760" y="387360"/>
            <a:ext cx="8729640" cy="62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12: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ым ли будет такое назначение въездных (выездных) светофоров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решающие или запрещающие въезд железнодорожного подвижного состава в производственное помещение на железнодорожных путях необщего пользования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21760" y="387360"/>
            <a:ext cx="8729640" cy="62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13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расстояние между осями ж.д. путей на двухпутном перегон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100 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1760" y="387360"/>
            <a:ext cx="8729640" cy="62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 каких частей состоит стрелочный перевод? (перечислите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трелка, крестовина и соединительные ж.д. пути между ни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21760" y="387360"/>
            <a:ext cx="8729640" cy="62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 допускаемое в эксплуатации стрелочного перевода  расстояние между рабочими гранями сердечника крестовины и головки контррельс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менее 1472 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21760" y="387360"/>
            <a:ext cx="8729640" cy="62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1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ая ширина колеи на стрелочных переводах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46 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21760" y="387360"/>
            <a:ext cx="8729640" cy="62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17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их случаях разрешено эксплуатировать стрелочный перевод при разъединение стрелочных остряков с тягам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азъединение произошло только по отношению к одной тя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становлена скорость движения по стрелочному переводу не более 5 км/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становлена скорость движения по стрелочному переводу не более 15 км/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плуатировать стрелочный перевод запреща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21760" y="387360"/>
            <a:ext cx="8729640" cy="62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18: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акой из перечисленных неисправностей запрещается эксплуатировать стрелочный перевод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тавание остряка от рамного рельса на 4 мм и более у второй соединительной тя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ыв одного контррельсового болта в двухболтовом вкладыш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крашивание остряка длиной более 200 мм на главном железнодорожном  пу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т между рабочей гранью упорных накладок и шейкой остряка 10 м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1580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66320" y="374400"/>
            <a:ext cx="8769240" cy="62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3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медицинские осмотры проходят работники за счет средств работодател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21760" y="387360"/>
            <a:ext cx="8729640" cy="62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19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олжен подаваться при маневрах ручной сигнал «Стой!»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нём - движением по кругу развёрнутого красного или жёлтого флага; ночью - ручного фонаря с любым огнё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ём - движением по кругу развёрнутого красного  флага; ночью - ручного фонаря с красным огнё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ём - движением по кругу развёрнутого жёлтого  флага; ночью - ручного фонаря с прозрачно-белым или жёлтым огнё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ым непонятным для машиниста сигнал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21760" y="387360"/>
            <a:ext cx="8729640" cy="62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20: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акрепление подвижного состава запрещается использовать тормозные стояночные башмак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рав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азученные, замаслен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ж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 ответы вер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1027" descr="2574_s"/>
          <p:cNvPicPr/>
          <p:nvPr/>
        </p:nvPicPr>
        <p:blipFill>
          <a:blip r:embed="rId1"/>
          <a:stretch/>
        </p:blipFill>
        <p:spPr>
          <a:xfrm>
            <a:off x="0" y="0"/>
            <a:ext cx="9144000" cy="57484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4" descr="cover_2.png"/>
          <p:cNvPicPr/>
          <p:nvPr/>
        </p:nvPicPr>
        <p:blipFill>
          <a:blip r:embed="rId2"/>
          <a:srcRect l="0" t="48518" r="0" b="0"/>
          <a:stretch/>
        </p:blipFill>
        <p:spPr>
          <a:xfrm>
            <a:off x="0" y="3774960"/>
            <a:ext cx="9191520" cy="348948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4"/>
          <p:cNvSpPr/>
          <p:nvPr/>
        </p:nvSpPr>
        <p:spPr>
          <a:xfrm>
            <a:off x="357120" y="4502160"/>
            <a:ext cx="849168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RussianRail A Pro"/>
              </a:rPr>
              <a:t>знаний в группах на КЦ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RussianRail A Pro"/>
              </a:rPr>
              <a:t>составитель поездов, сигналист (хозяйства перевоз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ussianRail A Pro"/>
              </a:rPr>
              <a:t>Преподаватель И.В. Лавреню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9052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49120" y="317160"/>
            <a:ext cx="8715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4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о ли дано определени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гнал – видимый или звуковой знак, при помощи которого подается определенный приказ работникам ж.д. транспорт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9860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66320" y="471600"/>
            <a:ext cx="8729640" cy="63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5: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 между осями  ж.д. путей на грузовом двор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00 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0 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00 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00 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603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21760" y="387000"/>
            <a:ext cx="8921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ким видимым сигналам относятся крылья семафоров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1896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80720" y="331560"/>
            <a:ext cx="8729640" cy="63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7: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ельный столбик устанавливаетс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лее, по оси ж.д. пут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лее одного из сходящихся ж.д. путей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ередине междупутья, между осями   сходящихся ж.д. путе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отив остряк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90520"/>
          </a:xfrm>
          <a:prstGeom prst="rect">
            <a:avLst/>
          </a:prstGeom>
          <a:solidFill>
            <a:srgbClr val="bfc5ce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ussianRail A Pro"/>
              </a:rPr>
              <a:t>входной контрол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2120" y="304920"/>
            <a:ext cx="848232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8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инимальное расстояние допускается между осями ж.д. путей, предназначенных для перегрузки грузов и контейнеров из вагона в вагон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7:39:28Z</dcterms:created>
  <dc:creator>skatchkov</dc:creator>
  <dc:description/>
  <dc:language>en-US</dc:language>
  <cp:lastModifiedBy>user</cp:lastModifiedBy>
  <dcterms:modified xsi:type="dcterms:W3CDTF">2019-12-25T17:55:06Z</dcterms:modified>
  <cp:revision>389</cp:revision>
  <dc:subject/>
  <dc:title>Слайд 1</dc:title>
</cp:coreProperties>
</file>