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1AE-B0AF-4674-9815-65D30C64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9A4-8C54-465D-B6C2-2E79B6DB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795-FA5E-4D04-A753-6EFF767E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8032-82A7-469C-9487-7DE9B98F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6D8C-808A-483A-BB59-1AD71792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0EDC-A28F-4A18-9A6B-E7313E35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E665-0BD0-4369-A545-FBC9E2B1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B35A-5CE7-4BD4-8969-510AC645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63B1-F210-4FF2-9D2E-3D954F69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25E6-B2E3-403A-A6C7-1F84FCE7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74EF-731F-4A45-8478-7DD2834B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607-B786-487A-B752-6EA5120F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79B8-6024-41FC-A0AC-23D30FD8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5640-5D26-4D55-B0A2-4AF10D4B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202C-5D8B-4E99-B9BD-EC6D5CF8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A6B7-57EF-44B9-A8E2-10258C82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362F-6ACA-4177-B0B9-73CA551A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21E-10AC-4B7E-A85B-B548FE84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D8E-4108-4FED-A424-01249B76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3C9-E0B6-48EE-8087-87E63957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877-2856-4C33-AFDE-F2532DDD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36F-DD09-4A26-90EF-D534E27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A04-D0F5-4583-8020-F1E1C07C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4A8-156B-4FB4-BB74-927AB088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DD6D-F856-4895-9E81-8333B113CE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C2C7-8609-465F-AE58-F393B6F617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 Black"/>
              </a:rPr>
              <a:t>Второстепенные члены предложения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700" spc="-1" strike="noStrike">
              <a:solidFill>
                <a:srgbClr val="99ff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Arial Black"/>
              </a:rPr>
              <a:t>Разновидность определения -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приложе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 Black"/>
              </a:rPr>
              <a:t>Отличительные признаки приложения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опро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часть ре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вязь с главным слов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ой? че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уществи-тель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огласова-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 Black"/>
              </a:rPr>
              <a:t>Приложение -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это согласованное определение, выраженное именем существительным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 Black"/>
              </a:rPr>
              <a:t>приложе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аспростра-нен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есть зависимые сл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ераспрост-ранен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ет зависимых слов (одиночное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Arial Black"/>
              </a:rPr>
              <a:t>Одиночные (нераспространенные) приложения пишутся ЧЕРЕЗ ДЕФИС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 главное слово, и приложение выражены именами существительными нарицательн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ложение, выраженное именем собственным, стоит перед главным словом (существительным нарицательны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 Black"/>
              </a:rPr>
              <a:t>Распространенные приложения обособляютс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СЕГДА, если относятся к ЛИЧНОМУ МЕСТОИМ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ли имеет значение ПРИЧИНЫ или У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других случаях ТОЛЬКО ПОСЛЕ ГЛАВНОГО С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сли ПРИЛОЖЕНИЕ стоит В КОНЦЕ предложения, перед ним ставится ТИ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 Black"/>
              </a:rPr>
              <a:t>дополне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рям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ыражено существи-тельным или местоиме-нием в В.п. БЕЗ предло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косвенн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се остальные способы выраж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 Black"/>
              </a:rPr>
              <a:t>дополне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аспростра-нен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есть зависимые сл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ераспрост-ранен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ет зависимых сл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 Black"/>
              </a:rPr>
              <a:t>Дополнение обособляетс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если вводится предлогами КРОМЕ, ВКЛЮЧАЯ, ИСКЛЮЧАЯ, ЗА ИСКЛЮЧЕНИЕ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 Black"/>
              </a:rPr>
              <a:t>обстоятельство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аспростра-нен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есть зависимые сл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ераспрост-ранен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ет зависимых сл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442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i="1" lang="ru-RU" sz="4000" spc="-1" strike="noStrike">
                <a:solidFill>
                  <a:srgbClr val="ffffb7"/>
                </a:solidFill>
                <a:latin typeface="Arial Black"/>
              </a:rPr>
              <a:t>С помощью чего можно определить второстепенный член предложения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Только с помощью </a:t>
            </a:r>
            <a:r>
              <a:rPr b="1" lang="ru-RU" sz="6600" spc="-1" strike="noStrike">
                <a:solidFill>
                  <a:srgbClr val="ffffb7"/>
                </a:solidFill>
                <a:latin typeface="Arial"/>
              </a:rPr>
              <a:t>смыслового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вопроса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Группы обстоятельств по значению (определяем по вопросу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где? (в каком МЕСТЕ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куда? (в какое МЕСТО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ткуда? (из какого МЕСТА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обстоя-тельство МЕС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 Black"/>
              </a:rPr>
              <a:t>Группы обстоятельств по значению (определяем по вопросу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7720" y="1904760"/>
            <a:ext cx="358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ког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(в какое время?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1640" y="1904760"/>
            <a:ext cx="4273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обстоятель-ство ВРЕМЕН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 Black"/>
              </a:rPr>
              <a:t>Группы обстоятельств по значению (определяем по вопросу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очем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(по какой причине?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3280" y="1904760"/>
            <a:ext cx="4500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обстоятель-ство ПРИЧИ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 Black"/>
              </a:rPr>
              <a:t>Группы обстоятельств по значению (определяем по вопросу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зачем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(с какой целью?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066920" y="1904760"/>
            <a:ext cx="4778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обстоятель-ство Ц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 Black"/>
              </a:rPr>
              <a:t>Группы обстоятельств по значению (определяем по вопросу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как? каким образом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11640" y="1904760"/>
            <a:ext cx="4633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обстоятельство ОБРАЗА ДЕЙ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 Black"/>
              </a:rPr>
              <a:t>Группы обстоятельств по значению (определяем по вопросу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как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 какой мере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 какой степен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00360" y="1904760"/>
            <a:ext cx="4344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обстоятельство МЕРЫ и СТЕПЕ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Arial Black"/>
              </a:rPr>
              <a:t>Обособляются обстоятельства, есл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) выражены деепричастием или деепричастным оборот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роме ФРАЗЕОЛОГИЗМОВ или деепричастий, перешедших в разряд НАРЕЧ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2) вводятся в предложение производным предлогом НЕСМОТРЯ 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Arial Black"/>
              </a:rPr>
              <a:t>Не обособляютс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) фразеологические обор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2) деепричастия, перешедшие в разряд нареч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Arial Black"/>
              </a:rPr>
              <a:t>КАКОЙ? ЧЕЙ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ffffb7"/>
                </a:solidFill>
                <a:uFillTx/>
                <a:latin typeface="Arial"/>
              </a:rPr>
              <a:t>определени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может быть выражено любой частью реч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100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b7"/>
                </a:solidFill>
                <a:latin typeface="Arial Black"/>
              </a:rPr>
              <a:t>ТОЛЬКО ВОПРОСЫ КОСВЕННЫХ ПАДЕЖЕЙ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28440" y="256536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кого?чего?  кому?чему? кого?что? кем?чем? о ком?о чё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ffffb7"/>
                </a:solidFill>
                <a:uFillTx/>
                <a:latin typeface="Arial"/>
              </a:rPr>
              <a:t>дополнени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ожет быть выражено любой частью ре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Arial Black"/>
              </a:rPr>
              <a:t>НАРЕЧНЫЕ ВОПРОСЫ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де? когда? куда? откуд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очему? зачем? как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 u="sng">
                <a:solidFill>
                  <a:srgbClr val="ffffb7"/>
                </a:solidFill>
                <a:uFillTx/>
                <a:latin typeface="Arial"/>
              </a:rPr>
              <a:t>обстоятельство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может быть выражено любой частью реч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 Black"/>
              </a:rPr>
              <a:t>определе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распростра-ненно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есть зависимые сл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ераспростра-нен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ет зависимых слов (одиночное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 Black"/>
              </a:rPr>
              <a:t>определе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огласова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огласуется с главным словом в роде, числе, паде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 изменении главного слова изменяетс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согласова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 согласуется с главным словом в роде, числе, паде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 изменении главного слова НЕ изменяетс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Arial Black"/>
              </a:rPr>
              <a:t>Обособляются распространенные определени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. ПОСЛЕ главного слова ВСЕГ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2. ПЕРЕД главным словом, ес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) имеют значение ПРИЧИНЫ или У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) относятся к ЛИЧНОМУ МЕСТОИМ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Arial Black"/>
              </a:rPr>
              <a:t>Обособляются нераспространенные определени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. ПОСЛЕ главного слова, если определения ОДНОРОД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2. ПЕРЕД главным словом, ес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) имеют значение ПРИЧИНЫ или У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) относятся к ЛИЧНОМУ МЕСТОИМ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4:16:09Z</dcterms:created>
  <dc:creator>user</dc:creator>
  <dc:description/>
  <dc:language>en-US</dc:language>
  <cp:lastModifiedBy>Alfat Mukhametshin</cp:lastModifiedBy>
  <dcterms:modified xsi:type="dcterms:W3CDTF">2019-11-05T21:23:26Z</dcterms:modified>
  <cp:revision>23</cp:revision>
  <dc:subject/>
  <dc:title>ТОЛЕРАНТНОСТЬ</dc:title>
</cp:coreProperties>
</file>