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504-12E8-4E56-8105-DCB34F38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93F-FD38-4599-BF9A-FEA793B4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0EA-5661-4701-AB05-CFA84558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64B-B867-4232-8127-E433D7A2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83E-2B92-4D0B-80BB-626C06A3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4D7-B9EA-42D6-AE6B-C0D42B5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717-5C0C-4C2E-A16E-C2599E38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B5AA-6B13-409A-B4C6-9585230A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F30B-2A75-4ADF-934F-E028BCB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B118-712E-4677-A691-064DCF1D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A2E-F2CA-4B6A-9E88-37A3C40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4DE-127E-494D-A2FA-02D3511D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E1F2-5DA4-44CA-852F-1C4E0E2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CE91-FE86-432B-9309-0B3605C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CE6C-7F83-4974-A5D4-185C11B0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92C-0BFC-47C9-A187-0BE22D6B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50AC-B27E-4B0B-92F5-31B4134F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5A1-099C-4663-B6EB-B233E88E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CD5-4874-4339-BE9B-B4A95AC8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4A3-D836-4E82-A123-0500CC87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55B-EAD9-47F7-BCB4-F61FA126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E96-DAE4-4138-8D88-3E6BBF7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B3E-FDB8-4DB7-8C13-C2A0FB2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9FA-E327-48C9-BB81-5C2DCFA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E38C-8270-4192-B1BC-BBBC2B4C79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E3B3-813A-4718-B263-F5F4480C20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Жанр, род, направление, средство выразительност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тест по теории литерату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9. К какому литературному роду относятся следующие жанры: роман в стихах, поэма, баллада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10. К какому литературному роду относятся следующие жанры: трагедия, комедия, мелодрама, водевиль, фар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11. К какому литературному роду относятся следующие жанры: послание, элегия, ода, стихотворение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12. К какому литературному роду относятся следующие жанры: роман, очерк, новелла, роман-эпопея, повесть, рассказ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13. Определите жанр по следующей характеристике: повествование об одном событии, сопровождаемое драматизмом сюжета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)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) оче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) поэ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) нове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14. Определите жанр по следующей характеристике: лирическое философское размышление, проникнутое грустью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) посл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) элег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) эпиграм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) 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15. Определите жанр по следующей характеристике: драматическое произведение, в котором смех направлен против недостатков общества, быта, людей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) фар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) пье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) водеви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) комед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ahoma"/>
              </a:rPr>
              <a:t>16. Определите жанр по следующей характеристике: драматическое произведение, в основе которого лежит непримиримый конфликт, обычно заканчивающийся гибелью героя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1) дра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) новел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3) 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4) трагед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17. Выберите правильное объяснение термина «фольклор»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) произведения, помогающие объяснить первобытным людям непонятные для них явления прир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) произведения устного народного поэтического твор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) произведения иностранн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4) произведения древнерусск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18. Какие из перечисленных жанров не имеют отношения к фольклору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1) был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) ми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3) леген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4) бас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1. Признаки какого литературного направления прослеживаются в следующих принципах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риятие бездуховности окружающей действитель-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оздание образа исключитель-ного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классиц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ентимен-т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ре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19. Какие из перечисленных жанров не являются собственно русским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1) жит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) сло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3) летопи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4) ром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20. Произведение какого древнерусского жанра рассказывает о жизни святого, прославляет подвиги святых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1) жит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2) летопис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3) пове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4) сло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21. К какому литературному направлению относятся поэма М.Ю.Лермонтова «Мцыри», баллада В.А.Жуковского «Светлана», «Южные поэмы» А.С.Пушкин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2. К какому литературному направлению относятся пьеса Д.И.Фонвизина «Недоросль», оды М.В.Ломоносова и Г.Р.Державин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3. К какому литературному направлению относятся произведения А.С.Пушкина: повесть «Капитанская дочка», поэма «Медный всадник», драма «Борис Годунов»; произведения Н.В.Гоголя: пьеса «Ревизор», повесть «Шинель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24. К какому литературному направлению относятся повесть Н.М.Карамзина «Бедная Лиза», сборник очерков А.Н.Радищева «Путешествие из Петербурга в Москву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5. Черты какого литературного направления отсутствуют в пьесе А.С.Грибоедова «Горе от ума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6. Как называется художественное определение, помогающее автору создать образ, выразить свое отношен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7. Как называется художественный прием, состоящий в переносе свойств человека на неодушевленные предметы, явления природы или животных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8. Как называется художественное преувеличен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2. Признаки какого литературного направления прослеживаются в следующих принципах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зображение событий и героев в развит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ипичность литературных персонаж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остоверное изображение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классиц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ентимен-т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ре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9. Запишите синоним к термину аллегор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30. Какое средство выразительности вводится союзами КАК, СЛОВНО, БУДТО, ТОЧНО, КАК БУДТО, ЧТО, а также может быть выражено существительным в творительном падеж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31. Как называется употребление слова в переносном значени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32. В произведениях какого литературного рода чаще всего встречается такое художественное средство, как АССОНАНС и АЛЛИТЕРАЦ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3. Признаки какого литературного направления прослеживаются в следующих принципах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думанность образов, схематичность характе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зидатель-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рогое деление на положитель-ных и отрица-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классиц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ентимента-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ре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4. Признаки какого литературного направления прослеживаются в следующих принципах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ысшая ценность -  чу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бъективностьизображен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деи нравст-венного равен-ства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классиц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ентимента-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ре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5. В основе какого литературного рода лежат чувства, эмоции, переживания автора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6. В основе какого литературного рода лежит  повествование, рассказ о событиях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ahoma"/>
              </a:rPr>
              <a:t>7. Какой литературный род совмещает  повествование о событиях, написанное стихами, с чувствами, переживаниями автора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8. В основе какого литературного рода лежит  действие, представленное в диалоговой форм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1. эп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2. лир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3. др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. лиро-эп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7:54:34Z</dcterms:created>
  <dc:creator>usertest1</dc:creator>
  <dc:description/>
  <dc:language>en-US</dc:language>
  <cp:lastModifiedBy>Alfat Mukhametshin</cp:lastModifiedBy>
  <dcterms:modified xsi:type="dcterms:W3CDTF">2019-12-24T21:50:26Z</dcterms:modified>
  <cp:revision>25</cp:revision>
  <dc:subject/>
  <dc:title>Жанр, род, напрвление</dc:title>
</cp:coreProperties>
</file>