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17.png" ContentType="image/png"/>
  <Override PartName="/ppt/media/image32.jpeg" ContentType="image/jpeg"/>
  <Override PartName="/ppt/media/image23.jpeg" ContentType="image/jpeg"/>
  <Override PartName="/ppt/media/image21.wmf" ContentType="image/x-wmf"/>
  <Override PartName="/ppt/media/image18.png" ContentType="image/png"/>
  <Override PartName="/ppt/media/image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applause.wav" ContentType="audio/x-wav"/>
  <Override PartName="/ppt/media/image8.jpeg" ContentType="image/jpeg"/>
  <Override PartName="/ppt/media/image10.gif" ContentType="image/gif"/>
  <Override PartName="/ppt/media/image12.jpeg" ContentType="image/jpeg"/>
  <Override PartName="/ppt/media/image27.gif" ContentType="image/gif"/>
  <Override PartName="/ppt/media/image1.jpeg" ContentType="image/jpeg"/>
  <Override PartName="/ppt/media/image28.gif" ContentType="image/gif"/>
  <Override PartName="/ppt/media/image30.gif" ContentType="image/gif"/>
  <Override PartName="/ppt/media/image5.wmf" ContentType="image/x-wmf"/>
  <Override PartName="/ppt/media/image9.gif" ContentType="image/gif"/>
  <Override PartName="/ppt/media/image26.gif" ContentType="image/gif"/>
  <Override PartName="/ppt/media/image3.gif" ContentType="image/gif"/>
  <Override PartName="/ppt/media/image29.wmf" ContentType="image/x-wmf"/>
  <Override PartName="/ppt/media/image31.gif" ContentType="image/gif"/>
  <Override PartName="/ppt/media/image34.jpeg" ContentType="image/jpeg"/>
  <Override PartName="/ppt/media/image36.gif" ContentType="image/gif"/>
  <Override PartName="/ppt/media/chimes.wav" ContentType="audio/x-wav"/>
  <Override PartName="/ppt/media/wind.wav" ContentType="audio/x-wav"/>
  <Override PartName="/ppt/media/image16.png" ContentType="image/png"/>
  <Override PartName="/ppt/media/image7.jpeg" ContentType="image/jpeg"/>
  <Override PartName="/ppt/media/image35.gif" ContentType="image/gif"/>
  <Override PartName="/ppt/media/camera.wav" ContentType="audio/x-wav"/>
  <Override PartName="/ppt/media/image25.jpeg" ContentType="image/jpeg"/>
  <Override PartName="/ppt/media/image2.png" ContentType="image/png"/>
  <Override PartName="/ppt/media/image22.gif" ContentType="image/gif"/>
  <Override PartName="/ppt/media/image33.jpeg" ContentType="image/jpeg"/>
  <Override PartName="/ppt/media/image4.gif" ContentType="image/gif"/>
  <Override PartName="/ppt/media/drumroll.wav" ContentType="audio/x-wav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0B0-4F34-46B1-A0CC-C3EA71AA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7ED2-E78F-4C9D-8AF8-FC003D93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894-E5B4-43E8-AD93-A81CE547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9AE-82BE-4E5D-ADC0-3806150E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8DA-EDD1-45CC-95B2-1B7D8727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B26-F728-4FE8-BE5A-E2459EBB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554-8BB2-46B7-BA50-F9CA0869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524-AA83-42D5-B8A4-C3336E1D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B50-FA11-4682-BA53-5B47C7C7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08F-F283-452A-9A83-41B3B1F9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B71-1043-4A92-BA2E-D6B20916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042-0888-46DA-AC23-5B1BF088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ff00"/>
            </a:gs>
            <a:gs pos="100000">
              <a:srgbClr val="ff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C640-A5C1-4A70-92C4-4AA1F0C5D7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6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Урок русского язы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Соста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Каракулова Л.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сова"/>
          <p:cNvPicPr/>
          <p:nvPr/>
        </p:nvPicPr>
        <p:blipFill>
          <a:blip r:embed="rId1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2" descr="книга и карандаш.wmf"/>
          <p:cNvPicPr/>
          <p:nvPr/>
        </p:nvPicPr>
        <p:blipFill>
          <a:blip r:embed="rId1"/>
          <a:stretch/>
        </p:blipFill>
        <p:spPr>
          <a:xfrm>
            <a:off x="6858000" y="-14292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80" y="0"/>
            <a:ext cx="9144000" cy="674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ff"/>
                </a:solidFill>
                <a:latin typeface="Arial"/>
              </a:rPr>
              <a:t>1</a:t>
            </a:r>
            <a:r>
              <a:rPr b="1" i="1" lang="en-US" sz="4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66ffff"/>
                </a:solidFill>
                <a:latin typeface="Arial"/>
              </a:rPr>
              <a:t>вариант</a:t>
            </a:r>
            <a:r>
              <a:rPr b="1" lang="ru-RU" sz="4000" spc="-1" strike="noStrike">
                <a:solidFill>
                  <a:srgbClr val="66ffff"/>
                </a:solidFill>
                <a:latin typeface="Arial"/>
              </a:rPr>
              <a:t>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Соль) </a:t>
            </a: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лить, с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лёный; (корм) к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рмить, к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рмушка; (боль) б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льной, заб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леть;(даль) д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лёкий, д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леко; (молча) м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лчун, м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лчать; (вар) в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рить, в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ренье. </a:t>
            </a:r>
            <a:br>
              <a:rPr sz="4000"/>
            </a:b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2 вариант.</a:t>
            </a: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(Свет) 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в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ить, св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ильник; (письма) п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ьмо, зап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ать; (пчёлы) пч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линый, пч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ла; (диво) уд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лять, уд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ительный; (зёрна) з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но, з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новой; (пляска) п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ать, п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ун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 flipH="1">
            <a:off x="7486200" y="333360"/>
            <a:ext cx="142920" cy="216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1" descr="I:\sun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Дифференцированная </a:t>
            </a: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AG00315_"/>
          <p:cNvPicPr/>
          <p:nvPr/>
        </p:nvPicPr>
        <p:blipFill>
          <a:blip r:embed="rId2"/>
          <a:stretch/>
        </p:blipFill>
        <p:spPr>
          <a:xfrm>
            <a:off x="285840" y="1643040"/>
            <a:ext cx="3504960" cy="2077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AG00315_"/>
          <p:cNvPicPr/>
          <p:nvPr/>
        </p:nvPicPr>
        <p:blipFill>
          <a:blip r:embed="rId3"/>
          <a:stretch/>
        </p:blipFill>
        <p:spPr>
          <a:xfrm>
            <a:off x="5638680" y="2500200"/>
            <a:ext cx="3505320" cy="2078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AG00315_"/>
          <p:cNvPicPr/>
          <p:nvPr/>
        </p:nvPicPr>
        <p:blipFill>
          <a:blip r:embed="rId4"/>
          <a:stretch/>
        </p:blipFill>
        <p:spPr>
          <a:xfrm>
            <a:off x="2357280" y="4357800"/>
            <a:ext cx="3505320" cy="2077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5"/>
          <p:cNvSpPr/>
          <p:nvPr/>
        </p:nvSpPr>
        <p:spPr>
          <a:xfrm rot="8665800">
            <a:off x="-1168200" y="1958760"/>
            <a:ext cx="11204640" cy="2414520"/>
          </a:xfrm>
          <a:prstGeom prst="flowChartPunchedTap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 rot="1723800">
            <a:off x="-1181160" y="1744560"/>
            <a:ext cx="11136240" cy="3178440"/>
          </a:xfrm>
          <a:custGeom>
            <a:avLst/>
            <a:gdLst>
              <a:gd name="textAreaLeft" fmla="*/ 0 w 11136240"/>
              <a:gd name="textAreaRight" fmla="*/ 11136600 w 11136240"/>
              <a:gd name="textAreaTop" fmla="*/ 411840 h 3178440"/>
              <a:gd name="textAreaBottom" fmla="*/ 2766600 h 3178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 rot="18742800">
            <a:off x="3209760" y="2730240"/>
            <a:ext cx="792000" cy="2195640"/>
          </a:xfrm>
          <a:prstGeom prst="can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 rot="18742800">
            <a:off x="1888560" y="2511000"/>
            <a:ext cx="792360" cy="2195640"/>
          </a:xfrm>
          <a:prstGeom prst="can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 rot="17761800">
            <a:off x="3596040" y="3234600"/>
            <a:ext cx="792000" cy="2952720"/>
          </a:xfrm>
          <a:prstGeom prst="can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 rot="20271600">
            <a:off x="4768920" y="1287000"/>
            <a:ext cx="792000" cy="2195640"/>
          </a:xfrm>
          <a:prstGeom prst="can">
            <a:avLst>
              <a:gd name="adj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 rot="18742800">
            <a:off x="3957840" y="862920"/>
            <a:ext cx="693720" cy="2484720"/>
          </a:xfrm>
          <a:prstGeom prst="can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>
            <a:off x="7356600" y="1833480"/>
            <a:ext cx="1284120" cy="203832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2038320"/>
              <a:gd name="textAreaBottom" fmla="*/ 2038320 h 2038320"/>
            </a:gdLst>
            <a:ahLst/>
            <a:rect l="textAreaLeft" t="textAreaTop" r="textAreaRight" b="textAreaBottom"/>
            <a:pathLst>
              <a:path w="809" h="1284">
                <a:moveTo>
                  <a:pt x="242" y="1277"/>
                </a:moveTo>
                <a:cubicBezTo>
                  <a:pt x="114" y="1284"/>
                  <a:pt x="0" y="249"/>
                  <a:pt x="15" y="234"/>
                </a:cubicBezTo>
                <a:cubicBezTo>
                  <a:pt x="30" y="219"/>
                  <a:pt x="310" y="1224"/>
                  <a:pt x="333" y="1186"/>
                </a:cubicBezTo>
                <a:cubicBezTo>
                  <a:pt x="356" y="1148"/>
                  <a:pt x="144" y="14"/>
                  <a:pt x="151" y="7"/>
                </a:cubicBezTo>
                <a:cubicBezTo>
                  <a:pt x="158" y="0"/>
                  <a:pt x="272" y="1111"/>
                  <a:pt x="378" y="1141"/>
                </a:cubicBezTo>
                <a:cubicBezTo>
                  <a:pt x="484" y="1171"/>
                  <a:pt x="809" y="166"/>
                  <a:pt x="786" y="189"/>
                </a:cubicBezTo>
                <a:cubicBezTo>
                  <a:pt x="763" y="212"/>
                  <a:pt x="370" y="1270"/>
                  <a:pt x="242" y="1277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3"/>
          <p:cNvSpPr/>
          <p:nvPr/>
        </p:nvSpPr>
        <p:spPr>
          <a:xfrm>
            <a:off x="7740720" y="1628640"/>
            <a:ext cx="527040" cy="2052720"/>
          </a:xfrm>
          <a:custGeom>
            <a:avLst/>
            <a:gdLst>
              <a:gd name="textAreaLeft" fmla="*/ 0 w 527040"/>
              <a:gd name="textAreaRight" fmla="*/ 527400 w 527040"/>
              <a:gd name="textAreaTop" fmla="*/ 0 h 2052720"/>
              <a:gd name="textAreaBottom" fmla="*/ 2053080 h 2052720"/>
            </a:gdLst>
            <a:ahLst/>
            <a:rect l="textAreaLeft" t="textAreaTop" r="textAreaRight" b="textAreaBottom"/>
            <a:pathLst>
              <a:path w="332" h="1293">
                <a:moveTo>
                  <a:pt x="45" y="998"/>
                </a:moveTo>
                <a:cubicBezTo>
                  <a:pt x="184" y="544"/>
                  <a:pt x="324" y="90"/>
                  <a:pt x="317" y="45"/>
                </a:cubicBezTo>
                <a:cubicBezTo>
                  <a:pt x="310" y="0"/>
                  <a:pt x="0" y="681"/>
                  <a:pt x="0" y="726"/>
                </a:cubicBezTo>
                <a:cubicBezTo>
                  <a:pt x="0" y="771"/>
                  <a:pt x="302" y="235"/>
                  <a:pt x="317" y="318"/>
                </a:cubicBezTo>
                <a:cubicBezTo>
                  <a:pt x="332" y="401"/>
                  <a:pt x="91" y="1157"/>
                  <a:pt x="91" y="1225"/>
                </a:cubicBezTo>
                <a:cubicBezTo>
                  <a:pt x="91" y="1293"/>
                  <a:pt x="287" y="809"/>
                  <a:pt x="317" y="726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4"/>
          <p:cNvSpPr/>
          <p:nvPr/>
        </p:nvSpPr>
        <p:spPr>
          <a:xfrm>
            <a:off x="324000" y="3621240"/>
            <a:ext cx="1031760" cy="146340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1463400"/>
              <a:gd name="textAreaBottom" fmla="*/ 1463760 h 1463400"/>
            </a:gdLst>
            <a:ahLst/>
            <a:rect l="textAreaLeft" t="textAreaTop" r="textAreaRight" b="textAreaBottom"/>
            <a:pathLst>
              <a:path w="628" h="832">
                <a:moveTo>
                  <a:pt x="114" y="832"/>
                </a:moveTo>
                <a:cubicBezTo>
                  <a:pt x="99" y="522"/>
                  <a:pt x="84" y="212"/>
                  <a:pt x="69" y="106"/>
                </a:cubicBezTo>
                <a:cubicBezTo>
                  <a:pt x="54" y="0"/>
                  <a:pt x="0" y="91"/>
                  <a:pt x="23" y="197"/>
                </a:cubicBezTo>
                <a:cubicBezTo>
                  <a:pt x="46" y="303"/>
                  <a:pt x="152" y="741"/>
                  <a:pt x="205" y="741"/>
                </a:cubicBezTo>
                <a:cubicBezTo>
                  <a:pt x="258" y="741"/>
                  <a:pt x="318" y="205"/>
                  <a:pt x="341" y="197"/>
                </a:cubicBezTo>
                <a:cubicBezTo>
                  <a:pt x="364" y="189"/>
                  <a:pt x="311" y="665"/>
                  <a:pt x="341" y="695"/>
                </a:cubicBezTo>
                <a:cubicBezTo>
                  <a:pt x="371" y="725"/>
                  <a:pt x="492" y="416"/>
                  <a:pt x="522" y="378"/>
                </a:cubicBezTo>
                <a:cubicBezTo>
                  <a:pt x="552" y="340"/>
                  <a:pt x="529" y="431"/>
                  <a:pt x="522" y="469"/>
                </a:cubicBezTo>
                <a:cubicBezTo>
                  <a:pt x="515" y="507"/>
                  <a:pt x="462" y="658"/>
                  <a:pt x="477" y="605"/>
                </a:cubicBezTo>
                <a:cubicBezTo>
                  <a:pt x="492" y="552"/>
                  <a:pt x="598" y="211"/>
                  <a:pt x="613" y="151"/>
                </a:cubicBezTo>
                <a:cubicBezTo>
                  <a:pt x="628" y="91"/>
                  <a:pt x="575" y="212"/>
                  <a:pt x="567" y="242"/>
                </a:cubicBezTo>
                <a:cubicBezTo>
                  <a:pt x="559" y="272"/>
                  <a:pt x="582" y="273"/>
                  <a:pt x="567" y="333"/>
                </a:cubicBezTo>
                <a:cubicBezTo>
                  <a:pt x="552" y="393"/>
                  <a:pt x="492" y="560"/>
                  <a:pt x="477" y="60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5"/>
          <p:cNvSpPr/>
          <p:nvPr/>
        </p:nvSpPr>
        <p:spPr>
          <a:xfrm>
            <a:off x="3419640" y="189000"/>
            <a:ext cx="1128600" cy="142704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1427040"/>
              <a:gd name="textAreaBottom" fmla="*/ 1427400 h 1427040"/>
            </a:gdLst>
            <a:ahLst/>
            <a:rect l="textAreaLeft" t="textAreaTop" r="textAreaRight" b="textAreaBottom"/>
            <a:pathLst>
              <a:path w="711" h="899">
                <a:moveTo>
                  <a:pt x="545" y="726"/>
                </a:moveTo>
                <a:cubicBezTo>
                  <a:pt x="378" y="363"/>
                  <a:pt x="212" y="0"/>
                  <a:pt x="227" y="0"/>
                </a:cubicBezTo>
                <a:cubicBezTo>
                  <a:pt x="242" y="0"/>
                  <a:pt x="559" y="703"/>
                  <a:pt x="635" y="726"/>
                </a:cubicBezTo>
                <a:cubicBezTo>
                  <a:pt x="711" y="749"/>
                  <a:pt x="696" y="121"/>
                  <a:pt x="681" y="136"/>
                </a:cubicBezTo>
                <a:cubicBezTo>
                  <a:pt x="666" y="151"/>
                  <a:pt x="658" y="786"/>
                  <a:pt x="545" y="816"/>
                </a:cubicBezTo>
                <a:cubicBezTo>
                  <a:pt x="432" y="846"/>
                  <a:pt x="0" y="317"/>
                  <a:pt x="0" y="317"/>
                </a:cubicBezTo>
                <a:cubicBezTo>
                  <a:pt x="0" y="317"/>
                  <a:pt x="439" y="733"/>
                  <a:pt x="545" y="816"/>
                </a:cubicBezTo>
                <a:cubicBezTo>
                  <a:pt x="651" y="899"/>
                  <a:pt x="612" y="839"/>
                  <a:pt x="635" y="816"/>
                </a:cubicBezTo>
                <a:cubicBezTo>
                  <a:pt x="658" y="793"/>
                  <a:pt x="681" y="710"/>
                  <a:pt x="681" y="680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 rot="15718200">
            <a:off x="3923640" y="3788280"/>
            <a:ext cx="792000" cy="2952720"/>
          </a:xfrm>
          <a:prstGeom prst="can">
            <a:avLst>
              <a:gd name="adj" fmla="val 25000"/>
            </a:avLst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9" descr="a17"/>
          <p:cNvPicPr/>
          <p:nvPr/>
        </p:nvPicPr>
        <p:blipFill>
          <a:blip r:embed="rId8"/>
          <a:stretch/>
        </p:blipFill>
        <p:spPr>
          <a:xfrm>
            <a:off x="0" y="4076640"/>
            <a:ext cx="251928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5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9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animClr clrSpc="rgb">
                                      <p:cBhvr>
                                        <p:cTn id="1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5"/>
          <p:cNvSpPr/>
          <p:nvPr/>
        </p:nvSpPr>
        <p:spPr>
          <a:xfrm>
            <a:off x="0" y="0"/>
            <a:ext cx="9144000" cy="6021360"/>
          </a:xfrm>
          <a:custGeom>
            <a:avLst/>
            <a:gdLst>
              <a:gd name="textAreaLeft" fmla="*/ 0 w 9144000"/>
              <a:gd name="textAreaRight" fmla="*/ 9144360 w 9144000"/>
              <a:gd name="textAreaTop" fmla="*/ 780480 h 6021360"/>
              <a:gd name="textAreaBottom" fmla="*/ 5240880 h 6021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  книг  своя  жизнь.  Они  тоже  с  гадами  могут  бале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 их  не  содиржать  в  честоте,  типле и  порядк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чки, плесень и грязь  губят  книг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9"/>
          <p:cNvSpPr txBox="1"/>
          <p:nvPr/>
        </p:nvSpPr>
        <p:spPr>
          <a:xfrm>
            <a:off x="5724360" y="2205000"/>
            <a:ext cx="1447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8028000" y="2133720"/>
            <a:ext cx="144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2987640" y="2781360"/>
            <a:ext cx="14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6227640" y="2852640"/>
            <a:ext cx="1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33" name="WordArt 15"/>
          <p:cNvSpPr txBox="1"/>
          <p:nvPr/>
        </p:nvSpPr>
        <p:spPr>
          <a:xfrm>
            <a:off x="4788000" y="2781360"/>
            <a:ext cx="1429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34" name="WordArt 16"/>
          <p:cNvSpPr txBox="1"/>
          <p:nvPr/>
        </p:nvSpPr>
        <p:spPr>
          <a:xfrm>
            <a:off x="8101080" y="2852640"/>
            <a:ext cx="14436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35" name="WordArt 17"/>
          <p:cNvSpPr txBox="1"/>
          <p:nvPr/>
        </p:nvSpPr>
        <p:spPr>
          <a:xfrm>
            <a:off x="5003640" y="3429000"/>
            <a:ext cx="142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136" name="Picture 19" descr="8"/>
          <p:cNvPicPr/>
          <p:nvPr/>
        </p:nvPicPr>
        <p:blipFill>
          <a:blip r:embed="rId1"/>
          <a:stretch/>
        </p:blipFill>
        <p:spPr>
          <a:xfrm>
            <a:off x="6877080" y="4508640"/>
            <a:ext cx="1944720" cy="1852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06"/>
          <p:cNvPicPr/>
          <p:nvPr/>
        </p:nvPicPr>
        <p:blipFill>
          <a:blip r:embed="rId2"/>
          <a:stretch/>
        </p:blipFill>
        <p:spPr>
          <a:xfrm>
            <a:off x="0" y="549360"/>
            <a:ext cx="144144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253 -0.00254 C -0.34045 0.06794 -0.33559 0.16663 -0.31753 0.16524 C -0.29149 0.16524 -0.28958 -0.16501 -0.2585 -0.16617 C -0.23055 -0.16617 -0.24548 0.12249 -0.21857 0.12133 C -0.19045 0.12133 -0.20555 -0.08782 -0.17552 -0.08782 C -0.14861 -0.08782 -0.16354 0.05338 -0.13958 0.05338 C -0.11649 0.05338 -0.12847 -0.05454 -0.10746 -0.05454 C -0.09548 -0.05454 -0.09461 -0.02519 -0.09357 -0.00254 E">
                                      <p:cBhvr>
                                        <p:cTn id="235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2" descr="книга и карандаш.wmf"/>
          <p:cNvPicPr/>
          <p:nvPr/>
        </p:nvPicPr>
        <p:blipFill>
          <a:blip r:embed="rId1"/>
          <a:stretch/>
        </p:blipFill>
        <p:spPr>
          <a:xfrm>
            <a:off x="714240" y="0"/>
            <a:ext cx="807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2" descr="LANDS027"/>
          <p:cNvPicPr/>
          <p:nvPr/>
        </p:nvPicPr>
        <p:blipFill>
          <a:blip r:embed="rId1"/>
          <a:stretch/>
        </p:blipFill>
        <p:spPr>
          <a:xfrm>
            <a:off x="971640" y="0"/>
            <a:ext cx="845964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18m5"/>
          <p:cNvPicPr/>
          <p:nvPr/>
        </p:nvPicPr>
        <p:blipFill>
          <a:blip r:embed="rId2"/>
          <a:stretch/>
        </p:blipFill>
        <p:spPr>
          <a:xfrm>
            <a:off x="0" y="4653000"/>
            <a:ext cx="169236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3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22"/>
          <p:cNvPicPr/>
          <p:nvPr/>
        </p:nvPicPr>
        <p:blipFill>
          <a:blip r:embed="rId1"/>
          <a:stretch/>
        </p:blipFill>
        <p:spPr>
          <a:xfrm>
            <a:off x="1692360" y="549360"/>
            <a:ext cx="5975280" cy="5759280"/>
          </a:xfrm>
          <a:prstGeom prst="rect">
            <a:avLst/>
          </a:prstGeom>
          <a:ln w="0">
            <a:noFill/>
          </a:ln>
        </p:spPr>
      </p:pic>
      <p:sp>
        <p:nvSpPr>
          <p:cNvPr id="142" name="WordArt 6"/>
          <p:cNvSpPr txBox="1"/>
          <p:nvPr/>
        </p:nvSpPr>
        <p:spPr>
          <a:xfrm>
            <a:off x="3492360" y="1557360"/>
            <a:ext cx="3167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ень!!!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езударный в корне – хитрый гласный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ышим мы его прекрасно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 в письме какая буква?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есь поможет нам наука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ласный ставь под ударенье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тоб развеять все сомнен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22"/>
          <p:cNvPicPr/>
          <p:nvPr/>
        </p:nvPicPr>
        <p:blipFill>
          <a:blip r:embed="rId2"/>
          <a:stretch/>
        </p:blipFill>
        <p:spPr>
          <a:xfrm>
            <a:off x="5357880" y="3857760"/>
            <a:ext cx="3373200" cy="27493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Image3695"/>
          <p:cNvPicPr/>
          <p:nvPr/>
        </p:nvPicPr>
        <p:blipFill>
          <a:blip r:embed="rId1"/>
          <a:stretch/>
        </p:blipFill>
        <p:spPr>
          <a:xfrm>
            <a:off x="1714680" y="0"/>
            <a:ext cx="550044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Image3695"/>
          <p:cNvPicPr/>
          <p:nvPr/>
        </p:nvPicPr>
        <p:blipFill>
          <a:blip r:embed="rId1"/>
          <a:stretch/>
        </p:blipFill>
        <p:spPr>
          <a:xfrm>
            <a:off x="1714680" y="0"/>
            <a:ext cx="550044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tani29"/>
          <p:cNvPicPr/>
          <p:nvPr/>
        </p:nvPicPr>
        <p:blipFill>
          <a:blip r:embed="rId2"/>
          <a:stretch/>
        </p:blipFill>
        <p:spPr>
          <a:xfrm>
            <a:off x="6541920" y="1341360"/>
            <a:ext cx="2602080" cy="27608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49976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262673"/>
                </a:solidFill>
                <a:latin typeface="Arial"/>
              </a:rPr>
              <a:t>Домашнее задание</a:t>
            </a:r>
            <a:br>
              <a:rPr sz="8000"/>
            </a:br>
            <a:r>
              <a:rPr b="0" lang="ru-RU" sz="7200" spc="-1" strike="noStrike">
                <a:solidFill>
                  <a:srgbClr val="c00000"/>
                </a:solidFill>
                <a:latin typeface="Arial"/>
              </a:rPr>
              <a:t>с.104-правило;</a:t>
            </a: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 с.106 упр. 199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250920" y="3933720"/>
            <a:ext cx="88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Рекомендации: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к словам подберёте проверочное слово и запишите по образц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755640" y="476280"/>
            <a:ext cx="72010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за  работу 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684360" y="3171960"/>
            <a:ext cx="784836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 новой  встречи!!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10" descr="13"/>
          <p:cNvPicPr/>
          <p:nvPr/>
        </p:nvPicPr>
        <p:blipFill>
          <a:blip r:embed="rId1"/>
          <a:stretch/>
        </p:blipFill>
        <p:spPr>
          <a:xfrm>
            <a:off x="2268360" y="5157720"/>
            <a:ext cx="4464360" cy="1057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b1"/>
          <p:cNvPicPr/>
          <p:nvPr/>
        </p:nvPicPr>
        <p:blipFill>
          <a:blip r:embed="rId2"/>
          <a:stretch/>
        </p:blipFill>
        <p:spPr>
          <a:xfrm>
            <a:off x="395280" y="1700280"/>
            <a:ext cx="1727280" cy="25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6"/>
          <p:cNvSpPr txBox="1"/>
          <p:nvPr/>
        </p:nvSpPr>
        <p:spPr>
          <a:xfrm rot="21058200">
            <a:off x="250920" y="1052640"/>
            <a:ext cx="6777000" cy="29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0000ff"/>
                    </a:gs>
                    <a:gs pos="100000">
                      <a:srgbClr val="66ff33"/>
                    </a:gs>
                  </a:gsLst>
                  <a:lin ang="324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  стране 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0000ff"/>
                  </a:gs>
                  <a:gs pos="100000">
                    <a:srgbClr val="66ff33"/>
                  </a:gs>
                </a:gsLst>
                <a:lin ang="324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0000ff"/>
                    </a:gs>
                    <a:gs pos="100000">
                      <a:srgbClr val="66ff33"/>
                    </a:gs>
                  </a:gsLst>
                  <a:lin ang="324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0000ff"/>
                    </a:gs>
                    <a:gs pos="100000">
                      <a:srgbClr val="66ff33"/>
                    </a:gs>
                  </a:gsLst>
                  <a:lin ang="324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усского языка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0000ff"/>
                  </a:gs>
                  <a:gs pos="100000">
                    <a:srgbClr val="66ff33"/>
                  </a:gs>
                </a:gsLst>
                <a:lin ang="324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7" descr="03"/>
          <p:cNvPicPr/>
          <p:nvPr/>
        </p:nvPicPr>
        <p:blipFill>
          <a:blip r:embed="rId1"/>
          <a:stretch/>
        </p:blipFill>
        <p:spPr>
          <a:xfrm>
            <a:off x="5810400" y="0"/>
            <a:ext cx="3333600" cy="22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126"/>
          <p:cNvPicPr/>
          <p:nvPr/>
        </p:nvPicPr>
        <p:blipFill>
          <a:blip r:embed="rId2"/>
          <a:stretch/>
        </p:blipFill>
        <p:spPr>
          <a:xfrm>
            <a:off x="0" y="260280"/>
            <a:ext cx="1440000" cy="1224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17"/>
          <p:cNvSpPr txBox="1"/>
          <p:nvPr/>
        </p:nvSpPr>
        <p:spPr>
          <a:xfrm>
            <a:off x="0" y="4581360"/>
            <a:ext cx="52005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гости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 дедушке Корню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18" descr="LANDS093"/>
          <p:cNvPicPr/>
          <p:nvPr/>
        </p:nvPicPr>
        <p:blipFill>
          <a:blip r:embed="rId3"/>
          <a:stretch/>
        </p:blipFill>
        <p:spPr>
          <a:xfrm>
            <a:off x="5508720" y="3933720"/>
            <a:ext cx="3635280" cy="29242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7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547640" y="907920"/>
            <a:ext cx="3097440" cy="532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643280" y="907920"/>
            <a:ext cx="3024360" cy="532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596360" y="3213000"/>
            <a:ext cx="1547640" cy="302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3357720"/>
            <a:ext cx="1547640" cy="2879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1258920" y="0"/>
            <a:ext cx="6769080" cy="836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284720" y="3284640"/>
            <a:ext cx="792000" cy="718920"/>
          </a:xfrm>
          <a:custGeom>
            <a:avLst/>
            <a:gdLst>
              <a:gd name="textAreaLeft" fmla="*/ 0 w 792000"/>
              <a:gd name="textAreaRight" fmla="*/ 792360 w 792000"/>
              <a:gd name="textAreaTop" fmla="*/ 0 h 718920"/>
              <a:gd name="textAreaBottom" fmla="*/ 256680 h 7189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3012"/>
              </a:gs>
              <a:gs pos="100000">
                <a:srgbClr val="66301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 rot="5400000">
            <a:off x="4321080" y="3608280"/>
            <a:ext cx="718920" cy="792000"/>
          </a:xfrm>
          <a:prstGeom prst="flowChartDelay">
            <a:avLst/>
          </a:prstGeom>
          <a:gradFill rotWithShape="0">
            <a:gsLst>
              <a:gs pos="0">
                <a:srgbClr val="d6b19c"/>
              </a:gs>
              <a:gs pos="100000">
                <a:srgbClr val="d6b19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 rot="10663800">
            <a:off x="1978920" y="1987200"/>
            <a:ext cx="1150920" cy="3170160"/>
          </a:xfrm>
          <a:custGeom>
            <a:avLst/>
            <a:gdLst>
              <a:gd name="textAreaLeft" fmla="*/ 0 w 1150920"/>
              <a:gd name="textAreaRight" fmla="*/ 1151280 w 1150920"/>
              <a:gd name="textAreaTop" fmla="*/ 410760 h 3170160"/>
              <a:gd name="textAreaBottom" fmla="*/ 2759400 h 3170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 rot="10800000">
            <a:off x="5940000" y="2204640"/>
            <a:ext cx="1150920" cy="3095640"/>
          </a:xfrm>
          <a:custGeom>
            <a:avLst/>
            <a:gdLst>
              <a:gd name="textAreaLeft" fmla="*/ 0 w 1150920"/>
              <a:gd name="textAreaRight" fmla="*/ 1151280 w 1150920"/>
              <a:gd name="textAreaTop" fmla="*/ 401040 h 3095640"/>
              <a:gd name="textAreaBottom" fmla="*/ 26946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1042920" y="2924280"/>
            <a:ext cx="432000" cy="43344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7596360" y="2781360"/>
            <a:ext cx="431640" cy="43344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8028000" y="2781360"/>
            <a:ext cx="431640" cy="43344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8388360" y="2781360"/>
            <a:ext cx="431640" cy="43344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8712360" y="2781360"/>
            <a:ext cx="431640" cy="43344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324000" y="2924280"/>
            <a:ext cx="431640" cy="43344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0" y="2924280"/>
            <a:ext cx="431640" cy="43344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755640" y="2852640"/>
            <a:ext cx="287280" cy="505080"/>
          </a:xfrm>
          <a:prstGeom prst="triangle">
            <a:avLst>
              <a:gd name="adj" fmla="val 6431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30"/>
          <p:cNvSpPr txBox="1"/>
          <p:nvPr/>
        </p:nvSpPr>
        <p:spPr>
          <a:xfrm>
            <a:off x="2771640" y="1268280"/>
            <a:ext cx="574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31"/>
          <p:cNvSpPr txBox="1"/>
          <p:nvPr/>
        </p:nvSpPr>
        <p:spPr>
          <a:xfrm>
            <a:off x="6804000" y="112536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WordArt 32"/>
          <p:cNvSpPr txBox="1"/>
          <p:nvPr/>
        </p:nvSpPr>
        <p:spPr>
          <a:xfrm>
            <a:off x="5940360" y="5157720"/>
            <a:ext cx="285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WordArt 35"/>
          <p:cNvSpPr txBox="1"/>
          <p:nvPr/>
        </p:nvSpPr>
        <p:spPr>
          <a:xfrm>
            <a:off x="2411280" y="3357720"/>
            <a:ext cx="43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WordArt 36"/>
          <p:cNvSpPr txBox="1"/>
          <p:nvPr/>
        </p:nvSpPr>
        <p:spPr>
          <a:xfrm>
            <a:off x="6300720" y="3284640"/>
            <a:ext cx="50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37"/>
          <p:cNvSpPr txBox="1"/>
          <p:nvPr/>
        </p:nvSpPr>
        <p:spPr>
          <a:xfrm>
            <a:off x="5148360" y="119700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3816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39" descr="B_Fly02"/>
          <p:cNvPicPr/>
          <p:nvPr/>
        </p:nvPicPr>
        <p:blipFill>
          <a:blip r:embed="rId6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2" descr="Rept01"/>
          <p:cNvPicPr/>
          <p:nvPr/>
        </p:nvPicPr>
        <p:blipFill>
          <a:blip r:embed="rId7"/>
          <a:stretch/>
        </p:blipFill>
        <p:spPr>
          <a:xfrm>
            <a:off x="3132000" y="4581360"/>
            <a:ext cx="1582920" cy="175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8"/>
          <p:cNvSpPr/>
          <p:nvPr/>
        </p:nvSpPr>
        <p:spPr>
          <a:xfrm>
            <a:off x="401760" y="330120"/>
            <a:ext cx="849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тер          ч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тверг </a:t>
            </a: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года        уж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обл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о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за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 flipV="1">
            <a:off x="357120" y="5500440"/>
            <a:ext cx="828036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14"/>
          <p:cNvSpPr txBox="1"/>
          <p:nvPr/>
        </p:nvSpPr>
        <p:spPr>
          <a:xfrm>
            <a:off x="1619280" y="537372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15"/>
          <p:cNvSpPr txBox="1"/>
          <p:nvPr/>
        </p:nvSpPr>
        <p:spPr>
          <a:xfrm>
            <a:off x="3132000" y="5373720"/>
            <a:ext cx="31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16"/>
          <p:cNvSpPr txBox="1"/>
          <p:nvPr/>
        </p:nvSpPr>
        <p:spPr>
          <a:xfrm>
            <a:off x="2484360" y="5373720"/>
            <a:ext cx="358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17"/>
          <p:cNvSpPr txBox="1"/>
          <p:nvPr/>
        </p:nvSpPr>
        <p:spPr>
          <a:xfrm>
            <a:off x="3780000" y="537372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18"/>
          <p:cNvSpPr txBox="1"/>
          <p:nvPr/>
        </p:nvSpPr>
        <p:spPr>
          <a:xfrm>
            <a:off x="4500720" y="5373720"/>
            <a:ext cx="29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19"/>
          <p:cNvSpPr txBox="1"/>
          <p:nvPr/>
        </p:nvSpPr>
        <p:spPr>
          <a:xfrm>
            <a:off x="5148360" y="5373720"/>
            <a:ext cx="28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20"/>
          <p:cNvSpPr txBox="1"/>
          <p:nvPr/>
        </p:nvSpPr>
        <p:spPr>
          <a:xfrm>
            <a:off x="5867280" y="5373720"/>
            <a:ext cx="43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21"/>
          <p:cNvSpPr txBox="1"/>
          <p:nvPr/>
        </p:nvSpPr>
        <p:spPr>
          <a:xfrm>
            <a:off x="6732720" y="5373720"/>
            <a:ext cx="311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WordArt 22"/>
          <p:cNvSpPr txBox="1"/>
          <p:nvPr/>
        </p:nvSpPr>
        <p:spPr>
          <a:xfrm>
            <a:off x="7380360" y="5373720"/>
            <a:ext cx="287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Picture 34" descr="4"/>
          <p:cNvPicPr/>
          <p:nvPr/>
        </p:nvPicPr>
        <p:blipFill>
          <a:blip r:embed="rId1"/>
          <a:stretch/>
        </p:blipFill>
        <p:spPr>
          <a:xfrm>
            <a:off x="7524720" y="4519440"/>
            <a:ext cx="1619280" cy="2338560"/>
          </a:xfrm>
          <a:prstGeom prst="rect">
            <a:avLst/>
          </a:prstGeom>
          <a:ln w="0">
            <a:noFill/>
          </a:ln>
        </p:spPr>
      </p:pic>
    </p:spTree>
  </p:cSld>
  <p:transition>
    <p:cover dir="ru"/>
    <p:sndAc>
      <p:stSnd>
        <p:snd r:embed="rId2" name="wind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564000" y="836640"/>
            <a:ext cx="1584360" cy="208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2448000" cy="208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357120" y="857160"/>
            <a:ext cx="2505240" cy="208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4"/>
          <a:stretch/>
        </p:blipFill>
        <p:spPr>
          <a:xfrm>
            <a:off x="6072120" y="857160"/>
            <a:ext cx="2273400" cy="2089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5"/>
          <a:stretch/>
        </p:blipFill>
        <p:spPr>
          <a:xfrm>
            <a:off x="1476360" y="3500280"/>
            <a:ext cx="2749680" cy="2070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357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Arial"/>
              </a:rPr>
              <a:t>«Безударные гласные в корне слова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coll_5"/>
          <p:cNvPicPr/>
          <p:nvPr/>
        </p:nvPicPr>
        <p:blipFill>
          <a:blip r:embed="rId1"/>
          <a:stretch/>
        </p:blipFill>
        <p:spPr>
          <a:xfrm>
            <a:off x="6478560" y="4525920"/>
            <a:ext cx="2665440" cy="2332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429200" y="-360"/>
            <a:ext cx="1163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лгорит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71720"/>
            <a:ext cx="86868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Прочитай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Поставь уда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Выдели кор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Подчеркни безударные гл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5.   Подбери проверочные сл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6.  Сколько безударных гласных, столько и проверочных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7.  Обозначь орфограм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6624720" y="0"/>
            <a:ext cx="2518560" cy="3328560"/>
            <a:chOff x="6624720" y="0"/>
            <a:chExt cx="2518560" cy="3328560"/>
          </a:xfrm>
        </p:grpSpPr>
        <p:pic>
          <p:nvPicPr>
            <p:cNvPr id="99" name="Picture 6" descr="professor4"/>
            <p:cNvPicPr/>
            <p:nvPr/>
          </p:nvPicPr>
          <p:blipFill>
            <a:blip r:embed="rId1"/>
            <a:stretch/>
          </p:blipFill>
          <p:spPr>
            <a:xfrm>
              <a:off x="6624720" y="455400"/>
              <a:ext cx="2387160" cy="28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WordArt 7"/>
            <p:cNvSpPr txBox="1"/>
            <p:nvPr/>
          </p:nvSpPr>
          <p:spPr>
            <a:xfrm>
              <a:off x="6851880" y="0"/>
              <a:ext cx="2291400" cy="615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p:transition>
    <p:diamond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FAIRY4"/>
          <p:cNvPicPr/>
          <p:nvPr/>
        </p:nvPicPr>
        <p:blipFill>
          <a:blip r:embed="rId2"/>
          <a:stretch/>
        </p:blipFill>
        <p:spPr>
          <a:xfrm>
            <a:off x="6912000" y="1125360"/>
            <a:ext cx="2232000" cy="2113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295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ff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ffff"/>
                </a:solidFill>
                <a:latin typeface="Arial"/>
              </a:rPr>
              <a:t>вариант</a:t>
            </a: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. </a:t>
            </a: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С.лить, с.лёный; к.рмить, к.рмушка; б.льной, заб.леть; д.лёкий, д.леко; м.лчун, м.лчать; в.рить, в.ренье. .</a:t>
            </a:r>
            <a:br>
              <a:rPr sz="4000"/>
            </a:br>
            <a:r>
              <a:rPr b="0" i="1" lang="ru-RU" sz="4000" spc="-1" strike="noStrike">
                <a:solidFill>
                  <a:srgbClr val="33ccff"/>
                </a:solidFill>
                <a:latin typeface="Arial"/>
              </a:rPr>
              <a:t>2 вариант. 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в.тить, св.тильник; п.сьмо, зап.сать; пч.линый, пч.ла; уд.влять, уд.вительный; з.рно, з.рновой; пл.сать, пл.сун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28440" y="198360"/>
            <a:ext cx="911556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ец.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Соль) солить, солёный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3276720" y="198360"/>
            <a:ext cx="934920" cy="428760"/>
          </a:xfrm>
          <a:custGeom>
            <a:avLst/>
            <a:gdLst>
              <a:gd name="textAreaLeft" fmla="*/ 0 w 934920"/>
              <a:gd name="textAreaRight" fmla="*/ 935280 w 9349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726" h="227">
                <a:moveTo>
                  <a:pt x="0" y="227"/>
                </a:moveTo>
                <a:cubicBezTo>
                  <a:pt x="121" y="113"/>
                  <a:pt x="242" y="0"/>
                  <a:pt x="363" y="0"/>
                </a:cubicBezTo>
                <a:cubicBezTo>
                  <a:pt x="484" y="0"/>
                  <a:pt x="666" y="189"/>
                  <a:pt x="726" y="2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0"/>
          <p:cNvSpPr/>
          <p:nvPr/>
        </p:nvSpPr>
        <p:spPr>
          <a:xfrm>
            <a:off x="4586400" y="293760"/>
            <a:ext cx="849240" cy="428400"/>
          </a:xfrm>
          <a:custGeom>
            <a:avLst/>
            <a:gdLst>
              <a:gd name="textAreaLeft" fmla="*/ 0 w 849240"/>
              <a:gd name="textAreaRight" fmla="*/ 849600 w 84924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726" h="227">
                <a:moveTo>
                  <a:pt x="0" y="227"/>
                </a:moveTo>
                <a:cubicBezTo>
                  <a:pt x="121" y="113"/>
                  <a:pt x="242" y="0"/>
                  <a:pt x="363" y="0"/>
                </a:cubicBezTo>
                <a:cubicBezTo>
                  <a:pt x="484" y="0"/>
                  <a:pt x="666" y="189"/>
                  <a:pt x="726" y="2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0"/>
          <p:cNvSpPr/>
          <p:nvPr/>
        </p:nvSpPr>
        <p:spPr>
          <a:xfrm>
            <a:off x="6372360" y="198360"/>
            <a:ext cx="849240" cy="428760"/>
          </a:xfrm>
          <a:custGeom>
            <a:avLst/>
            <a:gdLst>
              <a:gd name="textAreaLeft" fmla="*/ 0 w 849240"/>
              <a:gd name="textAreaRight" fmla="*/ 849600 w 8492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726" h="227">
                <a:moveTo>
                  <a:pt x="0" y="227"/>
                </a:moveTo>
                <a:cubicBezTo>
                  <a:pt x="121" y="113"/>
                  <a:pt x="242" y="0"/>
                  <a:pt x="363" y="0"/>
                </a:cubicBezTo>
                <a:cubicBezTo>
                  <a:pt x="484" y="0"/>
                  <a:pt x="666" y="189"/>
                  <a:pt x="726" y="2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camera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5:10:28Z</dcterms:created>
  <dc:creator>NAME</dc:creator>
  <dc:description/>
  <dc:language>en-US</dc:language>
  <cp:lastModifiedBy>Школа</cp:lastModifiedBy>
  <dcterms:modified xsi:type="dcterms:W3CDTF">2019-12-26T05:24:41Z</dcterms:modified>
  <cp:revision>62</cp:revision>
  <dc:subject/>
  <dc:title>Слайд 1</dc:title>
</cp:coreProperties>
</file>