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A9CB-6076-475C-8FA3-C0B6BF596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8F74-FCF6-490C-9AED-DCAE7C434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1ECD-C0E5-4B37-86FB-C73ECFA87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9843-1D22-413D-8B39-AD1174186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5BED-88EF-4415-9F72-D6CAAE8CE3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BC41-5450-4657-80E6-44DC1FBD53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C2A9-269D-405A-B8FD-0B4B04573A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8C53-C2D0-4557-895B-E3EDFF5F19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F6DE-DA31-4CA5-9687-4B3F50188D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59F4-D571-4232-BE8C-47DA5CE3D5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3886-82D1-46AB-9C33-B9435B7F7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5F09-5169-44B1-AC50-5A9B0D78B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7AE4-DCA9-4F5D-9D6F-0DAC527332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8A42-72A8-4034-9C16-ED71C3D5E5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676A-B4BC-4742-B8B8-1EE6882F6C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BEC2-FFDC-4CFC-8F54-0810EE3A74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96C6-165A-45CF-8B34-226BA3892B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39B-78CB-4EA5-A132-FCDF4D0CDE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DE6-1C80-493A-80B6-DE698F83D5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6E0-D60A-4777-950C-4713E64175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185-9052-4AA3-857C-C44ECC4595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59E-7C3D-47BD-895E-D3A7473B1D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8017-1A81-4BA1-B1EE-8E8AEDC508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D27-8C4B-45B7-A1F4-8B6CF10E0B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BC0-0C17-473A-9068-A3B90355FC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473-F6F0-4B10-97FD-E226D777AE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85B-B457-476D-B950-B780656CB8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2D6-3D6F-4FA7-89EC-1F6DF8B5DB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F558-6DC1-4C6F-93AB-2358E3C5AD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323-6341-4E48-B352-58FA16F252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20772-5907-4FF4-9442-60579A4287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9A21D-28D8-455C-9C61-FA755129DD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5A57F-73D9-4DC3-BF2D-467004A80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0518-92E2-4BBA-9ABA-BE5909A276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B5165-F18A-467D-9281-7969646358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808D5-6A7B-4015-BC37-40C6C5DE51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9E9C8-B724-4DAB-A447-4D50DA7910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22057-CD69-43E7-9A18-B77E5EC69B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D3818-3619-4343-B8E8-6942AEE254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B8CD5-C469-4982-B821-18C45B94C6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9C31B-B2E3-4E04-903B-60110957DD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694DD-8C4E-4B4C-BD4E-FDAA47E31B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ADBC5-6609-4199-8B6D-E4A467EA5C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8B744-9EDF-4F53-AD5B-298AAED9F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E8B5-4467-4297-8583-D04E2120EB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88DAB-3F1E-4027-9152-0A9D4041123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7435F-93F0-4056-9293-36B0FB85835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41F50-3126-4E3C-88AE-E2F4EB87AF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3E494-0911-4DBE-A36C-9ECDF2B2081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21378-B237-4C6F-9B58-CC9E6EB484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CBECE-D3E8-4AAE-8CC8-8DD49C996EA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EA073-57FB-4450-8B52-3957D546E7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59FD6-3316-4185-B08B-33D211A2416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96784-CF76-46D8-A19A-E138818730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9D246-7C51-423A-B55E-AFE078A11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5F2E-063C-4314-AFBF-E52BAA487DE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9E04B-4DD9-4854-AF82-FAEB13854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EEF1-C6D0-4DC8-8460-F63BAE393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62C0-6ED6-425B-8371-2D54D9AC6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A8F6-C967-4B2D-A0A8-E736A7DD7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20840" y="433440"/>
            <a:ext cx="8299440" cy="5483160"/>
            <a:chOff x="420840" y="433440"/>
            <a:chExt cx="8299440" cy="548316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299440" cy="54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5720" cy="54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54804-9FF2-4CF0-B2AF-FB8566264F5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20840" y="433440"/>
            <a:ext cx="8299440" cy="3105000"/>
            <a:chOff x="420840" y="433440"/>
            <a:chExt cx="8299440" cy="3105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299440" cy="31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19880" cy="30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92960C-B3AB-4427-90CB-DAFFFBACC241}" type="slidenum">
              <a: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20840" y="433440"/>
            <a:ext cx="8299440" cy="4336920"/>
            <a:chOff x="420840" y="433440"/>
            <a:chExt cx="8299440" cy="433692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299440" cy="43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48680" cy="42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9C221B-0F6A-4C1F-BA13-DBE06FD029F0}" type="slidenum">
              <a: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4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6B124C-1897-44C8-9C0A-46DF2F4B2976}" type="slidenum">
              <a: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5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363A4D-8BC5-4799-9279-70BC409C0435}" type="slidenum">
              <a: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Библиотека для родителе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Arial"/>
              </a:rPr>
              <a:t>Хухлаева, Хухлаев «Лабиринт души. Терапевтические сказ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67652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ниге представлены терапевтические сказки, предназначенные для психологической помощи детям от 3 до 15 лет. Терапевтические сказочные истории - это разговор с ребенком о психологических трудностях на его собственном язы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истории помогают детям находить выход из сложных ситуаций, выдерживать любые удары судьбы; с их помощью взрослый может лучше понять ребенка, стать ему бли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68580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8d3e"/>
                </a:solidFill>
                <a:latin typeface="Verdana"/>
              </a:rPr>
              <a:t>Фильмы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«Я – Сэ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167652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т фильм повествует о 40-летнем мужчине с уровнем интеллекта 7-летнего ребенка. О том, как он воспитывает свою дочь Люси и о трудностях, встречающихся на их пути. Эта история поможет вынести несколько полезных уроков, что значит быть род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8d3e"/>
                </a:solidFill>
                <a:latin typeface="Verdana"/>
              </a:rPr>
              <a:t>«Рай океа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60020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Главный герой фильма узнает, что неизлечимо болен раком. Его сын — беспомощный аутист. И умирающий отец должен успеть как-то устроить его жизнь до своего ухода, научить его самостоятель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«Отрочест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22096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а история охватывает двенадцать лет жизни главного героя и складывается из небольших эпизодов, показывающих взросление и отношения с родителями ребёнка, подростка, юно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8d3e"/>
                </a:solidFill>
                <a:latin typeface="Verdana"/>
              </a:rPr>
              <a:t>Книги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838080"/>
            <a:ext cx="8183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b587c"/>
                </a:solidFill>
                <a:latin typeface="Verdana"/>
              </a:rPr>
              <a:t>Тони Уотерстон «Ваша библия ухода за ребенком. От 0 до 3 л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82880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овая книга по уходу за малыш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от рождения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о трех лет поможет родителям получить ряд полезных навыков, которые сделают уход и воспитание малыша простыми, легкими и интересными. Красочное и яркое издание поможет вам достойно справиться с родительскими обязанностя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03280" y="-3429000"/>
            <a:ext cx="81835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771f28"/>
                </a:solidFill>
                <a:latin typeface="Verdana"/>
              </a:rPr>
              <a:t>Елена Хилтунен «Воспитываем детей по методу Марии Монтессори»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05740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й книге детально рассматриваются методы воспитания детей, даются практические советы для развития умений и навыков повседневной жизни растущего человека, а также упражнения по обучению малышей письму и чтени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533520"/>
            <a:ext cx="81835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ривцова, Нигметжанова «Искусство понимать ребенка. 7 шагов к хорошей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8183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уникальная книга для родителей, которые хотят, чтобы их дети выросли гармоничными, свободными, творческими и счастливыми людьми. Книга «Искусство понимать ребенка» поможет открыто, непредвзято увидеть свое чадо и тем самым разглядеть самое главное в той или иной конкретной ситуации. И наконец понять, что можно делать и как поступить. 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68580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75f78"/>
                </a:solidFill>
                <a:latin typeface="Arial"/>
              </a:rPr>
              <a:t>Борис Вуйчич «Воспитание без границ. Ваш ребенок может вс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7524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й книге Борис Вуйчич, отец ребенка с особенностями развития, раскрывает свои секреты воспитания, делится практическими советами и отвечает на вопросы, которые часто задают родители особенных детей. Книга будет интересна всем родителям и, в первую очередь, родителям детей с особенностями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838080"/>
            <a:ext cx="8183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Юлия Кузнецова «Расчитайка. Как помочь ребенку полюбить чт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190512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Расчитайка» будет полезной ещё до того как малыш научился читать, а потом, с каждым этапом роста и развития, она поможет родителям делать правильные шаги к тому, чтобы книга стала лучшим другом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нига рассчитана на занятых родителей, поэтому написана емко, без занудства, только самое полезное и важ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Arial"/>
              </a:rPr>
              <a:t>Стив Биддалф «Секреты воспитания девоче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057400"/>
            <a:ext cx="818352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 книга раскроет вам множество секретов воспитания настоящих принцесс. Она написана лёгким и доступным языком, прекрасно иллюстрирована и станет интересным и полезным чтением для всех мам и па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Arial"/>
              </a:rPr>
              <a:t>Стив Биддалф «Секреты воспитания мальчик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13372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 книга раскроет вам множество секретов воспитания настоящих мужчин. Она написана лёгким и доступным языком, прекрасно иллюстрирована и станет интересным и полезным чтением для всех мам и пап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2T12:42:12Z</dcterms:created>
  <dc:creator>Дом</dc:creator>
  <dc:description/>
  <dc:language>en-US</dc:language>
  <cp:lastModifiedBy>Дом</cp:lastModifiedBy>
  <dcterms:modified xsi:type="dcterms:W3CDTF">2018-01-12T16:34:5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