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whoosh.wav" ContentType="audio/x-wav"/>
  <Override PartName="/ppt/media/image3.png" ContentType="image/png"/>
  <Override PartName="/ppt/media/laser.wav" ContentType="audio/x-wav"/>
  <Override PartName="/ppt/media/drumroll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91745-127D-46C5-A32D-41D23E02AC0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FAD41-8BCE-45B9-B554-991B39C9934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1222-AEFB-4B5B-89D8-12B6DADD2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C5AA-673F-4DF2-8ADA-8B22A29E2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B2B8-0179-4330-9CC9-DF8913E26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7924-3E24-49F2-946C-828D4A364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D7A9A-7CF3-49ED-980F-96B51D6C7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BD868-DBB5-4D49-AB3A-A6199BB16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7B2C1-F2C2-4557-A764-BE5007B4E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8B30B-7B00-4DC1-BD1D-D953D3412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C53F6-C892-4818-B89D-323A3994A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27A33-D178-4520-82DA-3D7DB93A5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6F015-AB78-4D1D-941A-5E71189A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4F60-C3FF-4555-BB64-03C59DBF8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D4010-BD57-49B9-9FB7-7BD9E979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CF43B-C6E0-43BB-912F-0002B49C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CD9C8-3463-4976-A1C2-020F533E5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E90CB-4A03-4C5D-A89E-FC789FE27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C9784-2228-45AA-B667-C1141D296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E4C65C-DF72-45EB-938E-94A6CA6ED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60D661-68D6-41E1-98D3-9FC97196C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450BD6-F87B-47FB-A08C-42CE8CB62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25A441-10F0-4530-A4BE-22265DB8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404D8B-1E18-482A-9887-4E2FABD34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1C45-42D9-4C19-8B10-6D1CF733F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3EE9BB-2140-4B11-9ED5-D1AEC9FDE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52B460-C2B9-471E-9052-ADDB2F55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A2C22C-5F08-4188-8F72-E22785D5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022AFF-D220-4FA9-8E7B-FDFBAFAB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151573-B72E-438F-9634-B155D3880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1F6B5F-8381-4D0C-9288-038D84DD8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A39DF5-3620-4ECB-87C4-8A6AAED2E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71F04-76D2-4BB3-817C-A91FF2BE6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DD8CA-8BCC-4BB0-9AE3-2765E943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2FDE9-784E-4710-B3D0-061EDCE15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733F-F6B8-4D45-9DBE-760985390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D23A2-840E-4AD6-B3B4-68EAEEFF9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B7A88-45EC-4B95-9456-5B094D9F0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A1AF4-01C9-46EB-A6B6-8B4EA6068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C23B7-4B49-4FA0-896E-C122CEAC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823D1-5EBB-497A-89F2-4C627F3A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74F31-31B8-41BA-9773-A000B3A4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3E5B5-1761-4321-A6B0-ED0AE7509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9029A-55F3-40F3-923A-15EEB6D6B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9E8B5-6678-42D1-9B10-B42A7C84F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D94E-C406-4EED-B03F-ECBABBF8B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837B-ED24-4BC1-BC6D-5BA1C24B3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37D1-A767-437D-ACB7-69D0E1D4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EFF6-5FC0-4DC8-B01A-6A4B9058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F677-2AC0-41FA-8500-242C132E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B1FF9-A6E2-47EC-8BC9-C25CE79AE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2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43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44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5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6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7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8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9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0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1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2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3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4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5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6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7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8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9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5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6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67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8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9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0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1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2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3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4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5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6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7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8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9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0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1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2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3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4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5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6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7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8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9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0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1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2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3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4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5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96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8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99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49548-FF01-4588-83EB-FC3BA20377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99381-3BCE-4F01-B59B-8600926E1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86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187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188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89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90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91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92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93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94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95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96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97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98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99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00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01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02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03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04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05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06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07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08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09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10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11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12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13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14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15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16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17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18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19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0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1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2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3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4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5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6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7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8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9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30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31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32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33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34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35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36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37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38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39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40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1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42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243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24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47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48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249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250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51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52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53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54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55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56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57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58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59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60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61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62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63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64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65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66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67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68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69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70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71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72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73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74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75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76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77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78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79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80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81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82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83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84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85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86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87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88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89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0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1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2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3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4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5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6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7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8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9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00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01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02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303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07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308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Arc 66"/>
              <p:cNvSpPr/>
              <p:nvPr/>
            </p:nvSpPr>
            <p:spPr>
              <a:xfrm rot="5400000">
                <a:off x="8090640" y="53143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42867-073B-4B21-9192-E54934DE0C1B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11.xml"/><Relationship Id="rId4" Type="http://schemas.openxmlformats.org/officeDocument/2006/relationships/slide" Target="slide19.xml"/><Relationship Id="rId5" Type="http://schemas.openxmlformats.org/officeDocument/2006/relationships/slide" Target="slide4.xml"/><Relationship Id="rId6" Type="http://schemas.openxmlformats.org/officeDocument/2006/relationships/slide" Target="slide8.xml"/><Relationship Id="rId7" Type="http://schemas.openxmlformats.org/officeDocument/2006/relationships/slide" Target="slide12.xml"/><Relationship Id="rId8" Type="http://schemas.openxmlformats.org/officeDocument/2006/relationships/slide" Target="slide20.xml"/><Relationship Id="rId9" Type="http://schemas.openxmlformats.org/officeDocument/2006/relationships/slide" Target="slide5.xml"/><Relationship Id="rId10" Type="http://schemas.openxmlformats.org/officeDocument/2006/relationships/slide" Target="slide9.xml"/><Relationship Id="rId11" Type="http://schemas.openxmlformats.org/officeDocument/2006/relationships/slide" Target="slide13.xml"/><Relationship Id="rId12" Type="http://schemas.openxmlformats.org/officeDocument/2006/relationships/slide" Target="slide21.xml"/><Relationship Id="rId13" Type="http://schemas.openxmlformats.org/officeDocument/2006/relationships/slide" Target="slide6.xml"/><Relationship Id="rId14" Type="http://schemas.openxmlformats.org/officeDocument/2006/relationships/slide" Target="slide10.xml"/><Relationship Id="rId15" Type="http://schemas.openxmlformats.org/officeDocument/2006/relationships/slide" Target="slide14.xml"/><Relationship Id="rId16" Type="http://schemas.openxmlformats.org/officeDocument/2006/relationships/slide" Target="slide22.xml"/><Relationship Id="rId17" Type="http://schemas.openxmlformats.org/officeDocument/2006/relationships/slide" Target="slide15.xml"/><Relationship Id="rId18" Type="http://schemas.openxmlformats.org/officeDocument/2006/relationships/slide" Target="slide16.xml"/><Relationship Id="rId19" Type="http://schemas.openxmlformats.org/officeDocument/2006/relationships/audio" Target="../media/whoosh.wav"/><Relationship Id="rId20" Type="http://schemas.openxmlformats.org/officeDocument/2006/relationships/audio" Target="../media/whoosh.wav"/><Relationship Id="rId21" Type="http://schemas.openxmlformats.org/officeDocument/2006/relationships/audio" Target="../media/whoosh.wav"/><Relationship Id="rId22" Type="http://schemas.openxmlformats.org/officeDocument/2006/relationships/audio" Target="../media/whoosh.wav"/><Relationship Id="rId23" Type="http://schemas.openxmlformats.org/officeDocument/2006/relationships/audio" Target="../media/whoosh.wav"/><Relationship Id="rId24" Type="http://schemas.openxmlformats.org/officeDocument/2006/relationships/audio" Target="../media/laser.wav"/><Relationship Id="rId25" Type="http://schemas.openxmlformats.org/officeDocument/2006/relationships/audio" Target="../media/laser.wav"/><Relationship Id="rId26" Type="http://schemas.openxmlformats.org/officeDocument/2006/relationships/audio" Target="../media/laser.wav"/><Relationship Id="rId27" Type="http://schemas.openxmlformats.org/officeDocument/2006/relationships/audio" Target="../media/laser.wav"/><Relationship Id="rId28" Type="http://schemas.openxmlformats.org/officeDocument/2006/relationships/audio" Target="../media/laser.wav"/><Relationship Id="rId29" Type="http://schemas.openxmlformats.org/officeDocument/2006/relationships/audio" Target="../media/laser.wav"/><Relationship Id="rId30" Type="http://schemas.openxmlformats.org/officeDocument/2006/relationships/audio" Target="../media/laser.wav"/><Relationship Id="rId31" Type="http://schemas.openxmlformats.org/officeDocument/2006/relationships/audio" Target="../media/laser.wav"/><Relationship Id="rId32" Type="http://schemas.openxmlformats.org/officeDocument/2006/relationships/audio" Target="../media/laser.wav"/><Relationship Id="rId33" Type="http://schemas.openxmlformats.org/officeDocument/2006/relationships/audio" Target="../media/laser.wav"/><Relationship Id="rId34" Type="http://schemas.openxmlformats.org/officeDocument/2006/relationships/audio" Target="../media/laser.wav"/><Relationship Id="rId35" Type="http://schemas.openxmlformats.org/officeDocument/2006/relationships/audio" Target="../media/laser.wav"/><Relationship Id="rId36" Type="http://schemas.openxmlformats.org/officeDocument/2006/relationships/audio" Target="../media/laser.wav"/><Relationship Id="rId37" Type="http://schemas.openxmlformats.org/officeDocument/2006/relationships/audio" Target="../media/laser.wav"/><Relationship Id="rId38" Type="http://schemas.openxmlformats.org/officeDocument/2006/relationships/audio" Target="../media/laser.wav"/><Relationship Id="rId39" Type="http://schemas.openxmlformats.org/officeDocument/2006/relationships/audio" Target="../media/laser.wav"/><Relationship Id="rId40" Type="http://schemas.openxmlformats.org/officeDocument/2006/relationships/audio" Target="../media/laser.wav"/><Relationship Id="rId41" Type="http://schemas.openxmlformats.org/officeDocument/2006/relationships/audio" Target="../media/laser.wav"/><Relationship Id="rId42" Type="http://schemas.openxmlformats.org/officeDocument/2006/relationships/audio" Target="../media/laser.wav"/><Relationship Id="rId43" Type="http://schemas.openxmlformats.org/officeDocument/2006/relationships/audio" Target="../media/laser.wav"/><Relationship Id="rId4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index"/>
          <p:cNvPicPr/>
          <p:nvPr/>
        </p:nvPicPr>
        <p:blipFill>
          <a:blip r:embed="rId1"/>
          <a:stretch/>
        </p:blipFill>
        <p:spPr>
          <a:xfrm>
            <a:off x="2411280" y="3933720"/>
            <a:ext cx="4537080" cy="2014560"/>
          </a:xfrm>
          <a:prstGeom prst="rect">
            <a:avLst/>
          </a:prstGeom>
          <a:ln w="0">
            <a:noFill/>
          </a:ln>
        </p:spPr>
      </p:pic>
      <p:sp>
        <p:nvSpPr>
          <p:cNvPr id="360" name="Скругленный прямоугольник 1"/>
          <p:cNvSpPr/>
          <p:nvPr/>
        </p:nvSpPr>
        <p:spPr>
          <a:xfrm>
            <a:off x="684360" y="1484280"/>
            <a:ext cx="7848360" cy="17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3b4d6"/>
              </a:gs>
              <a:gs pos="100000">
                <a:srgbClr val="ebebf4"/>
              </a:gs>
            </a:gsLst>
            <a:lin ang="16200000"/>
          </a:gradFill>
          <a:ln w="9360">
            <a:solidFill>
              <a:srgbClr val="32377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«Что? Где? Когда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120" y="260280"/>
            <a:ext cx="853452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Как называют пару натуральных чисел, каждое из которых равно сумме делителей другого?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611280" y="3068640"/>
            <a:ext cx="79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Дружественные числ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AutoShape 7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3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3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120" y="259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Как говорят о мужчине маленького роста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1" name="Text Box 5"/>
          <p:cNvSpPr/>
          <p:nvPr/>
        </p:nvSpPr>
        <p:spPr>
          <a:xfrm>
            <a:off x="754200" y="1844640"/>
            <a:ext cx="77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ahoma"/>
              </a:rPr>
              <a:t>Метр с кепко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AutoShape 7"/>
          <p:cNvSpPr/>
          <p:nvPr/>
        </p:nvSpPr>
        <p:spPr>
          <a:xfrm>
            <a:off x="8028000" y="5805360"/>
            <a:ext cx="934920" cy="83520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5200"/>
              <a:gd name="textAreaBottom" fmla="*/ 781200 h 835200"/>
            </a:gdLst>
            <a:ahLst/>
            <a:rect l="textAreaLeft" t="textAreaTop" r="textAreaRight" b="textAreaBottom"/>
            <a:pathLst>
              <a:path w="24178" h="21600">
                <a:moveTo>
                  <a:pt x="0" y="0"/>
                </a:moveTo>
                <a:lnTo>
                  <a:pt x="24178" y="0"/>
                </a:lnTo>
                <a:lnTo>
                  <a:pt x="24178" y="21600"/>
                </a:lnTo>
                <a:lnTo>
                  <a:pt x="0" y="21600"/>
                </a:lnTo>
                <a:close/>
              </a:path>
              <a:path fill="lightenLess" w="24178" h="21600">
                <a:moveTo>
                  <a:pt x="0" y="0"/>
                </a:moveTo>
                <a:lnTo>
                  <a:pt x="24178" y="0"/>
                </a:lnTo>
                <a:lnTo>
                  <a:pt x="22778" y="1400"/>
                </a:lnTo>
                <a:lnTo>
                  <a:pt x="1400" y="1400"/>
                </a:lnTo>
                <a:close/>
              </a:path>
              <a:path fill="darken" w="24178" h="21600">
                <a:moveTo>
                  <a:pt x="24178" y="0"/>
                </a:moveTo>
                <a:lnTo>
                  <a:pt x="24178" y="21600"/>
                </a:lnTo>
                <a:lnTo>
                  <a:pt x="22778" y="20200"/>
                </a:lnTo>
                <a:lnTo>
                  <a:pt x="22778" y="1400"/>
                </a:lnTo>
                <a:close/>
              </a:path>
              <a:path fill="darkenLess" w="24178" h="21600">
                <a:moveTo>
                  <a:pt x="24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78" y="20200"/>
                </a:lnTo>
                <a:close/>
              </a:path>
              <a:path fill="lighten" w="24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78" h="21600">
                <a:moveTo>
                  <a:pt x="5082" y="10800"/>
                </a:moveTo>
                <a:lnTo>
                  <a:pt x="19095" y="3794"/>
                </a:lnTo>
                <a:lnTo>
                  <a:pt x="1909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120" y="259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ahoma"/>
              </a:rPr>
              <a:t>Фут – английская мера длины,по-русски будет: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4" name="Text Box 5"/>
          <p:cNvSpPr/>
          <p:nvPr/>
        </p:nvSpPr>
        <p:spPr>
          <a:xfrm>
            <a:off x="692280" y="2060640"/>
            <a:ext cx="72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ahoma"/>
              </a:rPr>
              <a:t>Ступня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AutoShape 7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3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3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120" y="260280"/>
            <a:ext cx="8534520" cy="24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Чем, по мнению Федора Тютчева, нельзя измерить Россию?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7" name="Text Box 5"/>
          <p:cNvSpPr/>
          <p:nvPr/>
        </p:nvSpPr>
        <p:spPr>
          <a:xfrm>
            <a:off x="714240" y="306864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ahoma"/>
              </a:rPr>
              <a:t>Аршином</a:t>
            </a:r>
            <a:r>
              <a:rPr b="0" lang="en-US" sz="54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AutoShape 7"/>
          <p:cNvSpPr/>
          <p:nvPr/>
        </p:nvSpPr>
        <p:spPr>
          <a:xfrm>
            <a:off x="7885080" y="573408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260280"/>
            <a:ext cx="853452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Как называется  старинная русская путевая мера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1292400" y="3068640"/>
            <a:ext cx="626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Час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AutoShape 7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3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3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 Box 5"/>
          <p:cNvSpPr/>
          <p:nvPr/>
        </p:nvSpPr>
        <p:spPr>
          <a:xfrm>
            <a:off x="2268360" y="3716280"/>
            <a:ext cx="432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ahoma"/>
              </a:rPr>
              <a:t>Трапеция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351640" cy="24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Какая геометрическая фигура подрабатывает в цирке гимнастическим снарядом?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4" name="AutoShape 15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3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3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09120" y="259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Назовите родственника транспортир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6" name="Text Box 5"/>
          <p:cNvSpPr/>
          <p:nvPr/>
        </p:nvSpPr>
        <p:spPr>
          <a:xfrm>
            <a:off x="1042920" y="2276640"/>
            <a:ext cx="547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ahoma"/>
              </a:rPr>
              <a:t>Астролябия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AutoShape 7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3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3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120" y="333360"/>
            <a:ext cx="8534520" cy="18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Сколько прямых можно провести через одну точку?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9" name="Text Box 5"/>
          <p:cNvSpPr/>
          <p:nvPr/>
        </p:nvSpPr>
        <p:spPr>
          <a:xfrm>
            <a:off x="826920" y="3065400"/>
            <a:ext cx="7490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ahoma"/>
              </a:rPr>
              <a:t>Бесконечно много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AutoShape 7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3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3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120" y="260280"/>
            <a:ext cx="8534520" cy="24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Как называют кривую, которую можно нарисовать на плоскости, не отрывая карандаша от бумаги?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611280" y="3284640"/>
            <a:ext cx="738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ahoma"/>
              </a:rPr>
              <a:t>Уникурсальная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AutoShape 7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3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3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534520" cy="15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Сколько пар ног у жуков?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5" name="Text Box 5"/>
          <p:cNvSpPr/>
          <p:nvPr/>
        </p:nvSpPr>
        <p:spPr>
          <a:xfrm>
            <a:off x="2195640" y="2637000"/>
            <a:ext cx="432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ahoma"/>
              </a:rPr>
              <a:t>Три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AutoShape 8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3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3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4">
            <a:hlinkClick r:id="" action="ppaction://hlinkshowjump?jump=nextslide"/>
          </p:cNvPr>
          <p:cNvSpPr/>
          <p:nvPr/>
        </p:nvSpPr>
        <p:spPr>
          <a:xfrm>
            <a:off x="395280" y="549360"/>
            <a:ext cx="1581120" cy="7318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Учены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Rectangle 5">
            <a:hlinkClick r:id="" action="ppaction://hlinkshowjump?jump=nextslide"/>
          </p:cNvPr>
          <p:cNvSpPr/>
          <p:nvPr/>
        </p:nvSpPr>
        <p:spPr>
          <a:xfrm>
            <a:off x="2124000" y="549360"/>
            <a:ext cx="1581120" cy="7318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Числ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Rectangle 7">
            <a:hlinkClick r:id="" action="ppaction://hlinkshowjump?jump=nextslide"/>
          </p:cNvPr>
          <p:cNvSpPr/>
          <p:nvPr/>
        </p:nvSpPr>
        <p:spPr>
          <a:xfrm>
            <a:off x="7236000" y="549360"/>
            <a:ext cx="1581120" cy="7318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скольк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395280" y="1413000"/>
            <a:ext cx="1581120" cy="1052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1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Rectangle 9"/>
          <p:cNvSpPr/>
          <p:nvPr/>
        </p:nvSpPr>
        <p:spPr>
          <a:xfrm>
            <a:off x="2124000" y="1413000"/>
            <a:ext cx="1581120" cy="1052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Rectangle 10"/>
          <p:cNvSpPr/>
          <p:nvPr/>
        </p:nvSpPr>
        <p:spPr>
          <a:xfrm>
            <a:off x="3851280" y="1413000"/>
            <a:ext cx="1581120" cy="1052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3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Rectangle 11"/>
          <p:cNvSpPr/>
          <p:nvPr/>
        </p:nvSpPr>
        <p:spPr>
          <a:xfrm>
            <a:off x="7236000" y="1413000"/>
            <a:ext cx="1581120" cy="1052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4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Rectangle 12"/>
          <p:cNvSpPr/>
          <p:nvPr/>
        </p:nvSpPr>
        <p:spPr>
          <a:xfrm>
            <a:off x="395280" y="2565360"/>
            <a:ext cx="1581120" cy="10526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5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Rectangle 14"/>
          <p:cNvSpPr/>
          <p:nvPr/>
        </p:nvSpPr>
        <p:spPr>
          <a:xfrm>
            <a:off x="2195640" y="2565360"/>
            <a:ext cx="1581120" cy="10526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Rectangle 15"/>
          <p:cNvSpPr/>
          <p:nvPr/>
        </p:nvSpPr>
        <p:spPr>
          <a:xfrm>
            <a:off x="3851280" y="2565360"/>
            <a:ext cx="1581120" cy="10526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7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Rectangle 16"/>
          <p:cNvSpPr/>
          <p:nvPr/>
        </p:nvSpPr>
        <p:spPr>
          <a:xfrm>
            <a:off x="7236000" y="2565360"/>
            <a:ext cx="1581120" cy="10526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8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Rectangle 17"/>
          <p:cNvSpPr/>
          <p:nvPr/>
        </p:nvSpPr>
        <p:spPr>
          <a:xfrm>
            <a:off x="395280" y="3716280"/>
            <a:ext cx="1581120" cy="10526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9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Rectangle 18"/>
          <p:cNvSpPr/>
          <p:nvPr/>
        </p:nvSpPr>
        <p:spPr>
          <a:xfrm>
            <a:off x="2195640" y="3716280"/>
            <a:ext cx="1581120" cy="10526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10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Rectangle 19"/>
          <p:cNvSpPr/>
          <p:nvPr/>
        </p:nvSpPr>
        <p:spPr>
          <a:xfrm>
            <a:off x="3924360" y="3716280"/>
            <a:ext cx="1581120" cy="10526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11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Rectangle 20"/>
          <p:cNvSpPr/>
          <p:nvPr/>
        </p:nvSpPr>
        <p:spPr>
          <a:xfrm>
            <a:off x="7236000" y="3716280"/>
            <a:ext cx="1581120" cy="10526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12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Rectangle 21"/>
          <p:cNvSpPr/>
          <p:nvPr/>
        </p:nvSpPr>
        <p:spPr>
          <a:xfrm>
            <a:off x="395280" y="4869000"/>
            <a:ext cx="1581120" cy="1052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13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Rectangle 22"/>
          <p:cNvSpPr/>
          <p:nvPr/>
        </p:nvSpPr>
        <p:spPr>
          <a:xfrm>
            <a:off x="2195640" y="4869000"/>
            <a:ext cx="1581120" cy="1052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14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Rectangle 23"/>
          <p:cNvSpPr/>
          <p:nvPr/>
        </p:nvSpPr>
        <p:spPr>
          <a:xfrm>
            <a:off x="3924360" y="4869000"/>
            <a:ext cx="1581120" cy="1052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15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Rectangle 24"/>
          <p:cNvSpPr/>
          <p:nvPr/>
        </p:nvSpPr>
        <p:spPr>
          <a:xfrm>
            <a:off x="7236000" y="4869000"/>
            <a:ext cx="1581120" cy="1052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16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Rectangle 25">
            <a:hlinkClick r:id="" action="ppaction://hlinkshowjump?jump=nextslide"/>
          </p:cNvPr>
          <p:cNvSpPr/>
          <p:nvPr/>
        </p:nvSpPr>
        <p:spPr>
          <a:xfrm>
            <a:off x="5508720" y="549360"/>
            <a:ext cx="1616040" cy="7477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Геометрия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Rectangle 26">
            <a:hlinkClick r:id="" action="ppaction://hlinkshowjump?jump=nextslide"/>
          </p:cNvPr>
          <p:cNvSpPr/>
          <p:nvPr/>
        </p:nvSpPr>
        <p:spPr>
          <a:xfrm>
            <a:off x="3851280" y="549360"/>
            <a:ext cx="1581120" cy="7318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Меры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длины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Rectangle 27"/>
          <p:cNvSpPr/>
          <p:nvPr/>
        </p:nvSpPr>
        <p:spPr>
          <a:xfrm>
            <a:off x="5508720" y="1413000"/>
            <a:ext cx="1581120" cy="1052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17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Rectangle 28"/>
          <p:cNvSpPr/>
          <p:nvPr/>
        </p:nvSpPr>
        <p:spPr>
          <a:xfrm>
            <a:off x="5508720" y="2565360"/>
            <a:ext cx="1581120" cy="10526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18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Rectangle 29"/>
          <p:cNvSpPr/>
          <p:nvPr/>
        </p:nvSpPr>
        <p:spPr>
          <a:xfrm>
            <a:off x="5580000" y="3716280"/>
            <a:ext cx="1581120" cy="10526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Rectangle 30"/>
          <p:cNvSpPr/>
          <p:nvPr/>
        </p:nvSpPr>
        <p:spPr>
          <a:xfrm>
            <a:off x="5580000" y="4869000"/>
            <a:ext cx="1581120" cy="1052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09120" y="692280"/>
            <a:ext cx="8534520" cy="20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Сколько лошадей впряжено в колесницу на фронтоне Большого театра?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8" name="Text Box 5"/>
          <p:cNvSpPr/>
          <p:nvPr/>
        </p:nvSpPr>
        <p:spPr>
          <a:xfrm>
            <a:off x="1619280" y="3068640"/>
            <a:ext cx="432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b0601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4 -квадриг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AutoShape 6"/>
          <p:cNvSpPr/>
          <p:nvPr/>
        </p:nvSpPr>
        <p:spPr>
          <a:xfrm>
            <a:off x="7812000" y="5734080"/>
            <a:ext cx="935280" cy="834840"/>
          </a:xfrm>
          <a:custGeom>
            <a:avLst/>
            <a:gdLst>
              <a:gd name="textAreaLeft" fmla="*/ 54000 w 935280"/>
              <a:gd name="textAreaRight" fmla="*/ 881280 w 93528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98" h="21600">
                <a:moveTo>
                  <a:pt x="0" y="0"/>
                </a:moveTo>
                <a:lnTo>
                  <a:pt x="24198" y="0"/>
                </a:lnTo>
                <a:lnTo>
                  <a:pt x="24198" y="21600"/>
                </a:lnTo>
                <a:lnTo>
                  <a:pt x="0" y="21600"/>
                </a:lnTo>
                <a:close/>
              </a:path>
              <a:path fill="lightenLess" w="24198" h="21600">
                <a:moveTo>
                  <a:pt x="0" y="0"/>
                </a:moveTo>
                <a:lnTo>
                  <a:pt x="24198" y="0"/>
                </a:lnTo>
                <a:lnTo>
                  <a:pt x="22798" y="1400"/>
                </a:lnTo>
                <a:lnTo>
                  <a:pt x="1400" y="1400"/>
                </a:lnTo>
                <a:close/>
              </a:path>
              <a:path fill="darken" w="24198" h="21600">
                <a:moveTo>
                  <a:pt x="24198" y="0"/>
                </a:moveTo>
                <a:lnTo>
                  <a:pt x="24198" y="21600"/>
                </a:lnTo>
                <a:lnTo>
                  <a:pt x="22798" y="20200"/>
                </a:lnTo>
                <a:lnTo>
                  <a:pt x="22798" y="1400"/>
                </a:lnTo>
                <a:close/>
              </a:path>
              <a:path fill="darkenLess" w="24198" h="21600">
                <a:moveTo>
                  <a:pt x="24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98" y="20200"/>
                </a:lnTo>
                <a:close/>
              </a:path>
              <a:path fill="lighten" w="24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98" h="21600">
                <a:moveTo>
                  <a:pt x="5092" y="10800"/>
                </a:moveTo>
                <a:lnTo>
                  <a:pt x="19105" y="3794"/>
                </a:lnTo>
                <a:lnTo>
                  <a:pt x="1910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3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3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Сколько кораблей отправилось в первое кругосветное путешествие под руководством  Магелана?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1" name="Text Box 5"/>
          <p:cNvSpPr/>
          <p:nvPr/>
        </p:nvSpPr>
        <p:spPr>
          <a:xfrm>
            <a:off x="2050920" y="2637000"/>
            <a:ext cx="432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Пять </a:t>
            </a: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AutoShape 6"/>
          <p:cNvSpPr/>
          <p:nvPr/>
        </p:nvSpPr>
        <p:spPr>
          <a:xfrm>
            <a:off x="7812000" y="5734080"/>
            <a:ext cx="935280" cy="834840"/>
          </a:xfrm>
          <a:custGeom>
            <a:avLst/>
            <a:gdLst>
              <a:gd name="textAreaLeft" fmla="*/ 54000 w 935280"/>
              <a:gd name="textAreaRight" fmla="*/ 881280 w 93528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98" h="21600">
                <a:moveTo>
                  <a:pt x="0" y="0"/>
                </a:moveTo>
                <a:lnTo>
                  <a:pt x="24198" y="0"/>
                </a:lnTo>
                <a:lnTo>
                  <a:pt x="24198" y="21600"/>
                </a:lnTo>
                <a:lnTo>
                  <a:pt x="0" y="21600"/>
                </a:lnTo>
                <a:close/>
              </a:path>
              <a:path fill="lightenLess" w="24198" h="21600">
                <a:moveTo>
                  <a:pt x="0" y="0"/>
                </a:moveTo>
                <a:lnTo>
                  <a:pt x="24198" y="0"/>
                </a:lnTo>
                <a:lnTo>
                  <a:pt x="22798" y="1400"/>
                </a:lnTo>
                <a:lnTo>
                  <a:pt x="1400" y="1400"/>
                </a:lnTo>
                <a:close/>
              </a:path>
              <a:path fill="darken" w="24198" h="21600">
                <a:moveTo>
                  <a:pt x="24198" y="0"/>
                </a:moveTo>
                <a:lnTo>
                  <a:pt x="24198" y="21600"/>
                </a:lnTo>
                <a:lnTo>
                  <a:pt x="22798" y="20200"/>
                </a:lnTo>
                <a:lnTo>
                  <a:pt x="22798" y="1400"/>
                </a:lnTo>
                <a:close/>
              </a:path>
              <a:path fill="darkenLess" w="24198" h="21600">
                <a:moveTo>
                  <a:pt x="24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98" y="20200"/>
                </a:lnTo>
                <a:close/>
              </a:path>
              <a:path fill="lighten" w="24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98" h="21600">
                <a:moveTo>
                  <a:pt x="5092" y="10800"/>
                </a:moveTo>
                <a:lnTo>
                  <a:pt x="19105" y="3794"/>
                </a:lnTo>
                <a:lnTo>
                  <a:pt x="1910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3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3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120" y="259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Сколько звезд образуют ковш в созвездии Большая Медведица?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971640" y="2205000"/>
            <a:ext cx="432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Семь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AutoShape 6"/>
          <p:cNvSpPr/>
          <p:nvPr/>
        </p:nvSpPr>
        <p:spPr>
          <a:xfrm>
            <a:off x="7812000" y="5734080"/>
            <a:ext cx="935280" cy="834840"/>
          </a:xfrm>
          <a:custGeom>
            <a:avLst/>
            <a:gdLst>
              <a:gd name="textAreaLeft" fmla="*/ 54000 w 935280"/>
              <a:gd name="textAreaRight" fmla="*/ 881280 w 93528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98" h="21600">
                <a:moveTo>
                  <a:pt x="0" y="0"/>
                </a:moveTo>
                <a:lnTo>
                  <a:pt x="24198" y="0"/>
                </a:lnTo>
                <a:lnTo>
                  <a:pt x="24198" y="21600"/>
                </a:lnTo>
                <a:lnTo>
                  <a:pt x="0" y="21600"/>
                </a:lnTo>
                <a:close/>
              </a:path>
              <a:path fill="lightenLess" w="24198" h="21600">
                <a:moveTo>
                  <a:pt x="0" y="0"/>
                </a:moveTo>
                <a:lnTo>
                  <a:pt x="24198" y="0"/>
                </a:lnTo>
                <a:lnTo>
                  <a:pt x="22798" y="1400"/>
                </a:lnTo>
                <a:lnTo>
                  <a:pt x="1400" y="1400"/>
                </a:lnTo>
                <a:close/>
              </a:path>
              <a:path fill="darken" w="24198" h="21600">
                <a:moveTo>
                  <a:pt x="24198" y="0"/>
                </a:moveTo>
                <a:lnTo>
                  <a:pt x="24198" y="21600"/>
                </a:lnTo>
                <a:lnTo>
                  <a:pt x="22798" y="20200"/>
                </a:lnTo>
                <a:lnTo>
                  <a:pt x="22798" y="1400"/>
                </a:lnTo>
                <a:close/>
              </a:path>
              <a:path fill="darkenLess" w="24198" h="21600">
                <a:moveTo>
                  <a:pt x="24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98" y="20200"/>
                </a:lnTo>
                <a:close/>
              </a:path>
              <a:path fill="lighten" w="24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98" h="21600">
                <a:moveTo>
                  <a:pt x="5092" y="10800"/>
                </a:moveTo>
                <a:lnTo>
                  <a:pt x="19105" y="3794"/>
                </a:lnTo>
                <a:lnTo>
                  <a:pt x="1910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3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3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Внимание!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ыбор категории производите на 3 слайде. Когда на 2 слайде появятся категории со стоимостью вопросов, просто перейдите на 3 слайд, сделав щечек мышью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120" y="259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Как называется главный труд математика Евклида?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7" name="AutoShape 5"/>
          <p:cNvSpPr/>
          <p:nvPr/>
        </p:nvSpPr>
        <p:spPr>
          <a:xfrm>
            <a:off x="7812000" y="5734080"/>
            <a:ext cx="935280" cy="834840"/>
          </a:xfrm>
          <a:custGeom>
            <a:avLst/>
            <a:gdLst>
              <a:gd name="textAreaLeft" fmla="*/ 54000 w 935280"/>
              <a:gd name="textAreaRight" fmla="*/ 881280 w 93528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98" h="21600">
                <a:moveTo>
                  <a:pt x="0" y="0"/>
                </a:moveTo>
                <a:lnTo>
                  <a:pt x="24198" y="0"/>
                </a:lnTo>
                <a:lnTo>
                  <a:pt x="24198" y="21600"/>
                </a:lnTo>
                <a:lnTo>
                  <a:pt x="0" y="21600"/>
                </a:lnTo>
                <a:close/>
              </a:path>
              <a:path fill="lightenLess" w="24198" h="21600">
                <a:moveTo>
                  <a:pt x="0" y="0"/>
                </a:moveTo>
                <a:lnTo>
                  <a:pt x="24198" y="0"/>
                </a:lnTo>
                <a:lnTo>
                  <a:pt x="22798" y="1400"/>
                </a:lnTo>
                <a:lnTo>
                  <a:pt x="1400" y="1400"/>
                </a:lnTo>
                <a:close/>
              </a:path>
              <a:path fill="darken" w="24198" h="21600">
                <a:moveTo>
                  <a:pt x="24198" y="0"/>
                </a:moveTo>
                <a:lnTo>
                  <a:pt x="24198" y="21600"/>
                </a:lnTo>
                <a:lnTo>
                  <a:pt x="22798" y="20200"/>
                </a:lnTo>
                <a:lnTo>
                  <a:pt x="22798" y="1400"/>
                </a:lnTo>
                <a:close/>
              </a:path>
              <a:path fill="darkenLess" w="24198" h="21600">
                <a:moveTo>
                  <a:pt x="24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98" y="20200"/>
                </a:lnTo>
                <a:close/>
              </a:path>
              <a:path fill="lighten" w="24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98" h="21600">
                <a:moveTo>
                  <a:pt x="5092" y="10800"/>
                </a:moveTo>
                <a:lnTo>
                  <a:pt x="19105" y="3794"/>
                </a:lnTo>
                <a:lnTo>
                  <a:pt x="1910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Text Box 8"/>
          <p:cNvSpPr/>
          <p:nvPr/>
        </p:nvSpPr>
        <p:spPr>
          <a:xfrm>
            <a:off x="826920" y="2060640"/>
            <a:ext cx="511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Tahoma"/>
              </a:rPr>
              <a:t>Начала 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3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3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120" y="259920"/>
            <a:ext cx="8534520" cy="230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Какой раздел математики греки назвали «Искусством чисел»?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0" name="Text Box 5"/>
          <p:cNvSpPr/>
          <p:nvPr/>
        </p:nvSpPr>
        <p:spPr>
          <a:xfrm>
            <a:off x="755640" y="2924280"/>
            <a:ext cx="432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Арифметик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AutoShape 7"/>
          <p:cNvSpPr/>
          <p:nvPr/>
        </p:nvSpPr>
        <p:spPr>
          <a:xfrm>
            <a:off x="7524720" y="5689440"/>
            <a:ext cx="934920" cy="83520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5200"/>
              <a:gd name="textAreaBottom" fmla="*/ 781200 h 835200"/>
            </a:gdLst>
            <a:ahLst/>
            <a:rect l="textAreaLeft" t="textAreaTop" r="textAreaRight" b="textAreaBottom"/>
            <a:pathLst>
              <a:path w="24178" h="21600">
                <a:moveTo>
                  <a:pt x="0" y="0"/>
                </a:moveTo>
                <a:lnTo>
                  <a:pt x="24178" y="0"/>
                </a:lnTo>
                <a:lnTo>
                  <a:pt x="24178" y="21600"/>
                </a:lnTo>
                <a:lnTo>
                  <a:pt x="0" y="21600"/>
                </a:lnTo>
                <a:close/>
              </a:path>
              <a:path fill="lightenLess" w="24178" h="21600">
                <a:moveTo>
                  <a:pt x="0" y="0"/>
                </a:moveTo>
                <a:lnTo>
                  <a:pt x="24178" y="0"/>
                </a:lnTo>
                <a:lnTo>
                  <a:pt x="22778" y="1400"/>
                </a:lnTo>
                <a:lnTo>
                  <a:pt x="1400" y="1400"/>
                </a:lnTo>
                <a:close/>
              </a:path>
              <a:path fill="darken" w="24178" h="21600">
                <a:moveTo>
                  <a:pt x="24178" y="0"/>
                </a:moveTo>
                <a:lnTo>
                  <a:pt x="24178" y="21600"/>
                </a:lnTo>
                <a:lnTo>
                  <a:pt x="22778" y="20200"/>
                </a:lnTo>
                <a:lnTo>
                  <a:pt x="22778" y="1400"/>
                </a:lnTo>
                <a:close/>
              </a:path>
              <a:path fill="darkenLess" w="24178" h="21600">
                <a:moveTo>
                  <a:pt x="24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78" y="20200"/>
                </a:lnTo>
                <a:close/>
              </a:path>
              <a:path fill="lighten" w="24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78" h="21600">
                <a:moveTo>
                  <a:pt x="5082" y="10800"/>
                </a:moveTo>
                <a:lnTo>
                  <a:pt x="19095" y="3794"/>
                </a:lnTo>
                <a:lnTo>
                  <a:pt x="1909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120" y="692280"/>
            <a:ext cx="8534520" cy="22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Назовите итальянского математика, друга Леонардо да Винчи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3" name="Text Box 5"/>
          <p:cNvSpPr/>
          <p:nvPr/>
        </p:nvSpPr>
        <p:spPr>
          <a:xfrm>
            <a:off x="611280" y="3284640"/>
            <a:ext cx="532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Пачоли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AutoShape 7"/>
          <p:cNvSpPr/>
          <p:nvPr/>
        </p:nvSpPr>
        <p:spPr>
          <a:xfrm>
            <a:off x="7524720" y="5618160"/>
            <a:ext cx="934920" cy="83520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5200"/>
              <a:gd name="textAreaBottom" fmla="*/ 781200 h 835200"/>
            </a:gdLst>
            <a:ahLst/>
            <a:rect l="textAreaLeft" t="textAreaTop" r="textAreaRight" b="textAreaBottom"/>
            <a:pathLst>
              <a:path w="24178" h="21600">
                <a:moveTo>
                  <a:pt x="0" y="0"/>
                </a:moveTo>
                <a:lnTo>
                  <a:pt x="24178" y="0"/>
                </a:lnTo>
                <a:lnTo>
                  <a:pt x="24178" y="21600"/>
                </a:lnTo>
                <a:lnTo>
                  <a:pt x="0" y="21600"/>
                </a:lnTo>
                <a:close/>
              </a:path>
              <a:path fill="lightenLess" w="24178" h="21600">
                <a:moveTo>
                  <a:pt x="0" y="0"/>
                </a:moveTo>
                <a:lnTo>
                  <a:pt x="24178" y="0"/>
                </a:lnTo>
                <a:lnTo>
                  <a:pt x="22778" y="1400"/>
                </a:lnTo>
                <a:lnTo>
                  <a:pt x="1400" y="1400"/>
                </a:lnTo>
                <a:close/>
              </a:path>
              <a:path fill="darken" w="24178" h="21600">
                <a:moveTo>
                  <a:pt x="24178" y="0"/>
                </a:moveTo>
                <a:lnTo>
                  <a:pt x="24178" y="21600"/>
                </a:lnTo>
                <a:lnTo>
                  <a:pt x="22778" y="20200"/>
                </a:lnTo>
                <a:lnTo>
                  <a:pt x="22778" y="1400"/>
                </a:lnTo>
                <a:close/>
              </a:path>
              <a:path fill="darkenLess" w="24178" h="21600">
                <a:moveTo>
                  <a:pt x="24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78" y="20200"/>
                </a:lnTo>
                <a:close/>
              </a:path>
              <a:path fill="lighten" w="24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78" h="21600">
                <a:moveTo>
                  <a:pt x="5082" y="10800"/>
                </a:moveTo>
                <a:lnTo>
                  <a:pt x="19095" y="3794"/>
                </a:lnTo>
                <a:lnTo>
                  <a:pt x="1909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3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3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120" y="259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Кто является автором первой книги о решении уравнений?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611280" y="1844640"/>
            <a:ext cx="72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Абу Абдалах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Мухаммед ибн Муса ал-Хорезм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AutoShape 7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3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3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534520" cy="165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Какие числа употребляются при счете?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9" name="Text Box 5"/>
          <p:cNvSpPr/>
          <p:nvPr/>
        </p:nvSpPr>
        <p:spPr>
          <a:xfrm>
            <a:off x="611280" y="2781360"/>
            <a:ext cx="511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Натуральные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AutoShape 7"/>
          <p:cNvSpPr/>
          <p:nvPr/>
        </p:nvSpPr>
        <p:spPr>
          <a:xfrm>
            <a:off x="7524720" y="5618160"/>
            <a:ext cx="934920" cy="83520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5200"/>
              <a:gd name="textAreaBottom" fmla="*/ 781200 h 835200"/>
            </a:gdLst>
            <a:ahLst/>
            <a:rect l="textAreaLeft" t="textAreaTop" r="textAreaRight" b="textAreaBottom"/>
            <a:pathLst>
              <a:path w="24178" h="21600">
                <a:moveTo>
                  <a:pt x="0" y="0"/>
                </a:moveTo>
                <a:lnTo>
                  <a:pt x="24178" y="0"/>
                </a:lnTo>
                <a:lnTo>
                  <a:pt x="24178" y="21600"/>
                </a:lnTo>
                <a:lnTo>
                  <a:pt x="0" y="21600"/>
                </a:lnTo>
                <a:close/>
              </a:path>
              <a:path fill="lightenLess" w="24178" h="21600">
                <a:moveTo>
                  <a:pt x="0" y="0"/>
                </a:moveTo>
                <a:lnTo>
                  <a:pt x="24178" y="0"/>
                </a:lnTo>
                <a:lnTo>
                  <a:pt x="22778" y="1400"/>
                </a:lnTo>
                <a:lnTo>
                  <a:pt x="1400" y="1400"/>
                </a:lnTo>
                <a:close/>
              </a:path>
              <a:path fill="darken" w="24178" h="21600">
                <a:moveTo>
                  <a:pt x="24178" y="0"/>
                </a:moveTo>
                <a:lnTo>
                  <a:pt x="24178" y="21600"/>
                </a:lnTo>
                <a:lnTo>
                  <a:pt x="22778" y="20200"/>
                </a:lnTo>
                <a:lnTo>
                  <a:pt x="22778" y="1400"/>
                </a:lnTo>
                <a:close/>
              </a:path>
              <a:path fill="darkenLess" w="24178" h="21600">
                <a:moveTo>
                  <a:pt x="24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78" y="20200"/>
                </a:lnTo>
                <a:close/>
              </a:path>
              <a:path fill="lighten" w="24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78" h="21600">
                <a:moveTo>
                  <a:pt x="5082" y="10800"/>
                </a:moveTo>
                <a:lnTo>
                  <a:pt x="19095" y="3794"/>
                </a:lnTo>
                <a:lnTo>
                  <a:pt x="1909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3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3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Как называются числа, равные сумме всех своих делителей?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2" name="Text Box 5"/>
          <p:cNvSpPr/>
          <p:nvPr/>
        </p:nvSpPr>
        <p:spPr>
          <a:xfrm>
            <a:off x="755640" y="2133720"/>
            <a:ext cx="4321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Совершенные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AutoShape 9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3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3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259920"/>
            <a:ext cx="8534520" cy="20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Индийцы называли его «сунья», арабские математики «сифр». Как мы называем его сейчас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5" name="Text Box 5"/>
          <p:cNvSpPr/>
          <p:nvPr/>
        </p:nvSpPr>
        <p:spPr>
          <a:xfrm>
            <a:off x="576360" y="2637000"/>
            <a:ext cx="777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Tahoma"/>
              </a:rPr>
              <a:t>Ноль 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AutoShape 7"/>
          <p:cNvSpPr/>
          <p:nvPr/>
        </p:nvSpPr>
        <p:spPr>
          <a:xfrm>
            <a:off x="7885080" y="5661000"/>
            <a:ext cx="934920" cy="83520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5200"/>
              <a:gd name="textAreaBottom" fmla="*/ 781200 h 835200"/>
            </a:gdLst>
            <a:ahLst/>
            <a:rect l="textAreaLeft" t="textAreaTop" r="textAreaRight" b="textAreaBottom"/>
            <a:pathLst>
              <a:path w="24178" h="21600">
                <a:moveTo>
                  <a:pt x="0" y="0"/>
                </a:moveTo>
                <a:lnTo>
                  <a:pt x="24178" y="0"/>
                </a:lnTo>
                <a:lnTo>
                  <a:pt x="24178" y="21600"/>
                </a:lnTo>
                <a:lnTo>
                  <a:pt x="0" y="21600"/>
                </a:lnTo>
                <a:close/>
              </a:path>
              <a:path fill="lightenLess" w="24178" h="21600">
                <a:moveTo>
                  <a:pt x="0" y="0"/>
                </a:moveTo>
                <a:lnTo>
                  <a:pt x="24178" y="0"/>
                </a:lnTo>
                <a:lnTo>
                  <a:pt x="22778" y="1400"/>
                </a:lnTo>
                <a:lnTo>
                  <a:pt x="1400" y="1400"/>
                </a:lnTo>
                <a:close/>
              </a:path>
              <a:path fill="darken" w="24178" h="21600">
                <a:moveTo>
                  <a:pt x="24178" y="0"/>
                </a:moveTo>
                <a:lnTo>
                  <a:pt x="24178" y="21600"/>
                </a:lnTo>
                <a:lnTo>
                  <a:pt x="22778" y="20200"/>
                </a:lnTo>
                <a:lnTo>
                  <a:pt x="22778" y="1400"/>
                </a:lnTo>
                <a:close/>
              </a:path>
              <a:path fill="darkenLess" w="24178" h="21600">
                <a:moveTo>
                  <a:pt x="24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78" y="20200"/>
                </a:lnTo>
                <a:close/>
              </a:path>
              <a:path fill="lighten" w="24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78" h="21600">
                <a:moveTo>
                  <a:pt x="5082" y="10800"/>
                </a:moveTo>
                <a:lnTo>
                  <a:pt x="19095" y="3794"/>
                </a:lnTo>
                <a:lnTo>
                  <a:pt x="1909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3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3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11:30:49Z</dcterms:created>
  <dc:creator>ученик</dc:creator>
  <dc:description/>
  <dc:language>en-US</dc:language>
  <cp:lastModifiedBy>BLACKCLASSIC</cp:lastModifiedBy>
  <dcterms:modified xsi:type="dcterms:W3CDTF">2015-01-03T12:52:15Z</dcterms:modified>
  <cp:revision>53</cp:revision>
  <dc:subject/>
  <dc:title>Презентация PowerPoint</dc:title>
</cp:coreProperties>
</file>