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4D3-6A52-45FF-8587-592D3821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E16-367B-469C-93E4-1F9EDD5A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3A6-A807-4388-AD5F-7FD49791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BA8-E3BB-4C19-BD3C-EE5F8AF8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E36-808D-466C-9A61-8493ED07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761-A167-40AE-AF1C-A13B0633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D1F-71E1-48E4-AE89-37D8C004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FB0-7099-4426-9E55-CC29B8C5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795-4658-4C16-A71F-106B589A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DEC-2B14-4E05-A70F-E2B9A7C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F4B-451D-457D-A05F-A63A521B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E68-7E19-4CCB-9BE0-B5DE931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0EAC-C500-44E8-B62B-644E8EFB0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560" y="5300640"/>
            <a:ext cx="744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Monotype Corsiva"/>
              </a:rPr>
              <a:t>Методическая разработка Савченко Е.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Monotype Corsiva"/>
              </a:rPr>
              <a:t>МОУ гимназия №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Monotype Corsiva"/>
              </a:rPr>
              <a:t>г. Полярные Зори, Мурман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6400" y="3860640"/>
            <a:ext cx="638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  Л  Г  Е  Б  Р  А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К  Л  А  С 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200" y="333360"/>
            <a:ext cx="8018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  О  В  Т  О  Р  Е  Н  И  Е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Графический способ реш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уравнений и систем урав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00" y="4653000"/>
            <a:ext cx="89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Использованы КИМ для подготовки к итоговой аттестаци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7852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084720" y="105264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84720" y="34275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8472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667720" y="774720"/>
            <a:ext cx="11160" cy="2652840"/>
          </a:xfrm>
          <a:custGeom>
            <a:avLst/>
            <a:gdLst/>
            <a:ahLst/>
            <a:rect l="l" t="t" r="r" b="b"/>
            <a:pathLst>
              <a:path w="7" h="1671">
                <a:moveTo>
                  <a:pt x="0" y="0"/>
                </a:moveTo>
                <a:lnTo>
                  <a:pt x="7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84720" y="13161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4536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03840" y="774720"/>
            <a:ext cx="1800" cy="2652840"/>
          </a:xfrm>
          <a:custGeom>
            <a:avLst/>
            <a:gdLst/>
            <a:ahLst/>
            <a:rect l="l" t="t" r="r" b="b"/>
            <a:pathLst>
              <a:path w="1" h="1671">
                <a:moveTo>
                  <a:pt x="0" y="0"/>
                </a:moveTo>
                <a:lnTo>
                  <a:pt x="1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64480" y="774720"/>
            <a:ext cx="1440" cy="2652840"/>
          </a:xfrm>
          <a:custGeom>
            <a:avLst/>
            <a:gdLst/>
            <a:ahLst/>
            <a:rect l="l" t="t" r="r" b="b"/>
            <a:pathLst>
              <a:path w="1" h="1671">
                <a:moveTo>
                  <a:pt x="0" y="0"/>
                </a:moveTo>
                <a:lnTo>
                  <a:pt x="0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112160" y="768240"/>
            <a:ext cx="10800" cy="2659320"/>
          </a:xfrm>
          <a:custGeom>
            <a:avLst/>
            <a:gdLst/>
            <a:ahLst/>
            <a:rect l="l" t="t" r="r" b="b"/>
            <a:pathLst>
              <a:path w="7" h="1675">
                <a:moveTo>
                  <a:pt x="0" y="0"/>
                </a:moveTo>
                <a:lnTo>
                  <a:pt x="7" y="167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81800" y="105264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639200" y="774720"/>
            <a:ext cx="2880" cy="2652840"/>
          </a:xfrm>
          <a:custGeom>
            <a:avLst/>
            <a:gdLst/>
            <a:ahLst/>
            <a:rect l="l" t="t" r="r" b="b"/>
            <a:pathLst>
              <a:path w="2" h="1671">
                <a:moveTo>
                  <a:pt x="0" y="0"/>
                </a:moveTo>
                <a:lnTo>
                  <a:pt x="2" y="167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93000" y="755640"/>
            <a:ext cx="9720" cy="2671920"/>
          </a:xfrm>
          <a:custGeom>
            <a:avLst/>
            <a:gdLst/>
            <a:ahLst/>
            <a:rect l="l" t="t" r="r" b="b"/>
            <a:pathLst>
              <a:path w="6" h="1683">
                <a:moveTo>
                  <a:pt x="0" y="0"/>
                </a:moveTo>
                <a:lnTo>
                  <a:pt x="6" y="168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153280" y="768240"/>
            <a:ext cx="6480" cy="2659320"/>
          </a:xfrm>
          <a:custGeom>
            <a:avLst/>
            <a:gdLst/>
            <a:ahLst/>
            <a:rect l="l" t="t" r="r" b="b"/>
            <a:pathLst>
              <a:path w="4" h="1675">
                <a:moveTo>
                  <a:pt x="0" y="0"/>
                </a:moveTo>
                <a:lnTo>
                  <a:pt x="4" y="167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413920" y="762120"/>
            <a:ext cx="6120" cy="2665440"/>
          </a:xfrm>
          <a:custGeom>
            <a:avLst/>
            <a:gdLst/>
            <a:ahLst/>
            <a:rect l="l" t="t" r="r" b="b"/>
            <a:pathLst>
              <a:path w="4" h="1679">
                <a:moveTo>
                  <a:pt x="0" y="0"/>
                </a:moveTo>
                <a:lnTo>
                  <a:pt x="4" y="1679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84720" y="157968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184320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084720" y="210816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84720" y="237168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84720" y="263700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84720" y="290052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084720" y="3164040"/>
            <a:ext cx="259272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84720" y="2637000"/>
            <a:ext cx="266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381800" y="755640"/>
            <a:ext cx="3240" cy="2673360"/>
          </a:xfrm>
          <a:custGeom>
            <a:avLst/>
            <a:gdLst/>
            <a:ahLst/>
            <a:rect l="l" t="t" r="r" b="b"/>
            <a:pathLst>
              <a:path w="2" h="1684">
                <a:moveTo>
                  <a:pt x="0" y="1684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71640" y="270828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71640" y="2133720"/>
            <a:ext cx="50472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31840" y="2133720"/>
                <a:ext cx="2079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56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757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781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2336760" y="5168880"/>
            <a:ext cx="2692440" cy="1440"/>
          </a:xfrm>
          <a:custGeom>
            <a:avLst/>
            <a:gdLst/>
            <a:ahLst/>
            <a:rect l="l" t="t" r="r" b="b"/>
            <a:pathLst>
              <a:path w="1696" h="1">
                <a:moveTo>
                  <a:pt x="0" y="0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340000" y="11253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40000" y="350028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336760" y="863640"/>
            <a:ext cx="4680" cy="2636640"/>
          </a:xfrm>
          <a:custGeom>
            <a:avLst/>
            <a:gdLst/>
            <a:ahLst/>
            <a:rect l="l" t="t" r="r" b="b"/>
            <a:pathLst>
              <a:path w="3" h="1661">
                <a:moveTo>
                  <a:pt x="0" y="0"/>
                </a:moveTo>
                <a:lnTo>
                  <a:pt x="3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933800" y="812880"/>
            <a:ext cx="6480" cy="2687400"/>
          </a:xfrm>
          <a:custGeom>
            <a:avLst/>
            <a:gdLst/>
            <a:ahLst/>
            <a:rect l="l" t="t" r="r" b="b"/>
            <a:pathLst>
              <a:path w="4" h="1693">
                <a:moveTo>
                  <a:pt x="4" y="0"/>
                </a:moveTo>
                <a:lnTo>
                  <a:pt x="0" y="169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40000" y="1389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590920" y="863640"/>
            <a:ext cx="11160" cy="2636640"/>
          </a:xfrm>
          <a:custGeom>
            <a:avLst/>
            <a:gdLst/>
            <a:ahLst/>
            <a:rect l="l" t="t" r="r" b="b"/>
            <a:pathLst>
              <a:path w="7" h="1661">
                <a:moveTo>
                  <a:pt x="0" y="0"/>
                </a:moveTo>
                <a:lnTo>
                  <a:pt x="7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57680" y="870120"/>
            <a:ext cx="2880" cy="2630160"/>
          </a:xfrm>
          <a:custGeom>
            <a:avLst/>
            <a:gdLst/>
            <a:ahLst/>
            <a:rect l="l" t="t" r="r" b="b"/>
            <a:pathLst>
              <a:path w="2" h="1657">
                <a:moveTo>
                  <a:pt x="0" y="0"/>
                </a:moveTo>
                <a:lnTo>
                  <a:pt x="2" y="1657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111480" y="863640"/>
            <a:ext cx="7920" cy="2636640"/>
          </a:xfrm>
          <a:custGeom>
            <a:avLst/>
            <a:gdLst/>
            <a:ahLst/>
            <a:rect l="l" t="t" r="r" b="b"/>
            <a:pathLst>
              <a:path w="5" h="1661">
                <a:moveTo>
                  <a:pt x="0" y="0"/>
                </a:moveTo>
                <a:lnTo>
                  <a:pt x="5" y="1661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371760" y="857160"/>
            <a:ext cx="6480" cy="2643120"/>
          </a:xfrm>
          <a:custGeom>
            <a:avLst/>
            <a:gdLst/>
            <a:ahLst/>
            <a:rect l="l" t="t" r="r" b="b"/>
            <a:pathLst>
              <a:path w="4" h="1665">
                <a:moveTo>
                  <a:pt x="0" y="0"/>
                </a:moveTo>
                <a:lnTo>
                  <a:pt x="4" y="1665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637080" y="1125360"/>
            <a:ext cx="0" cy="237492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86200" y="870120"/>
            <a:ext cx="11160" cy="2630160"/>
          </a:xfrm>
          <a:custGeom>
            <a:avLst/>
            <a:gdLst/>
            <a:ahLst/>
            <a:rect l="l" t="t" r="r" b="b"/>
            <a:pathLst>
              <a:path w="7" h="1657">
                <a:moveTo>
                  <a:pt x="0" y="0"/>
                </a:moveTo>
                <a:lnTo>
                  <a:pt x="7" y="1657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152960" y="844560"/>
            <a:ext cx="4680" cy="2655720"/>
          </a:xfrm>
          <a:custGeom>
            <a:avLst/>
            <a:gdLst/>
            <a:ahLst/>
            <a:rect l="l" t="t" r="r" b="b"/>
            <a:pathLst>
              <a:path w="3" h="1673">
                <a:moveTo>
                  <a:pt x="0" y="0"/>
                </a:moveTo>
                <a:lnTo>
                  <a:pt x="3" y="167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406760" y="844560"/>
            <a:ext cx="7920" cy="2655720"/>
          </a:xfrm>
          <a:custGeom>
            <a:avLst/>
            <a:gdLst/>
            <a:ahLst/>
            <a:rect l="l" t="t" r="r" b="b"/>
            <a:pathLst>
              <a:path w="5" h="1673">
                <a:moveTo>
                  <a:pt x="0" y="0"/>
                </a:moveTo>
                <a:lnTo>
                  <a:pt x="5" y="1673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0920" y="851040"/>
            <a:ext cx="14400" cy="2649240"/>
          </a:xfrm>
          <a:custGeom>
            <a:avLst/>
            <a:gdLst/>
            <a:ahLst/>
            <a:rect l="l" t="t" r="r" b="b"/>
            <a:pathLst>
              <a:path w="9" h="1669">
                <a:moveTo>
                  <a:pt x="0" y="0"/>
                </a:moveTo>
                <a:lnTo>
                  <a:pt x="9" y="1669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40000" y="1652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40000" y="191628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340000" y="2181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40000" y="2444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40000" y="270972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340000" y="297324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340000" y="3236760"/>
            <a:ext cx="2592360" cy="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36760" y="2171880"/>
            <a:ext cx="2603520" cy="12600"/>
          </a:xfrm>
          <a:custGeom>
            <a:avLst/>
            <a:gdLst/>
            <a:ahLst/>
            <a:rect l="l" t="t" r="r" b="b"/>
            <a:pathLst>
              <a:path w="1640" h="8">
                <a:moveTo>
                  <a:pt x="0" y="8"/>
                </a:moveTo>
                <a:lnTo>
                  <a:pt x="16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632040" y="774720"/>
            <a:ext cx="5040" cy="2727360"/>
          </a:xfrm>
          <a:custGeom>
            <a:avLst/>
            <a:gdLst/>
            <a:ahLst/>
            <a:rect l="l" t="t" r="r" b="b"/>
            <a:pathLst>
              <a:path w="3" h="1718">
                <a:moveTo>
                  <a:pt x="3" y="171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340000" y="3860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084720" y="76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83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588000" y="189000"/>
            <a:ext cx="2340000" cy="503280"/>
          </a:xfrm>
          <a:prstGeom prst="wedgeEllipseCallout">
            <a:avLst>
              <a:gd name="adj1" fmla="val -66212"/>
              <a:gd name="adj2" fmla="val 11498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311880" y="1700280"/>
            <a:ext cx="2324160" cy="1181160"/>
          </a:xfrm>
          <a:custGeom>
            <a:avLst/>
            <a:gdLst/>
            <a:ahLst/>
            <a:rect l="l" t="t" r="r" b="b"/>
            <a:pathLst>
              <a:path w="1464" h="744">
                <a:moveTo>
                  <a:pt x="0" y="0"/>
                </a:moveTo>
                <a:lnTo>
                  <a:pt x="1464" y="7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95280" y="5661000"/>
            <a:ext cx="1800360" cy="576360"/>
          </a:xfrm>
          <a:prstGeom prst="wedgeEllipseCallout">
            <a:avLst>
              <a:gd name="adj1" fmla="val 64990"/>
              <a:gd name="adj2" fmla="val -25991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627280" y="3718080"/>
            <a:ext cx="1228680" cy="244764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418920" y="3718080"/>
            <a:ext cx="1228680" cy="244764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540160" y="907920"/>
            <a:ext cx="1172880" cy="2521080"/>
          </a:xfrm>
          <a:custGeom>
            <a:avLst/>
            <a:gdLst/>
            <a:ahLst/>
            <a:rect l="l" t="t" r="r" b="b"/>
            <a:pathLst>
              <a:path w="739" h="1588">
                <a:moveTo>
                  <a:pt x="739" y="0"/>
                </a:moveTo>
                <a:lnTo>
                  <a:pt x="0" y="1588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627280" y="112536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565800" y="299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3744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02160" y="184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718520" y="21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989440" y="50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926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7739400">
            <a:off x="4169160" y="4698000"/>
            <a:ext cx="260280" cy="49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8423400">
            <a:off x="3276720" y="4870440"/>
            <a:ext cx="17784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11560" y="857160"/>
            <a:ext cx="2635200" cy="6480"/>
          </a:xfrm>
          <a:custGeom>
            <a:avLst/>
            <a:gdLst/>
            <a:ahLst/>
            <a:rect l="l" t="t" r="r" b="b"/>
            <a:pathLst>
              <a:path w="1660" h="4">
                <a:moveTo>
                  <a:pt x="0" y="4"/>
                </a:moveTo>
                <a:lnTo>
                  <a:pt x="166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4720" y="765000"/>
            <a:ext cx="2635560" cy="6480"/>
          </a:xfrm>
          <a:custGeom>
            <a:avLst/>
            <a:gdLst/>
            <a:ahLst/>
            <a:rect l="l" t="t" r="r" b="b"/>
            <a:pathLst>
              <a:path w="1660" h="4">
                <a:moveTo>
                  <a:pt x="0" y="4"/>
                </a:moveTo>
                <a:lnTo>
                  <a:pt x="166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6216480" y="92160"/>
                <a:ext cx="211788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6013440" y="278136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у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у = х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55640" y="907920"/>
            <a:ext cx="4538520" cy="4638960"/>
          </a:xfrm>
          <a:custGeom>
            <a:avLst/>
            <a:gdLst/>
            <a:ahLst/>
            <a:rect l="l" t="t" r="r" b="b"/>
            <a:pathLst>
              <a:path w="2859" h="2922">
                <a:moveTo>
                  <a:pt x="2859" y="0"/>
                </a:moveTo>
                <a:lnTo>
                  <a:pt x="0" y="2922"/>
                </a:ln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56000" y="4437000"/>
            <a:ext cx="28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т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04000" y="213372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927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140688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73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-0.00399 -0.12801 E">
                                      <p:cBhvr>
                                        <p:cTn id="590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5864400" y="52560"/>
                <a:ext cx="28224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2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216400" y="4797360"/>
            <a:ext cx="37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(-4;-1), (4;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84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987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3851280" y="321300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340000" y="4724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403280" y="3789360"/>
            <a:ext cx="14436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90360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restart="whenNotActive" nodeType="interactiveSeq" fill="hold">
                <p:stCondLst>
                  <p:cond evt="onClick">
                    <p:tgtEl>
                      <p:spTgt spid="976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976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evt="onClick">
                          <p:tgtEl>
                            <p:spTgt spid="976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evt="onClick">
                          <p:tgtEl>
                            <p:spTgt spid="976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619" dur="2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evt="onClick">
                          <p:tgtEl>
                            <p:spTgt spid="976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627" dur="2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evt="onClick">
                          <p:tgtEl>
                            <p:spTgt spid="976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6021360" y="557280"/>
                <a:ext cx="25081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156720" y="4869000"/>
            <a:ext cx="22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50000">
                <a:srgbClr val="ffffff"/>
              </a:gs>
              <a:gs pos="100000">
                <a:srgbClr val="66ffcc"/>
              </a:gs>
            </a:gsLst>
            <a:lin ang="135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8" name="">
            <a:hlinkClick r:id="" action="ppaction://hlinkshowjump?jump=endshow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1051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85128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34000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03280" y="3500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583960" y="11592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476360" y="3213000"/>
            <a:ext cx="2448000" cy="1645920"/>
            <a:chOff x="1476360" y="3213000"/>
            <a:chExt cx="2448000" cy="1645920"/>
          </a:xfrm>
        </p:grpSpPr>
        <p:sp>
          <p:nvSpPr>
            <p:cNvPr id="1059" name=""/>
            <p:cNvSpPr/>
            <p:nvPr/>
          </p:nvSpPr>
          <p:spPr>
            <a:xfrm flipV="1">
              <a:off x="1476360" y="3624480"/>
              <a:ext cx="0" cy="3117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413080" y="3624480"/>
              <a:ext cx="1440" cy="1234440"/>
            </a:xfrm>
            <a:custGeom>
              <a:avLst/>
              <a:gdLst/>
              <a:ahLst/>
              <a:rect l="l" t="t" r="r" b="b"/>
              <a:pathLst>
                <a:path w="1" h="720">
                  <a:moveTo>
                    <a:pt x="0" y="72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911760" y="3213000"/>
              <a:ext cx="12600" cy="334080"/>
            </a:xfrm>
            <a:custGeom>
              <a:avLst/>
              <a:gdLst/>
              <a:ahLst/>
              <a:rect l="l" t="t" r="r" b="b"/>
              <a:pathLst>
                <a:path w="8" h="195">
                  <a:moveTo>
                    <a:pt x="0" y="0"/>
                  </a:moveTo>
                  <a:lnTo>
                    <a:pt x="8" y="195"/>
                  </a:lnTo>
                </a:path>
              </a:pathLst>
            </a:custGeom>
            <a:noFill/>
            <a:ln w="38160">
              <a:solidFill>
                <a:srgbClr val="80008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8" dur="indefinite" restart="never" nodeType="tmRoot">
          <p:childTnLst>
            <p:seq>
              <p:cTn id="689" restart="whenNotActive" nodeType="interactiveSeq" fill="hold">
                <p:stCondLst>
                  <p:cond evt="onClick">
                    <p:tgtEl>
                      <p:spTgt spid="1040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71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719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8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844640"/>
            <a:ext cx="1968480" cy="2571840"/>
          </a:xfrm>
          <a:custGeom>
            <a:avLst/>
            <a:gdLst/>
            <a:ahLst/>
            <a:rect l="l" t="t" r="r" b="b"/>
            <a:pathLst>
              <a:path w="1240" h="1620">
                <a:moveTo>
                  <a:pt x="0" y="0"/>
                </a:moveTo>
                <a:cubicBezTo>
                  <a:pt x="43" y="154"/>
                  <a:pt x="140" y="652"/>
                  <a:pt x="248" y="922"/>
                </a:cubicBezTo>
                <a:cubicBezTo>
                  <a:pt x="356" y="1192"/>
                  <a:pt x="521" y="1616"/>
                  <a:pt x="648" y="1618"/>
                </a:cubicBezTo>
                <a:cubicBezTo>
                  <a:pt x="775" y="1620"/>
                  <a:pt x="909" y="1200"/>
                  <a:pt x="1008" y="936"/>
                </a:cubicBezTo>
                <a:cubicBezTo>
                  <a:pt x="1107" y="672"/>
                  <a:pt x="1192" y="220"/>
                  <a:pt x="1240" y="32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91628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654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080" y="836640"/>
            <a:ext cx="4348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систему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ая не имеет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1658880"/>
                <a:ext cx="18000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11280" y="2886120"/>
                <a:ext cx="17859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69960" y="4292640"/>
                <a:ext cx="17352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851280" y="1341360"/>
            <a:ext cx="529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952560"/>
            <a:ext cx="12600" cy="5054400"/>
          </a:xfrm>
          <a:custGeom>
            <a:avLst/>
            <a:gdLst/>
            <a:ahLst/>
            <a:rect l="l" t="t" r="r" b="b"/>
            <a:pathLst>
              <a:path w="8" h="3184">
                <a:moveTo>
                  <a:pt x="0" y="0"/>
                </a:moveTo>
                <a:lnTo>
                  <a:pt x="8" y="318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997360"/>
            <a:ext cx="2159280" cy="936360"/>
          </a:xfrm>
          <a:prstGeom prst="wedgeEllipseCallout">
            <a:avLst>
              <a:gd name="adj1" fmla="val -96986"/>
              <a:gd name="adj2" fmla="val 169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Д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1413000"/>
            <a:ext cx="1944720" cy="720720"/>
          </a:xfrm>
          <a:prstGeom prst="wedgeEllipseCallout">
            <a:avLst>
              <a:gd name="adj1" fmla="val -113430"/>
              <a:gd name="adj2" fmla="val 4206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4581360"/>
            <a:ext cx="2232000" cy="863640"/>
          </a:xfrm>
          <a:prstGeom prst="wedgeEllipseCallout">
            <a:avLst>
              <a:gd name="adj1" fmla="val -100569"/>
              <a:gd name="adj2" fmla="val 404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5950080"/>
            <a:ext cx="2087640" cy="647640"/>
          </a:xfrm>
          <a:prstGeom prst="wedgeEllipseCallout">
            <a:avLst>
              <a:gd name="adj1" fmla="val -101027"/>
              <a:gd name="adj2" fmla="val 4166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73800" y="2819520"/>
            <a:ext cx="3238560" cy="2882880"/>
          </a:xfrm>
          <a:custGeom>
            <a:avLst/>
            <a:gdLst/>
            <a:ahLst/>
            <a:rect l="l" t="t" r="r" b="b"/>
            <a:pathLst>
              <a:path w="2040" h="1816">
                <a:moveTo>
                  <a:pt x="2040" y="0"/>
                </a:moveTo>
                <a:lnTo>
                  <a:pt x="0" y="18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7411400">
            <a:off x="6419880" y="234792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1160" y="9176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10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263000">
            <a:off x="7788600" y="2733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y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3080" y="22766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5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0213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три указан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112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5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080" y="836640"/>
            <a:ext cx="4348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систему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которой пара (4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81120" y="1689120"/>
                <a:ext cx="22352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60240" y="2916360"/>
                <a:ext cx="22561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41520" y="4322880"/>
                <a:ext cx="1793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689440" y="1930320"/>
            <a:ext cx="2934000" cy="3403800"/>
          </a:xfrm>
          <a:custGeom>
            <a:avLst/>
            <a:gdLst/>
            <a:ahLst/>
            <a:rect l="l" t="t" r="r" b="b"/>
            <a:pathLst>
              <a:path w="1848" h="2144">
                <a:moveTo>
                  <a:pt x="0" y="0"/>
                </a:moveTo>
                <a:lnTo>
                  <a:pt x="1848" y="21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1689120"/>
            <a:ext cx="2641680" cy="4317840"/>
          </a:xfrm>
          <a:custGeom>
            <a:avLst/>
            <a:gdLst/>
            <a:ahLst/>
            <a:rect l="l" t="t" r="r" b="b"/>
            <a:pathLst>
              <a:path w="1664" h="2720">
                <a:moveTo>
                  <a:pt x="1664" y="0"/>
                </a:moveTo>
                <a:lnTo>
                  <a:pt x="0" y="272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2997360"/>
            <a:ext cx="2159280" cy="863280"/>
          </a:xfrm>
          <a:prstGeom prst="wedgeEllipseCallout">
            <a:avLst>
              <a:gd name="adj1" fmla="val -96986"/>
              <a:gd name="adj2" fmla="val 606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-4; -5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4437000"/>
            <a:ext cx="1944720" cy="720720"/>
          </a:xfrm>
          <a:prstGeom prst="wedgeEllipseCallout">
            <a:avLst>
              <a:gd name="adj1" fmla="val -95796"/>
              <a:gd name="adj2" fmla="val 2467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1700280"/>
            <a:ext cx="2160720" cy="792000"/>
          </a:xfrm>
          <a:prstGeom prst="wedgeEllipseCallout">
            <a:avLst>
              <a:gd name="adj1" fmla="val -102240"/>
              <a:gd name="adj2" fmla="val 8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(1; 4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5950080"/>
            <a:ext cx="2087640" cy="647640"/>
          </a:xfrm>
          <a:prstGeom prst="wedgeEllipseCallout">
            <a:avLst>
              <a:gd name="adj1" fmla="val -101027"/>
              <a:gd name="adj2" fmla="val 4166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9080" y="3289320"/>
            <a:ext cx="4330800" cy="2463840"/>
          </a:xfrm>
          <a:custGeom>
            <a:avLst/>
            <a:gdLst/>
            <a:ahLst/>
            <a:rect l="l" t="t" r="r" b="b"/>
            <a:pathLst>
              <a:path w="2728" h="1552">
                <a:moveTo>
                  <a:pt x="2728" y="0"/>
                </a:moveTo>
                <a:lnTo>
                  <a:pt x="0" y="155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05800" y="1341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819800">
            <a:off x="8037720" y="314136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21080" y="14842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6021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й систем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5084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0784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178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501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400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3840" y="0"/>
            <a:ext cx="12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  и    у=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истему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5840" y="1409760"/>
            <a:ext cx="2539800" cy="4559400"/>
          </a:xfrm>
          <a:custGeom>
            <a:avLst/>
            <a:gdLst/>
            <a:ahLst/>
            <a:rect l="l" t="t" r="r" b="b"/>
            <a:pathLst>
              <a:path w="1600" h="2872">
                <a:moveTo>
                  <a:pt x="0" y="0"/>
                </a:moveTo>
                <a:lnTo>
                  <a:pt x="1600" y="287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5300640"/>
            <a:ext cx="1944360" cy="720720"/>
          </a:xfrm>
          <a:prstGeom prst="wedgeEllipseCallout">
            <a:avLst>
              <a:gd name="adj1" fmla="val -217916"/>
              <a:gd name="adj2" fmla="val 704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2708280"/>
            <a:ext cx="216036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82520" y="55166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1–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7200" y="8352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 –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5084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4920" y="49417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2; 5),  (2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2560" y="4005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7280" y="3860640"/>
            <a:ext cx="216036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84360" y="1844640"/>
                <a:ext cx="25444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1280" y="2997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3 ,  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7480" y="1295280"/>
            <a:ext cx="2374920" cy="3981600"/>
          </a:xfrm>
          <a:custGeom>
            <a:avLst/>
            <a:gdLst/>
            <a:ahLst/>
            <a:rect l="l" t="t" r="r" b="b"/>
            <a:pathLst>
              <a:path w="1496" h="2508">
                <a:moveTo>
                  <a:pt x="0" y="40"/>
                </a:moveTo>
                <a:cubicBezTo>
                  <a:pt x="33" y="187"/>
                  <a:pt x="136" y="627"/>
                  <a:pt x="200" y="920"/>
                </a:cubicBezTo>
                <a:cubicBezTo>
                  <a:pt x="264" y="1213"/>
                  <a:pt x="320" y="1567"/>
                  <a:pt x="384" y="1800"/>
                </a:cubicBezTo>
                <a:cubicBezTo>
                  <a:pt x="448" y="2033"/>
                  <a:pt x="519" y="2203"/>
                  <a:pt x="584" y="2320"/>
                </a:cubicBezTo>
                <a:cubicBezTo>
                  <a:pt x="649" y="2437"/>
                  <a:pt x="711" y="2508"/>
                  <a:pt x="776" y="2504"/>
                </a:cubicBezTo>
                <a:cubicBezTo>
                  <a:pt x="841" y="2500"/>
                  <a:pt x="913" y="2415"/>
                  <a:pt x="977" y="2297"/>
                </a:cubicBezTo>
                <a:cubicBezTo>
                  <a:pt x="1041" y="2179"/>
                  <a:pt x="1096" y="2032"/>
                  <a:pt x="1158" y="1798"/>
                </a:cubicBezTo>
                <a:cubicBezTo>
                  <a:pt x="1220" y="1564"/>
                  <a:pt x="1296" y="1196"/>
                  <a:pt x="1352" y="896"/>
                </a:cubicBezTo>
                <a:cubicBezTo>
                  <a:pt x="1408" y="596"/>
                  <a:pt x="1466" y="187"/>
                  <a:pt x="149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77080" y="486900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637000"/>
            <a:ext cx="1425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244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04000" y="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  и    у=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графики,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–3 = 1–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65840" y="1409760"/>
            <a:ext cx="2539800" cy="4559400"/>
          </a:xfrm>
          <a:custGeom>
            <a:avLst/>
            <a:gdLst/>
            <a:ahLst/>
            <a:rect l="l" t="t" r="r" b="b"/>
            <a:pathLst>
              <a:path w="1600" h="2872">
                <a:moveTo>
                  <a:pt x="0" y="0"/>
                </a:moveTo>
                <a:lnTo>
                  <a:pt x="1600" y="287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64000" y="2708280"/>
            <a:ext cx="216036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82520" y="55166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1–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7200" y="8352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х –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2920" y="3716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63120" y="1989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4920" y="49417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2; 5),  (2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72560" y="4005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5084640"/>
            <a:ext cx="216036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1280" y="299736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3 ,  у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7480" y="1295280"/>
            <a:ext cx="2374920" cy="3981600"/>
          </a:xfrm>
          <a:custGeom>
            <a:avLst/>
            <a:gdLst/>
            <a:ahLst/>
            <a:rect l="l" t="t" r="r" b="b"/>
            <a:pathLst>
              <a:path w="1496" h="2508">
                <a:moveTo>
                  <a:pt x="0" y="40"/>
                </a:moveTo>
                <a:cubicBezTo>
                  <a:pt x="33" y="187"/>
                  <a:pt x="136" y="627"/>
                  <a:pt x="200" y="920"/>
                </a:cubicBezTo>
                <a:cubicBezTo>
                  <a:pt x="264" y="1213"/>
                  <a:pt x="320" y="1567"/>
                  <a:pt x="384" y="1800"/>
                </a:cubicBezTo>
                <a:cubicBezTo>
                  <a:pt x="448" y="2033"/>
                  <a:pt x="519" y="2203"/>
                  <a:pt x="584" y="2320"/>
                </a:cubicBezTo>
                <a:cubicBezTo>
                  <a:pt x="649" y="2437"/>
                  <a:pt x="711" y="2508"/>
                  <a:pt x="776" y="2504"/>
                </a:cubicBezTo>
                <a:cubicBezTo>
                  <a:pt x="841" y="2500"/>
                  <a:pt x="913" y="2415"/>
                  <a:pt x="977" y="2297"/>
                </a:cubicBezTo>
                <a:cubicBezTo>
                  <a:pt x="1041" y="2179"/>
                  <a:pt x="1096" y="2032"/>
                  <a:pt x="1158" y="1798"/>
                </a:cubicBezTo>
                <a:cubicBezTo>
                  <a:pt x="1220" y="1564"/>
                  <a:pt x="1296" y="1196"/>
                  <a:pt x="1352" y="896"/>
                </a:cubicBezTo>
                <a:cubicBezTo>
                  <a:pt x="1408" y="596"/>
                  <a:pt x="1466" y="187"/>
                  <a:pt x="149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1640" y="407664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24360" y="2708280"/>
            <a:ext cx="0" cy="1441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21360" y="419112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8" y="5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00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59280" y="2205000"/>
            <a:ext cx="1944360" cy="720720"/>
          </a:xfrm>
          <a:prstGeom prst="wedgeEllipseCallout">
            <a:avLst>
              <a:gd name="adj1" fmla="val -98162"/>
              <a:gd name="adj2" fmla="val 19449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311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1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77080" y="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и    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у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84600" y="1219320"/>
            <a:ext cx="2730600" cy="5003640"/>
          </a:xfrm>
          <a:custGeom>
            <a:avLst/>
            <a:gdLst/>
            <a:ahLst/>
            <a:rect l="l" t="t" r="r" b="b"/>
            <a:pathLst>
              <a:path w="1720" h="3152">
                <a:moveTo>
                  <a:pt x="1720" y="0"/>
                </a:moveTo>
                <a:lnTo>
                  <a:pt x="0" y="315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16360" y="3357720"/>
            <a:ext cx="2160360" cy="576000"/>
          </a:xfrm>
          <a:prstGeom prst="wedgeEllipseCallout">
            <a:avLst>
              <a:gd name="adj1" fmla="val -95773"/>
              <a:gd name="adj2" fmla="val 8608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49200">
            <a:off x="4503240" y="4796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08640" y="836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248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63120" y="17002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6360" y="4941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44200" y="393372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2708280"/>
            <a:ext cx="2160720" cy="576360"/>
          </a:xfrm>
          <a:prstGeom prst="wedgeEllipseCallout">
            <a:avLst>
              <a:gd name="adj1" fmla="val -92393"/>
              <a:gd name="adj2" fmla="val 8030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5440" y="299736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=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95640" y="4508640"/>
            <a:ext cx="1944720" cy="720720"/>
          </a:xfrm>
          <a:prstGeom prst="wedgeEllipseCallout">
            <a:avLst>
              <a:gd name="adj1" fmla="val -74569"/>
              <a:gd name="adj2" fmla="val 9295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51640" y="762120"/>
            <a:ext cx="1485720" cy="5979960"/>
          </a:xfrm>
          <a:custGeom>
            <a:avLst/>
            <a:gdLst/>
            <a:ahLst/>
            <a:rect l="l" t="t" r="r" b="b"/>
            <a:pathLst>
              <a:path w="936" h="3767">
                <a:moveTo>
                  <a:pt x="936" y="0"/>
                </a:moveTo>
                <a:cubicBezTo>
                  <a:pt x="916" y="121"/>
                  <a:pt x="848" y="504"/>
                  <a:pt x="816" y="728"/>
                </a:cubicBezTo>
                <a:cubicBezTo>
                  <a:pt x="784" y="952"/>
                  <a:pt x="779" y="1144"/>
                  <a:pt x="744" y="1344"/>
                </a:cubicBezTo>
                <a:cubicBezTo>
                  <a:pt x="709" y="1544"/>
                  <a:pt x="661" y="1799"/>
                  <a:pt x="608" y="1928"/>
                </a:cubicBezTo>
                <a:cubicBezTo>
                  <a:pt x="555" y="2057"/>
                  <a:pt x="483" y="2060"/>
                  <a:pt x="424" y="2120"/>
                </a:cubicBezTo>
                <a:cubicBezTo>
                  <a:pt x="365" y="2180"/>
                  <a:pt x="301" y="2185"/>
                  <a:pt x="256" y="2288"/>
                </a:cubicBezTo>
                <a:cubicBezTo>
                  <a:pt x="211" y="2391"/>
                  <a:pt x="195" y="2490"/>
                  <a:pt x="152" y="2736"/>
                </a:cubicBezTo>
                <a:cubicBezTo>
                  <a:pt x="109" y="2982"/>
                  <a:pt x="32" y="3552"/>
                  <a:pt x="0" y="3767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77080" y="18464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92200" y="1773360"/>
                <a:ext cx="18619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 flipH="1">
            <a:off x="3851280" y="3284640"/>
            <a:ext cx="489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376" name="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924360" y="41418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3068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77080" y="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и  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графики реш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2х– 4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9280" y="602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1231920"/>
            <a:ext cx="2705040" cy="4737240"/>
          </a:xfrm>
          <a:custGeom>
            <a:avLst/>
            <a:gdLst/>
            <a:ahLst/>
            <a:rect l="l" t="t" r="r" b="b"/>
            <a:pathLst>
              <a:path w="1704" h="2984">
                <a:moveTo>
                  <a:pt x="1704" y="0"/>
                </a:moveTo>
                <a:lnTo>
                  <a:pt x="0" y="298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08360" y="3500280"/>
            <a:ext cx="2160720" cy="576360"/>
          </a:xfrm>
          <a:prstGeom prst="wedgeEllipseCallout">
            <a:avLst>
              <a:gd name="adj1" fmla="val -102240"/>
              <a:gd name="adj2" fmla="val 30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11640" y="5877000"/>
            <a:ext cx="2087640" cy="647640"/>
          </a:xfrm>
          <a:prstGeom prst="wedgeEllipseCallout">
            <a:avLst>
              <a:gd name="adj1" fmla="val -111976"/>
              <a:gd name="adj2" fmla="val 16421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8049200">
            <a:off x="4401720" y="4796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2х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8640" y="836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22480" y="41418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96720" y="4141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63120" y="17002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02440" y="42228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56360" y="4941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4200" y="3933720"/>
            <a:ext cx="258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 ,  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5157720"/>
            <a:ext cx="2160720" cy="576360"/>
          </a:xfrm>
          <a:prstGeom prst="wedgeEllipseCallout">
            <a:avLst>
              <a:gd name="adj1" fmla="val -88282"/>
              <a:gd name="adj2" fmla="val 2741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4720" y="602136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440" y="299736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=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46920" y="1989000"/>
            <a:ext cx="1440" cy="2151360"/>
          </a:xfrm>
          <a:custGeom>
            <a:avLst/>
            <a:gdLst/>
            <a:ahLst/>
            <a:rect l="l" t="t" r="r" b="b"/>
            <a:pathLst>
              <a:path w="1" h="1355">
                <a:moveTo>
                  <a:pt x="1" y="0"/>
                </a:moveTo>
                <a:lnTo>
                  <a:pt x="0" y="13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2276640"/>
            <a:ext cx="1944720" cy="720720"/>
          </a:xfrm>
          <a:prstGeom prst="wedgeEllipseCallout">
            <a:avLst>
              <a:gd name="adj1" fmla="val -74569"/>
              <a:gd name="adj2" fmla="val 9295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51640" y="762120"/>
            <a:ext cx="1485720" cy="5979960"/>
          </a:xfrm>
          <a:custGeom>
            <a:avLst/>
            <a:gdLst/>
            <a:ahLst/>
            <a:rect l="l" t="t" r="r" b="b"/>
            <a:pathLst>
              <a:path w="936" h="3767">
                <a:moveTo>
                  <a:pt x="936" y="0"/>
                </a:moveTo>
                <a:cubicBezTo>
                  <a:pt x="901" y="215"/>
                  <a:pt x="791" y="967"/>
                  <a:pt x="736" y="1288"/>
                </a:cubicBezTo>
                <a:cubicBezTo>
                  <a:pt x="681" y="1609"/>
                  <a:pt x="660" y="1789"/>
                  <a:pt x="608" y="1928"/>
                </a:cubicBezTo>
                <a:cubicBezTo>
                  <a:pt x="556" y="2067"/>
                  <a:pt x="483" y="2060"/>
                  <a:pt x="424" y="2120"/>
                </a:cubicBezTo>
                <a:cubicBezTo>
                  <a:pt x="365" y="2180"/>
                  <a:pt x="301" y="2185"/>
                  <a:pt x="256" y="2288"/>
                </a:cubicBezTo>
                <a:cubicBezTo>
                  <a:pt x="211" y="2391"/>
                  <a:pt x="195" y="2490"/>
                  <a:pt x="152" y="2736"/>
                </a:cubicBezTo>
                <a:cubicBezTo>
                  <a:pt x="109" y="2982"/>
                  <a:pt x="32" y="3552"/>
                  <a:pt x="0" y="3767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16600" y="1700280"/>
            <a:ext cx="1200240" cy="941400"/>
          </a:xfrm>
          <a:custGeom>
            <a:avLst/>
            <a:gdLst/>
            <a:ahLst/>
            <a:rect l="l" t="t" r="r" b="b"/>
            <a:pathLst>
              <a:path w="536" h="411">
                <a:moveTo>
                  <a:pt x="0" y="411"/>
                </a:moveTo>
                <a:lnTo>
                  <a:pt x="212" y="0"/>
                </a:lnTo>
                <a:lnTo>
                  <a:pt x="484" y="45"/>
                </a:lnTo>
                <a:lnTo>
                  <a:pt x="529" y="181"/>
                </a:lnTo>
                <a:lnTo>
                  <a:pt x="536" y="387"/>
                </a:lnTo>
                <a:lnTo>
                  <a:pt x="0" y="41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20120" y="1700280"/>
            <a:ext cx="1199880" cy="941400"/>
          </a:xfrm>
          <a:custGeom>
            <a:avLst/>
            <a:gdLst/>
            <a:ahLst/>
            <a:rect l="l" t="t" r="r" b="b"/>
            <a:pathLst>
              <a:path w="536" h="411">
                <a:moveTo>
                  <a:pt x="0" y="411"/>
                </a:moveTo>
                <a:lnTo>
                  <a:pt x="212" y="0"/>
                </a:lnTo>
                <a:lnTo>
                  <a:pt x="484" y="45"/>
                </a:lnTo>
                <a:lnTo>
                  <a:pt x="529" y="181"/>
                </a:lnTo>
                <a:lnTo>
                  <a:pt x="536" y="387"/>
                </a:lnTo>
                <a:lnTo>
                  <a:pt x="0" y="41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084720" y="907920"/>
            <a:ext cx="2664000" cy="2519280"/>
            <a:chOff x="6084720" y="907920"/>
            <a:chExt cx="2664000" cy="2519280"/>
          </a:xfrm>
        </p:grpSpPr>
        <p:grpSp>
          <p:nvGrpSpPr>
            <p:cNvPr id="442" name=""/>
            <p:cNvGrpSpPr/>
            <p:nvPr/>
          </p:nvGrpSpPr>
          <p:grpSpPr>
            <a:xfrm>
              <a:off x="6084720" y="1052280"/>
              <a:ext cx="2592720" cy="2374920"/>
              <a:chOff x="6084720" y="1052280"/>
              <a:chExt cx="2592720" cy="2374920"/>
            </a:xfrm>
          </p:grpSpPr>
          <p:sp>
            <p:nvSpPr>
              <p:cNvPr id="443" name=""/>
              <p:cNvSpPr/>
              <p:nvPr/>
            </p:nvSpPr>
            <p:spPr>
              <a:xfrm>
                <a:off x="6084720" y="10522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84720" y="34272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847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6774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84720" y="13158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4536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038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86268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215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18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406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9009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1583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186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84720" y="157932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84720" y="18428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84720" y="2108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84720" y="2371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84720" y="26366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84720" y="2900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84720" y="3163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084720" y="263664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81800" y="9079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900000" y="155736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90792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89000" y="1015920"/>
                <a:ext cx="1861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9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470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494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340000" y="5157720"/>
            <a:ext cx="26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340000" y="981000"/>
            <a:ext cx="2663640" cy="2519280"/>
            <a:chOff x="2340000" y="981000"/>
            <a:chExt cx="2663640" cy="2519280"/>
          </a:xfrm>
        </p:grpSpPr>
        <p:grpSp>
          <p:nvGrpSpPr>
            <p:cNvPr id="518" name=""/>
            <p:cNvGrpSpPr/>
            <p:nvPr/>
          </p:nvGrpSpPr>
          <p:grpSpPr>
            <a:xfrm>
              <a:off x="2340000" y="1125360"/>
              <a:ext cx="2592360" cy="2374920"/>
              <a:chOff x="2340000" y="1125360"/>
              <a:chExt cx="2592360" cy="2374920"/>
            </a:xfrm>
          </p:grpSpPr>
          <p:sp>
            <p:nvSpPr>
              <p:cNvPr id="519" name=""/>
              <p:cNvSpPr/>
              <p:nvPr/>
            </p:nvSpPr>
            <p:spPr>
              <a:xfrm>
                <a:off x="2340000" y="11253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40000" y="35002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400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323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40000" y="13888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60028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587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76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764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367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955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1558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132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6735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40000" y="165240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40000" y="19159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40000" y="2181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40000" y="2444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40000" y="27097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40000" y="2973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40000" y="3236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340000" y="270972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636720" y="98100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84720" y="10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1128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340000" y="112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5661000"/>
            <a:ext cx="2340000" cy="503280"/>
          </a:xfrm>
          <a:prstGeom prst="wedgeEllipseCallout">
            <a:avLst>
              <a:gd name="adj1" fmla="val 54138"/>
              <a:gd name="adj2" fmla="val -27965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201080" y="990720"/>
            <a:ext cx="1269720" cy="2489040"/>
          </a:xfrm>
          <a:custGeom>
            <a:avLst/>
            <a:gdLst/>
            <a:ahLst/>
            <a:rect l="l" t="t" r="r" b="b"/>
            <a:pathLst>
              <a:path w="800" h="1568">
                <a:moveTo>
                  <a:pt x="800" y="0"/>
                </a:moveTo>
                <a:lnTo>
                  <a:pt x="0" y="1568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20000" y="260280"/>
            <a:ext cx="1800000" cy="576360"/>
          </a:xfrm>
          <a:prstGeom prst="wedgeEllipseCallout">
            <a:avLst>
              <a:gd name="adj1" fmla="val -79629"/>
              <a:gd name="adj2" fmla="val 12190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2728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41892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95680" y="3573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700360" y="429408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2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2604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73440" y="24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1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6580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2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8520" y="609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380360" y="1628280"/>
            <a:ext cx="0" cy="1513440"/>
            <a:chOff x="7380360" y="1628280"/>
            <a:chExt cx="0" cy="1513440"/>
          </a:xfrm>
        </p:grpSpPr>
        <p:sp>
          <p:nvSpPr>
            <p:cNvPr id="583" name=""/>
            <p:cNvSpPr/>
            <p:nvPr/>
          </p:nvSpPr>
          <p:spPr>
            <a:xfrm flipV="1">
              <a:off x="7380360" y="1628280"/>
              <a:ext cx="0" cy="100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80360" y="2637000"/>
              <a:ext cx="0" cy="5047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6084720" y="907920"/>
            <a:ext cx="2664000" cy="2519280"/>
            <a:chOff x="6084720" y="907920"/>
            <a:chExt cx="2664000" cy="2519280"/>
          </a:xfrm>
        </p:grpSpPr>
        <p:grpSp>
          <p:nvGrpSpPr>
            <p:cNvPr id="586" name=""/>
            <p:cNvGrpSpPr/>
            <p:nvPr/>
          </p:nvGrpSpPr>
          <p:grpSpPr>
            <a:xfrm>
              <a:off x="6084720" y="1052280"/>
              <a:ext cx="2592720" cy="2374920"/>
              <a:chOff x="6084720" y="1052280"/>
              <a:chExt cx="2592720" cy="2374920"/>
            </a:xfrm>
          </p:grpSpPr>
          <p:sp>
            <p:nvSpPr>
              <p:cNvPr id="587" name=""/>
              <p:cNvSpPr/>
              <p:nvPr/>
            </p:nvSpPr>
            <p:spPr>
              <a:xfrm>
                <a:off x="6084720" y="10522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84720" y="34272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0847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6774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084720" y="131580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34536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038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6268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215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818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4064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9009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15832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18600" y="105228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84720" y="157932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84720" y="18428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84720" y="2108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084720" y="2371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084720" y="263664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084720" y="290016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84720" y="3163680"/>
                <a:ext cx="259272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6084720" y="263664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381800" y="9079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84360" y="2708280"/>
            <a:ext cx="360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55640" y="2060640"/>
            <a:ext cx="720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133720"/>
                <a:ext cx="25448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,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3" name=""/>
          <p:cNvGrpSpPr/>
          <p:nvPr/>
        </p:nvGrpSpPr>
        <p:grpSpPr>
          <a:xfrm>
            <a:off x="6084720" y="3933720"/>
            <a:ext cx="2592720" cy="2374920"/>
            <a:chOff x="6084720" y="3933720"/>
            <a:chExt cx="2592720" cy="2374920"/>
          </a:xfrm>
        </p:grpSpPr>
        <p:sp>
          <p:nvSpPr>
            <p:cNvPr id="614" name=""/>
            <p:cNvSpPr/>
            <p:nvPr/>
          </p:nvSpPr>
          <p:spPr>
            <a:xfrm>
              <a:off x="6084720" y="39337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84720" y="63086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847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6774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4720" y="419724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4536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038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6268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215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818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4064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009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5832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18600" y="393372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4720" y="446076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84720" y="47242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84720" y="4989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84720" y="5253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84720" y="551808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84720" y="578160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84720" y="6045120"/>
              <a:ext cx="259272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6070680" y="523224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7381800" y="378936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2340000" y="3860640"/>
            <a:ext cx="2592360" cy="2374920"/>
            <a:chOff x="2340000" y="3860640"/>
            <a:chExt cx="2592360" cy="2374920"/>
          </a:xfrm>
        </p:grpSpPr>
        <p:sp>
          <p:nvSpPr>
            <p:cNvPr id="638" name=""/>
            <p:cNvSpPr/>
            <p:nvPr/>
          </p:nvSpPr>
          <p:spPr>
            <a:xfrm>
              <a:off x="2340000" y="38606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40000" y="62355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400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323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40000" y="412416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028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587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1760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764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67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9556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558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1324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73520" y="3860640"/>
              <a:ext cx="0" cy="237492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40000" y="438768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40000" y="46512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40000" y="4916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40000" y="5180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40000" y="544500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0000" y="570852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40000" y="5972040"/>
              <a:ext cx="259236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2340000" y="5157720"/>
            <a:ext cx="26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637080" y="371628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40000" y="981000"/>
            <a:ext cx="2663640" cy="2519280"/>
            <a:chOff x="2340000" y="981000"/>
            <a:chExt cx="2663640" cy="2519280"/>
          </a:xfrm>
        </p:grpSpPr>
        <p:grpSp>
          <p:nvGrpSpPr>
            <p:cNvPr id="662" name=""/>
            <p:cNvGrpSpPr/>
            <p:nvPr/>
          </p:nvGrpSpPr>
          <p:grpSpPr>
            <a:xfrm>
              <a:off x="2340000" y="1125360"/>
              <a:ext cx="2592360" cy="2374920"/>
              <a:chOff x="2340000" y="1125360"/>
              <a:chExt cx="2592360" cy="2374920"/>
            </a:xfrm>
          </p:grpSpPr>
          <p:sp>
            <p:nvSpPr>
              <p:cNvPr id="663" name=""/>
              <p:cNvSpPr/>
              <p:nvPr/>
            </p:nvSpPr>
            <p:spPr>
              <a:xfrm>
                <a:off x="2340000" y="11253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340000" y="35002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400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323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340000" y="138888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0028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587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1760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764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367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9556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558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41324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73520" y="1125360"/>
                <a:ext cx="0" cy="237492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340000" y="165240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340000" y="19159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340000" y="2181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340000" y="2444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340000" y="270972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340000" y="297324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40000" y="3236760"/>
                <a:ext cx="25923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40000" y="270972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636720" y="98100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834480" y="115920"/>
            <a:ext cx="79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жите рисунок, на котором приведена графическая 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я системы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84720" y="105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8472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41128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340000" y="112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24360" y="260280"/>
            <a:ext cx="2232000" cy="576360"/>
          </a:xfrm>
          <a:prstGeom prst="wedgeEllipseCallout">
            <a:avLst>
              <a:gd name="adj1" fmla="val -98648"/>
              <a:gd name="adj2" fmla="val 116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5661000"/>
            <a:ext cx="2340000" cy="503280"/>
          </a:xfrm>
          <a:prstGeom prst="wedgeEllipseCallout">
            <a:avLst>
              <a:gd name="adj1" fmla="val 54138"/>
              <a:gd name="adj2" fmla="val -27965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140360" y="6093000"/>
            <a:ext cx="2160360" cy="576000"/>
          </a:xfrm>
          <a:prstGeom prst="wedgeEllipseCallout">
            <a:avLst>
              <a:gd name="adj1" fmla="val 50587"/>
              <a:gd name="adj2" fmla="val -33622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11880" y="1700280"/>
            <a:ext cx="2324160" cy="1181160"/>
          </a:xfrm>
          <a:custGeom>
            <a:avLst/>
            <a:gdLst/>
            <a:ahLst/>
            <a:rect l="l" t="t" r="r" b="b"/>
            <a:pathLst>
              <a:path w="1464" h="744">
                <a:moveTo>
                  <a:pt x="0" y="0"/>
                </a:moveTo>
                <a:lnTo>
                  <a:pt x="1464" y="744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67560" y="549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20000" y="260280"/>
            <a:ext cx="1800000" cy="576360"/>
          </a:xfrm>
          <a:prstGeom prst="wedgeEllipseCallout">
            <a:avLst>
              <a:gd name="adj1" fmla="val -79629"/>
              <a:gd name="adj2" fmla="val 12190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62728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418920" y="119700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695680" y="357336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00360" y="4294080"/>
            <a:ext cx="1135080" cy="2360880"/>
          </a:xfrm>
          <a:custGeom>
            <a:avLst/>
            <a:gdLst/>
            <a:ahLst/>
            <a:rect l="l" t="t" r="r" b="b"/>
            <a:pathLst>
              <a:path w="715" h="1487">
                <a:moveTo>
                  <a:pt x="715" y="148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019280" y="3500280"/>
            <a:ext cx="1228680" cy="2448000"/>
          </a:xfrm>
          <a:custGeom>
            <a:avLst/>
            <a:gdLst/>
            <a:ahLst/>
            <a:rect l="l" t="t" r="r" b="b"/>
            <a:pathLst>
              <a:path w="774" h="1542">
                <a:moveTo>
                  <a:pt x="774" y="0"/>
                </a:moveTo>
                <a:lnTo>
                  <a:pt x="0" y="1542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443640" y="4410000"/>
            <a:ext cx="1087560" cy="2143080"/>
          </a:xfrm>
          <a:custGeom>
            <a:avLst/>
            <a:gdLst/>
            <a:ahLst/>
            <a:rect l="l" t="t" r="r" b="b"/>
            <a:pathLst>
              <a:path w="685" h="1350">
                <a:moveTo>
                  <a:pt x="0" y="0"/>
                </a:moveTo>
                <a:lnTo>
                  <a:pt x="685" y="1350"/>
                </a:ln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92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2652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14240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9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2604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73440" y="24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6580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09488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348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5348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2424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566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021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8216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278520" y="609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218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89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544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6110400">
            <a:off x="8060400" y="210636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521600">
            <a:off x="7002720" y="2332080"/>
            <a:ext cx="17784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95" y="1290"/>
                  <a:pt x="7189" y="5080"/>
                  <a:pt x="7189" y="10800"/>
                </a:cubicBezTo>
                <a:cubicBezTo>
                  <a:pt x="7189" y="16520"/>
                  <a:pt x="14395" y="203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201080" y="1968480"/>
            <a:ext cx="139680" cy="228600"/>
          </a:xfrm>
          <a:custGeom>
            <a:avLst/>
            <a:gdLst/>
            <a:ahLst/>
            <a:rect l="l" t="t" r="r" b="b"/>
            <a:pathLst>
              <a:path w="88" h="144">
                <a:moveTo>
                  <a:pt x="0" y="0"/>
                </a:moveTo>
                <a:lnTo>
                  <a:pt x="88" y="48"/>
                </a:lnTo>
                <a:lnTo>
                  <a:pt x="32" y="144"/>
                </a:lnTo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06:22Z</dcterms:created>
  <dc:creator>ADMINISTRATION</dc:creator>
  <dc:description/>
  <dc:language>en-US</dc:language>
  <cp:lastModifiedBy>BLACKCLASSIC</cp:lastModifiedBy>
  <dcterms:modified xsi:type="dcterms:W3CDTF">2015-01-09T19:58:13Z</dcterms:modified>
  <cp:revision>34</cp:revision>
  <dc:subject/>
  <dc:title>Слайд 1</dc:title>
</cp:coreProperties>
</file>