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68B-1AB8-454F-A2D7-70D4CE3F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DB4-DE0B-4AC9-B11A-6823D1AC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6FA-66A8-401C-86A1-3F20FF8D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2B0-E1E6-41EF-AFDB-23C41A95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05D4-A75D-46BD-B073-D8708B14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FA91-5BF1-4878-8248-69DC2F1C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49F0-4AEB-4D33-B576-54461A2F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8D4B-C55F-4561-AF20-6910743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76A8-9616-4328-BEA3-FFCA136C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F7C3-B195-4783-BEB1-B1F2D78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57AD-97DD-436D-817A-9F5156EC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BD7-8572-4E0F-A0CE-54333E20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3F04-3D27-4B10-B7CC-848AAF9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F2A5-0E25-4235-A863-A988F941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9D09-94C9-4192-A97C-FF45F7D9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42D0-21B3-41FF-8693-7DFA98A5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6130-08A8-47C0-97A1-FC5A5645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201-5B68-4D08-A210-FDC2049F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583-B983-4F95-8199-81EBF380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9BC-F395-4329-A489-A5B774B3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C12-0947-4BF7-AB06-870CFFC3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26B-B7A2-489D-9A4E-678C425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49A-9F3C-4AC6-95A8-0F6153C9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33B-16A0-4D75-B50E-8DD106F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B05E-43BE-404D-90DA-0728B522DB10}" type="datetime">
              <a:rPr b="0" lang="ru-RU" sz="1400" spc="-1" strike="noStrike">
                <a:solidFill>
                  <a:srgbClr val="40458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CED2-24FB-4E40-94A7-F29695FA966A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CF75-6DF4-4DC8-AB04-529B30C58CD4}" type="datetime">
              <a:rPr b="0" lang="ru-RU" sz="1400" spc="-1" strike="noStrike">
                <a:solidFill>
                  <a:srgbClr val="40458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5D05-B16C-4876-87DF-9E8543D84CA6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465200" y="1795320"/>
            <a:ext cx="4032000" cy="3865680"/>
            <a:chOff x="1465200" y="1795320"/>
            <a:chExt cx="4032000" cy="3865680"/>
          </a:xfrm>
        </p:grpSpPr>
        <p:sp>
          <p:nvSpPr>
            <p:cNvPr id="208" name=""/>
            <p:cNvSpPr/>
            <p:nvPr/>
          </p:nvSpPr>
          <p:spPr>
            <a:xfrm rot="16200000">
              <a:off x="3276360" y="3440160"/>
              <a:ext cx="2425680" cy="2016000"/>
            </a:xfrm>
            <a:prstGeom prst="triangle">
              <a:avLst>
                <a:gd name="adj" fmla="val 79315"/>
              </a:avLst>
            </a:prstGeom>
            <a:solidFill>
              <a:srgbClr val="0066ff">
                <a:alpha val="77000"/>
              </a:srgbClr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1260000" y="2000160"/>
              <a:ext cx="2426040" cy="2016000"/>
            </a:xfrm>
            <a:prstGeom prst="triangle">
              <a:avLst>
                <a:gd name="adj" fmla="val 79315"/>
              </a:avLst>
            </a:prstGeom>
            <a:solidFill>
              <a:srgbClr val="0066ff">
                <a:alpha val="74000"/>
              </a:srgbClr>
            </a:solidFill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rot="16200000">
            <a:off x="622080" y="2481120"/>
            <a:ext cx="2425680" cy="2016360"/>
          </a:xfrm>
          <a:prstGeom prst="triangle">
            <a:avLst>
              <a:gd name="adj" fmla="val 79315"/>
            </a:avLst>
          </a:prstGeom>
          <a:solidFill>
            <a:srgbClr val="ff0000">
              <a:alpha val="76000"/>
            </a:srgbClr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3657600"/>
            <a:ext cx="144360" cy="14292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3860640"/>
            <a:ext cx="216000" cy="216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3357720"/>
            <a:ext cx="215640" cy="215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7960" y="3286080"/>
            <a:ext cx="182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39337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314316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472608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142240" y="404640"/>
            <a:ext cx="3643200" cy="459720"/>
            <a:chOff x="5142240" y="404640"/>
            <a:chExt cx="3643200" cy="459720"/>
          </a:xfrm>
        </p:grpSpPr>
        <p:sp>
          <p:nvSpPr>
            <p:cNvPr id="220" name=""/>
            <p:cNvSpPr/>
            <p:nvPr/>
          </p:nvSpPr>
          <p:spPr>
            <a:xfrm>
              <a:off x="5142240" y="404640"/>
              <a:ext cx="36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 АВС =   А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М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7740720" y="40464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6589440" y="40464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3" name=""/>
          <p:cNvSpPr/>
          <p:nvPr/>
        </p:nvSpPr>
        <p:spPr>
          <a:xfrm>
            <a:off x="5502600" y="55166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6920" y="285264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14960" y="3213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08440" y="1557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13120" y="40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88000" y="2351160"/>
            <a:ext cx="201456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учишь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1558800"/>
            <a:ext cx="2448000" cy="792360"/>
          </a:xfrm>
          <a:prstGeom prst="wedgeRoundRectCallout">
            <a:avLst>
              <a:gd name="adj1" fmla="val -7004"/>
              <a:gd name="adj2" fmla="val 180259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84720" y="4508280"/>
            <a:ext cx="360360" cy="215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195640" y="2565360"/>
            <a:ext cx="360360" cy="216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268360" y="2636640"/>
            <a:ext cx="360720" cy="215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11640" y="4437000"/>
            <a:ext cx="360360" cy="216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889360" y="3327120"/>
            <a:ext cx="1182600" cy="806760"/>
            <a:chOff x="2889360" y="3327120"/>
            <a:chExt cx="1182600" cy="806760"/>
          </a:xfrm>
        </p:grpSpPr>
        <p:sp>
          <p:nvSpPr>
            <p:cNvPr id="236" name=""/>
            <p:cNvSpPr/>
            <p:nvPr/>
          </p:nvSpPr>
          <p:spPr>
            <a:xfrm>
              <a:off x="3902040" y="3600360"/>
              <a:ext cx="169920" cy="533520"/>
            </a:xfrm>
            <a:custGeom>
              <a:avLst/>
              <a:gdLst/>
              <a:ahLst/>
              <a:rect l="l" t="t" r="r" b="b"/>
              <a:pathLst>
                <a:path w="107" h="336">
                  <a:moveTo>
                    <a:pt x="64" y="0"/>
                  </a:moveTo>
                  <a:cubicBezTo>
                    <a:pt x="69" y="31"/>
                    <a:pt x="107" y="128"/>
                    <a:pt x="96" y="184"/>
                  </a:cubicBezTo>
                  <a:cubicBezTo>
                    <a:pt x="85" y="240"/>
                    <a:pt x="20" y="304"/>
                    <a:pt x="0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800000">
              <a:off x="2889360" y="3327120"/>
              <a:ext cx="169920" cy="533160"/>
            </a:xfrm>
            <a:custGeom>
              <a:avLst/>
              <a:gdLst/>
              <a:ahLst/>
              <a:rect l="l" t="t" r="r" b="b"/>
              <a:pathLst>
                <a:path w="107" h="336">
                  <a:moveTo>
                    <a:pt x="64" y="0"/>
                  </a:moveTo>
                  <a:cubicBezTo>
                    <a:pt x="69" y="31"/>
                    <a:pt x="107" y="128"/>
                    <a:pt x="96" y="184"/>
                  </a:cubicBezTo>
                  <a:cubicBezTo>
                    <a:pt x="85" y="240"/>
                    <a:pt x="20" y="304"/>
                    <a:pt x="0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90080" y="1890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Блиц-опро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0.29149 0.13634 E">
                                      <p:cBhvr>
                                        <p:cTn id="1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 flipH="1">
            <a:off x="1042920" y="2924280"/>
            <a:ext cx="2881440" cy="2592360"/>
          </a:xfrm>
          <a:prstGeom prst="rtTriangl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42920" y="2060640"/>
            <a:ext cx="3745080" cy="34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6ccff"/>
              </a:gs>
              <a:gs pos="50000">
                <a:srgbClr val="ccecff"/>
              </a:gs>
              <a:gs pos="100000">
                <a:srgbClr val="66ccff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42920" y="2924280"/>
            <a:ext cx="28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22560" y="2060640"/>
            <a:ext cx="8654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9520" y="5373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18200" y="1557360"/>
            <a:ext cx="5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17080" y="177336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93480" y="2708280"/>
            <a:ext cx="47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2000" y="2637000"/>
            <a:ext cx="47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85120" y="4437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59640" y="6165720"/>
            <a:ext cx="1582560" cy="503280"/>
          </a:xfrm>
          <a:custGeom>
            <a:avLst/>
            <a:gdLst>
              <a:gd name="textAreaLeft" fmla="*/ 32400 w 1582560"/>
              <a:gd name="textAreaRight" fmla="*/ 1550160 w 1582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7888" h="21600">
                <a:moveTo>
                  <a:pt x="0" y="0"/>
                </a:moveTo>
                <a:lnTo>
                  <a:pt x="67888" y="0"/>
                </a:lnTo>
                <a:lnTo>
                  <a:pt x="67888" y="21600"/>
                </a:lnTo>
                <a:lnTo>
                  <a:pt x="0" y="21600"/>
                </a:lnTo>
                <a:close/>
              </a:path>
              <a:path fill="lightenLess" w="67888" h="21600">
                <a:moveTo>
                  <a:pt x="0" y="0"/>
                </a:moveTo>
                <a:lnTo>
                  <a:pt x="67888" y="0"/>
                </a:lnTo>
                <a:lnTo>
                  <a:pt x="66488" y="1400"/>
                </a:lnTo>
                <a:lnTo>
                  <a:pt x="1400" y="1400"/>
                </a:lnTo>
                <a:close/>
              </a:path>
              <a:path fill="darken" w="67888" h="21600">
                <a:moveTo>
                  <a:pt x="67888" y="0"/>
                </a:moveTo>
                <a:lnTo>
                  <a:pt x="67888" y="21600"/>
                </a:lnTo>
                <a:lnTo>
                  <a:pt x="66488" y="20200"/>
                </a:lnTo>
                <a:lnTo>
                  <a:pt x="66488" y="1400"/>
                </a:lnTo>
                <a:close/>
              </a:path>
              <a:path fill="darkenLess" w="67888" h="21600">
                <a:moveTo>
                  <a:pt x="67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88" y="20200"/>
                </a:lnTo>
                <a:close/>
              </a:path>
              <a:path fill="lighten" w="67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34320" y="549360"/>
            <a:ext cx="744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Дан куб.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                         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Доказать: </a:t>
            </a:r>
            <a:r>
              <a:rPr b="0" lang="ru-RU" sz="2400" spc="-1" strike="noStrike">
                <a:solidFill>
                  <a:srgbClr val="000099"/>
                </a:solidFill>
                <a:latin typeface=""/>
              </a:rPr>
              <a:t>∆АВВ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"/>
              </a:rPr>
              <a:t>=∆СВВ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922560" y="2924280"/>
            <a:ext cx="865440" cy="17287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042560" y="2924280"/>
            <a:ext cx="287964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rot="5412600">
            <a:off x="3060360" y="3785760"/>
            <a:ext cx="2589120" cy="865440"/>
          </a:xfrm>
          <a:prstGeom prst="triangle">
            <a:avLst>
              <a:gd name="adj" fmla="val 33759"/>
            </a:avLst>
          </a:prstGeom>
          <a:solidFill>
            <a:srgbClr val="0000ff">
              <a:alpha val="5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22560" y="2924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endshow"/>
          </p:cNvPr>
          <p:cNvSpPr/>
          <p:nvPr/>
        </p:nvSpPr>
        <p:spPr>
          <a:xfrm>
            <a:off x="8388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2924280"/>
            <a:ext cx="2879640" cy="2592360"/>
          </a:xfrm>
          <a:custGeom>
            <a:avLst/>
            <a:gdLst/>
            <a:ahLst/>
            <a:rect l="l" t="t" r="r" b="b"/>
            <a:pathLst>
              <a:path w="1814" h="1633">
                <a:moveTo>
                  <a:pt x="0" y="1633"/>
                </a:moveTo>
                <a:lnTo>
                  <a:pt x="1814" y="1633"/>
                </a:lnTo>
                <a:lnTo>
                  <a:pt x="1814" y="0"/>
                </a:lnTo>
                <a:lnTo>
                  <a:pt x="0" y="1633"/>
                </a:lnTo>
                <a:close/>
              </a:path>
            </a:pathLst>
          </a:custGeom>
          <a:solidFill>
            <a:srgbClr val="ffff00">
              <a:alpha val="7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43720" y="5445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138560" y="501336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922560" y="501336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11640" y="5013360"/>
            <a:ext cx="287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698920" y="5373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130560" y="2924280"/>
            <a:ext cx="2881440" cy="2592360"/>
          </a:xfrm>
          <a:prstGeom prst="rtTriangle">
            <a:avLst/>
          </a:prstGeom>
          <a:solidFill>
            <a:srgbClr val="0000ff">
              <a:alpha val="5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06920" y="5229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706920" y="522936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rot="5412600">
            <a:off x="3060360" y="3789000"/>
            <a:ext cx="2589120" cy="865440"/>
          </a:xfrm>
          <a:prstGeom prst="triangle">
            <a:avLst>
              <a:gd name="adj" fmla="val 33759"/>
            </a:avLst>
          </a:prstGeom>
          <a:solidFill>
            <a:srgbClr val="0000ff">
              <a:alpha val="5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65360" y="3067200"/>
            <a:ext cx="154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589800" y="299556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89800" y="364320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89800" y="4292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77080" y="170028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1125360"/>
            <a:ext cx="2448000" cy="792360"/>
          </a:xfrm>
          <a:prstGeom prst="wedgeRoundRectCallout">
            <a:avLst>
              <a:gd name="adj1" fmla="val 57782"/>
              <a:gd name="adj2" fmla="val 204106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68840" y="3933720"/>
            <a:ext cx="298440" cy="647640"/>
          </a:xfrm>
          <a:custGeom>
            <a:avLst/>
            <a:gdLst/>
            <a:ahLst/>
            <a:rect l="l" t="t" r="r" b="b"/>
            <a:pathLst>
              <a:path w="188" h="408">
                <a:moveTo>
                  <a:pt x="143" y="0"/>
                </a:moveTo>
                <a:cubicBezTo>
                  <a:pt x="71" y="22"/>
                  <a:pt x="0" y="45"/>
                  <a:pt x="7" y="90"/>
                </a:cubicBezTo>
                <a:cubicBezTo>
                  <a:pt x="14" y="135"/>
                  <a:pt x="188" y="219"/>
                  <a:pt x="188" y="272"/>
                </a:cubicBezTo>
                <a:cubicBezTo>
                  <a:pt x="188" y="325"/>
                  <a:pt x="37" y="385"/>
                  <a:pt x="7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0046 L 0.10243 0.00046 E">
                                      <p:cBhvr>
                                        <p:cTn id="769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481"/>
                                        </p:tgtEl>
                                      </p:cBhvr>
                                      <p:to x="3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1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52601E-006 L -0.22829 0.00023 E">
                                      <p:cBhvr>
                                        <p:cTn id="783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9320" y="4581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37280" y="443700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21120" y="4005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32440" y="1341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32720" y="2852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2720" y="357336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436572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88320" y="2925720"/>
            <a:ext cx="182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810320" y="404640"/>
            <a:ext cx="3847320" cy="459720"/>
            <a:chOff x="4810320" y="404640"/>
            <a:chExt cx="3847320" cy="459720"/>
          </a:xfrm>
        </p:grpSpPr>
        <p:sp>
          <p:nvSpPr>
            <p:cNvPr id="249" name=""/>
            <p:cNvSpPr/>
            <p:nvPr/>
          </p:nvSpPr>
          <p:spPr>
            <a:xfrm>
              <a:off x="4810320" y="404640"/>
              <a:ext cx="38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АВК  =    М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B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7667640" y="404640"/>
                  <a:ext cx="3646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299280" y="404640"/>
                  <a:ext cx="3646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2" name=""/>
          <p:cNvSpPr/>
          <p:nvPr/>
        </p:nvSpPr>
        <p:spPr>
          <a:xfrm>
            <a:off x="7093080" y="170028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7525200">
            <a:off x="80640" y="2900160"/>
            <a:ext cx="3566880" cy="1236600"/>
          </a:xfrm>
          <a:prstGeom prst="triangle">
            <a:avLst>
              <a:gd name="adj" fmla="val 51685"/>
            </a:avLst>
          </a:prstGeom>
          <a:solidFill>
            <a:srgbClr val="66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rot="14122800">
            <a:off x="1068480" y="2899080"/>
            <a:ext cx="3566880" cy="13147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203640" y="2924280"/>
            <a:ext cx="216000" cy="215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14972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8000" y="414972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7552200">
            <a:off x="1654560" y="2910600"/>
            <a:ext cx="3527280" cy="1284120"/>
          </a:xfrm>
          <a:prstGeom prst="triangle">
            <a:avLst>
              <a:gd name="adj" fmla="val 49819"/>
            </a:avLst>
          </a:prstGeom>
          <a:gradFill rotWithShape="0">
            <a:gsLst>
              <a:gs pos="0">
                <a:srgbClr val="66ffff"/>
              </a:gs>
              <a:gs pos="50000">
                <a:srgbClr val="66ccff"/>
              </a:gs>
              <a:gs pos="100000">
                <a:srgbClr val="66ffff"/>
              </a:gs>
            </a:gsLst>
            <a:lin ang="5946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58920" y="3068640"/>
            <a:ext cx="21600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68360" y="2637000"/>
            <a:ext cx="216000" cy="504720"/>
          </a:xfrm>
          <a:custGeom>
            <a:avLst/>
            <a:gdLst/>
            <a:ahLst/>
            <a:rect l="l" t="t" r="r" b="b"/>
            <a:pathLst>
              <a:path w="144" h="499">
                <a:moveTo>
                  <a:pt x="8" y="0"/>
                </a:moveTo>
                <a:cubicBezTo>
                  <a:pt x="76" y="64"/>
                  <a:pt x="144" y="128"/>
                  <a:pt x="144" y="181"/>
                </a:cubicBezTo>
                <a:cubicBezTo>
                  <a:pt x="144" y="234"/>
                  <a:pt x="16" y="264"/>
                  <a:pt x="8" y="317"/>
                </a:cubicBezTo>
                <a:cubicBezTo>
                  <a:pt x="0" y="370"/>
                  <a:pt x="83" y="469"/>
                  <a:pt x="98" y="49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76360" y="414972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3280" y="414972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1341360"/>
            <a:ext cx="2448000" cy="792360"/>
          </a:xfrm>
          <a:prstGeom prst="wedgeRoundRectCallout">
            <a:avLst>
              <a:gd name="adj1" fmla="val 45916"/>
              <a:gd name="adj2" fmla="val 366833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9.24855E-007 L -0.16997 0.00254 E">
                                      <p:cBhvr>
                                        <p:cTn id="115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rot="10800000">
            <a:off x="2987640" y="1052640"/>
            <a:ext cx="2425680" cy="2016000"/>
          </a:xfrm>
          <a:prstGeom prst="triangle">
            <a:avLst>
              <a:gd name="adj" fmla="val 79315"/>
            </a:avLst>
          </a:prstGeom>
          <a:solidFill>
            <a:srgbClr val="0099ff">
              <a:alpha val="78000"/>
            </a:srgbClr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3068640"/>
            <a:ext cx="2426040" cy="2016000"/>
          </a:xfrm>
          <a:prstGeom prst="triangle">
            <a:avLst>
              <a:gd name="adj" fmla="val 79315"/>
            </a:avLst>
          </a:prstGeom>
          <a:solidFill>
            <a:srgbClr val="0066ff">
              <a:alpha val="76000"/>
            </a:srgbClr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47640" y="3068640"/>
            <a:ext cx="2426040" cy="2016000"/>
          </a:xfrm>
          <a:prstGeom prst="triangle">
            <a:avLst>
              <a:gd name="adj" fmla="val 79315"/>
            </a:avLst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2997360"/>
            <a:ext cx="144360" cy="1425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9418800">
            <a:off x="1766520" y="4878000"/>
            <a:ext cx="712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9373400">
            <a:off x="5145120" y="1052280"/>
            <a:ext cx="10476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84360" y="3933720"/>
            <a:ext cx="216000" cy="216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00720" y="1844640"/>
            <a:ext cx="215640" cy="216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7960" y="2276640"/>
            <a:ext cx="182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27640" y="2276640"/>
            <a:ext cx="289080" cy="502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558">
                <a:moveTo>
                  <a:pt x="0" y="0"/>
                </a:moveTo>
                <a:lnTo>
                  <a:pt x="21600" y="0"/>
                </a:lnTo>
                <a:lnTo>
                  <a:pt x="21600" y="37558"/>
                </a:lnTo>
                <a:lnTo>
                  <a:pt x="0" y="37558"/>
                </a:lnTo>
                <a:close/>
              </a:path>
              <a:path fill="lightenLess" w="21600" h="37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58">
                <a:moveTo>
                  <a:pt x="21600" y="0"/>
                </a:moveTo>
                <a:lnTo>
                  <a:pt x="21600" y="37558"/>
                </a:lnTo>
                <a:lnTo>
                  <a:pt x="20200" y="36158"/>
                </a:lnTo>
                <a:lnTo>
                  <a:pt x="20200" y="1400"/>
                </a:lnTo>
                <a:close/>
              </a:path>
              <a:path fill="darkenLess" w="21600" h="37558">
                <a:moveTo>
                  <a:pt x="21600" y="37558"/>
                </a:moveTo>
                <a:lnTo>
                  <a:pt x="0" y="37558"/>
                </a:lnTo>
                <a:lnTo>
                  <a:pt x="1400" y="36158"/>
                </a:lnTo>
                <a:lnTo>
                  <a:pt x="20200" y="36158"/>
                </a:lnTo>
                <a:close/>
              </a:path>
              <a:path fill="lighten" w="21600" h="37558">
                <a:moveTo>
                  <a:pt x="0" y="37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27640" y="2997360"/>
            <a:ext cx="289080" cy="502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558">
                <a:moveTo>
                  <a:pt x="0" y="0"/>
                </a:moveTo>
                <a:lnTo>
                  <a:pt x="21600" y="0"/>
                </a:lnTo>
                <a:lnTo>
                  <a:pt x="21600" y="37558"/>
                </a:lnTo>
                <a:lnTo>
                  <a:pt x="0" y="37558"/>
                </a:lnTo>
                <a:close/>
              </a:path>
              <a:path fill="lightenLess" w="21600" h="37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58">
                <a:moveTo>
                  <a:pt x="21600" y="0"/>
                </a:moveTo>
                <a:lnTo>
                  <a:pt x="21600" y="37558"/>
                </a:lnTo>
                <a:lnTo>
                  <a:pt x="20200" y="36158"/>
                </a:lnTo>
                <a:lnTo>
                  <a:pt x="20200" y="1400"/>
                </a:lnTo>
                <a:close/>
              </a:path>
              <a:path fill="darkenLess" w="21600" h="37558">
                <a:moveTo>
                  <a:pt x="21600" y="37558"/>
                </a:moveTo>
                <a:lnTo>
                  <a:pt x="0" y="37558"/>
                </a:lnTo>
                <a:lnTo>
                  <a:pt x="1400" y="36158"/>
                </a:lnTo>
                <a:lnTo>
                  <a:pt x="20200" y="36158"/>
                </a:lnTo>
                <a:close/>
              </a:path>
              <a:path fill="lighten" w="21600" h="37558">
                <a:moveTo>
                  <a:pt x="0" y="37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27640" y="371628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286600" y="260280"/>
            <a:ext cx="3643200" cy="459720"/>
            <a:chOff x="5286600" y="260280"/>
            <a:chExt cx="3643200" cy="459720"/>
          </a:xfrm>
        </p:grpSpPr>
        <p:sp>
          <p:nvSpPr>
            <p:cNvPr id="279" name=""/>
            <p:cNvSpPr/>
            <p:nvPr/>
          </p:nvSpPr>
          <p:spPr>
            <a:xfrm>
              <a:off x="5286600" y="260280"/>
              <a:ext cx="36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 АВС =   А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М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7885080" y="26028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733800" y="2602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"/>
          <p:cNvSpPr/>
          <p:nvPr/>
        </p:nvSpPr>
        <p:spPr>
          <a:xfrm>
            <a:off x="3918240" y="4941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68920" y="486900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59320" y="29242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92800" y="836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32760" y="83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84720" y="1268280"/>
            <a:ext cx="201456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учишь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7086800">
            <a:off x="3305160" y="324936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914800">
            <a:off x="3492000" y="2630520"/>
            <a:ext cx="13968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941720"/>
            <a:ext cx="71280" cy="14292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1052640"/>
            <a:ext cx="73080" cy="144360"/>
          </a:xfrm>
          <a:custGeom>
            <a:avLst/>
            <a:gdLst/>
            <a:ahLst/>
            <a:rect l="l" t="t" r="r" b="b"/>
            <a:pathLst>
              <a:path w="46" h="91">
                <a:moveTo>
                  <a:pt x="0" y="0"/>
                </a:moveTo>
                <a:cubicBezTo>
                  <a:pt x="19" y="38"/>
                  <a:pt x="38" y="76"/>
                  <a:pt x="46" y="9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43280" y="5734080"/>
            <a:ext cx="2448000" cy="792000"/>
          </a:xfrm>
          <a:prstGeom prst="wedgeRoundRectCallout">
            <a:avLst>
              <a:gd name="adj1" fmla="val 85925"/>
              <a:gd name="adj2" fmla="val -361421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remove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5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remove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7 2.77457E-006 L 0.15868 -0.29364 E">
                                      <p:cBhvr>
                                        <p:cTn id="160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H="1" rot="5400000">
            <a:off x="1799280" y="2097000"/>
            <a:ext cx="2952720" cy="3600360"/>
          </a:xfrm>
          <a:custGeom>
            <a:avLst/>
            <a:gdLst/>
            <a:ahLst/>
            <a:rect l="l" t="t" r="r" b="b"/>
            <a:pathLst>
              <a:path w="1860" h="2268">
                <a:moveTo>
                  <a:pt x="1860" y="408"/>
                </a:moveTo>
                <a:lnTo>
                  <a:pt x="181" y="0"/>
                </a:lnTo>
                <a:lnTo>
                  <a:pt x="0" y="2268"/>
                </a:lnTo>
                <a:lnTo>
                  <a:pt x="1860" y="408"/>
                </a:lnTo>
                <a:close/>
              </a:path>
            </a:pathLst>
          </a:custGeom>
          <a:solidFill>
            <a:srgbClr val="003366">
              <a:alpha val="76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76360" y="1773360"/>
            <a:ext cx="2952720" cy="3600360"/>
          </a:xfrm>
          <a:custGeom>
            <a:avLst/>
            <a:gdLst/>
            <a:ahLst/>
            <a:rect l="l" t="t" r="r" b="b"/>
            <a:pathLst>
              <a:path w="1860" h="2268">
                <a:moveTo>
                  <a:pt x="1860" y="408"/>
                </a:moveTo>
                <a:lnTo>
                  <a:pt x="181" y="0"/>
                </a:lnTo>
                <a:lnTo>
                  <a:pt x="0" y="2268"/>
                </a:lnTo>
                <a:lnTo>
                  <a:pt x="1860" y="408"/>
                </a:lnTo>
                <a:close/>
              </a:path>
            </a:pathLst>
          </a:custGeom>
          <a:solidFill>
            <a:srgbClr val="ff0000">
              <a:alpha val="76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7960" y="3284640"/>
            <a:ext cx="182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393228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27640" y="31417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27640" y="472428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9600" y="54936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 – биссектриса угла В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70600" y="5013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2000" y="198900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21200" y="1557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40040" y="5157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88000" y="2349360"/>
            <a:ext cx="201456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учишь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1557360"/>
            <a:ext cx="2448000" cy="792000"/>
          </a:xfrm>
          <a:prstGeom prst="wedgeRoundRectCallout">
            <a:avLst>
              <a:gd name="adj1" fmla="val -7004"/>
              <a:gd name="adj2" fmla="val 180259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129280" y="476280"/>
            <a:ext cx="3720960" cy="459720"/>
            <a:chOff x="5129280" y="476280"/>
            <a:chExt cx="3720960" cy="459720"/>
          </a:xfrm>
        </p:grpSpPr>
        <p:sp>
          <p:nvSpPr>
            <p:cNvPr id="311" name=""/>
            <p:cNvSpPr/>
            <p:nvPr/>
          </p:nvSpPr>
          <p:spPr>
            <a:xfrm>
              <a:off x="5129280" y="476280"/>
              <a:ext cx="37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 ВСМ =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СМ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40720" y="47628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6589440" y="4762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4" name=""/>
          <p:cNvSpPr/>
          <p:nvPr/>
        </p:nvSpPr>
        <p:spPr>
          <a:xfrm flipH="1" rot="5400000">
            <a:off x="502920" y="728640"/>
            <a:ext cx="2952720" cy="3600720"/>
          </a:xfrm>
          <a:custGeom>
            <a:avLst/>
            <a:gdLst/>
            <a:ahLst/>
            <a:rect l="l" t="t" r="r" b="b"/>
            <a:pathLst>
              <a:path w="1860" h="2268">
                <a:moveTo>
                  <a:pt x="1860" y="408"/>
                </a:moveTo>
                <a:lnTo>
                  <a:pt x="181" y="0"/>
                </a:lnTo>
                <a:lnTo>
                  <a:pt x="0" y="2268"/>
                </a:lnTo>
                <a:lnTo>
                  <a:pt x="1860" y="408"/>
                </a:lnTo>
                <a:close/>
              </a:path>
            </a:pathLst>
          </a:custGeom>
          <a:solidFill>
            <a:srgbClr val="ff0000">
              <a:alpha val="76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79840" y="3382920"/>
            <a:ext cx="884160" cy="690480"/>
          </a:xfrm>
          <a:custGeom>
            <a:avLst/>
            <a:gdLst/>
            <a:ahLst/>
            <a:rect l="l" t="t" r="r" b="b"/>
            <a:pathLst>
              <a:path w="557" h="435">
                <a:moveTo>
                  <a:pt x="557" y="74"/>
                </a:moveTo>
                <a:cubicBezTo>
                  <a:pt x="510" y="71"/>
                  <a:pt x="317" y="0"/>
                  <a:pt x="272" y="53"/>
                </a:cubicBezTo>
                <a:cubicBezTo>
                  <a:pt x="227" y="106"/>
                  <a:pt x="330" y="349"/>
                  <a:pt x="285" y="392"/>
                </a:cubicBezTo>
                <a:cubicBezTo>
                  <a:pt x="240" y="435"/>
                  <a:pt x="59" y="326"/>
                  <a:pt x="0" y="3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9640" y="5013360"/>
            <a:ext cx="144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549440" y="4473720"/>
            <a:ext cx="780840" cy="831600"/>
            <a:chOff x="1549440" y="4473720"/>
            <a:chExt cx="780840" cy="831600"/>
          </a:xfrm>
        </p:grpSpPr>
        <p:sp>
          <p:nvSpPr>
            <p:cNvPr id="318" name=""/>
            <p:cNvSpPr/>
            <p:nvPr/>
          </p:nvSpPr>
          <p:spPr>
            <a:xfrm>
              <a:off x="2050920" y="4797360"/>
              <a:ext cx="279360" cy="507960"/>
            </a:xfrm>
            <a:custGeom>
              <a:avLst/>
              <a:gdLst/>
              <a:ahLst/>
              <a:rect l="l" t="t" r="r" b="b"/>
              <a:pathLst>
                <a:path w="176" h="320">
                  <a:moveTo>
                    <a:pt x="0" y="0"/>
                  </a:moveTo>
                  <a:cubicBezTo>
                    <a:pt x="53" y="38"/>
                    <a:pt x="108" y="83"/>
                    <a:pt x="137" y="136"/>
                  </a:cubicBezTo>
                  <a:cubicBezTo>
                    <a:pt x="166" y="189"/>
                    <a:pt x="168" y="282"/>
                    <a:pt x="176" y="3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49440" y="4473720"/>
              <a:ext cx="501480" cy="304560"/>
            </a:xfrm>
            <a:custGeom>
              <a:avLst/>
              <a:gdLst/>
              <a:ahLst/>
              <a:rect l="l" t="t" r="r" b="b"/>
              <a:pathLst>
                <a:path w="316" h="192">
                  <a:moveTo>
                    <a:pt x="0" y="0"/>
                  </a:moveTo>
                  <a:cubicBezTo>
                    <a:pt x="31" y="7"/>
                    <a:pt x="127" y="12"/>
                    <a:pt x="180" y="44"/>
                  </a:cubicBezTo>
                  <a:cubicBezTo>
                    <a:pt x="233" y="76"/>
                    <a:pt x="288" y="161"/>
                    <a:pt x="316" y="19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0.14185 0.19954 E">
                                      <p:cBhvr>
                                        <p:cTn id="262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44720" y="1963800"/>
            <a:ext cx="2303640" cy="3384360"/>
          </a:xfrm>
          <a:prstGeom prst="rtTriangl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12720" y="1963800"/>
            <a:ext cx="2232000" cy="3384360"/>
          </a:xfrm>
          <a:prstGeom prst="rtTriangl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04000" y="2205000"/>
            <a:ext cx="1871640" cy="79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45080" y="33559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45080" y="4148280"/>
            <a:ext cx="289080" cy="502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558">
                <a:moveTo>
                  <a:pt x="0" y="0"/>
                </a:moveTo>
                <a:lnTo>
                  <a:pt x="21600" y="0"/>
                </a:lnTo>
                <a:lnTo>
                  <a:pt x="21600" y="37558"/>
                </a:lnTo>
                <a:lnTo>
                  <a:pt x="0" y="37558"/>
                </a:lnTo>
                <a:close/>
              </a:path>
              <a:path fill="lightenLess" w="21600" h="37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58">
                <a:moveTo>
                  <a:pt x="21600" y="0"/>
                </a:moveTo>
                <a:lnTo>
                  <a:pt x="21600" y="37558"/>
                </a:lnTo>
                <a:lnTo>
                  <a:pt x="20200" y="36158"/>
                </a:lnTo>
                <a:lnTo>
                  <a:pt x="20200" y="1400"/>
                </a:lnTo>
                <a:close/>
              </a:path>
              <a:path fill="darkenLess" w="21600" h="37558">
                <a:moveTo>
                  <a:pt x="21600" y="37558"/>
                </a:moveTo>
                <a:lnTo>
                  <a:pt x="0" y="37558"/>
                </a:lnTo>
                <a:lnTo>
                  <a:pt x="1400" y="36158"/>
                </a:lnTo>
                <a:lnTo>
                  <a:pt x="20200" y="36158"/>
                </a:lnTo>
                <a:close/>
              </a:path>
              <a:path fill="lighten" w="21600" h="37558">
                <a:moveTo>
                  <a:pt x="0" y="37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45080" y="494028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74120" y="3500280"/>
            <a:ext cx="182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8600" y="530064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897440" y="476280"/>
            <a:ext cx="3763440" cy="459720"/>
            <a:chOff x="4897440" y="476280"/>
            <a:chExt cx="3763440" cy="459720"/>
          </a:xfrm>
        </p:grpSpPr>
        <p:sp>
          <p:nvSpPr>
            <p:cNvPr id="331" name=""/>
            <p:cNvSpPr/>
            <p:nvPr/>
          </p:nvSpPr>
          <p:spPr>
            <a:xfrm>
              <a:off x="4897440" y="476280"/>
              <a:ext cx="376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АВК  =    С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B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6372000" y="476280"/>
                  <a:ext cx="3654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7738920" y="4762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4" name=""/>
          <p:cNvSpPr/>
          <p:nvPr/>
        </p:nvSpPr>
        <p:spPr>
          <a:xfrm>
            <a:off x="2547360" y="147960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99640" y="53672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45480" y="53211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08360" y="520380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916360" y="1963800"/>
            <a:ext cx="2232000" cy="3382920"/>
          </a:xfrm>
          <a:prstGeom prst="rtTriangle">
            <a:avLst/>
          </a:prstGeom>
          <a:solidFill>
            <a:srgbClr val="0099ff">
              <a:alpha val="71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5059440"/>
            <a:ext cx="0" cy="288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44720" y="5059440"/>
            <a:ext cx="287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556000" y="5059440"/>
            <a:ext cx="2887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52760" y="5048280"/>
            <a:ext cx="144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0"/>
                </a:moveTo>
                <a:lnTo>
                  <a:pt x="0" y="192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20720" y="520380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73440" y="3403440"/>
            <a:ext cx="216000" cy="505080"/>
          </a:xfrm>
          <a:custGeom>
            <a:avLst/>
            <a:gdLst/>
            <a:ahLst/>
            <a:rect l="l" t="t" r="r" b="b"/>
            <a:pathLst>
              <a:path w="144" h="499">
                <a:moveTo>
                  <a:pt x="8" y="0"/>
                </a:moveTo>
                <a:cubicBezTo>
                  <a:pt x="76" y="64"/>
                  <a:pt x="144" y="128"/>
                  <a:pt x="144" y="181"/>
                </a:cubicBezTo>
                <a:cubicBezTo>
                  <a:pt x="144" y="234"/>
                  <a:pt x="16" y="264"/>
                  <a:pt x="8" y="317"/>
                </a:cubicBezTo>
                <a:cubicBezTo>
                  <a:pt x="0" y="370"/>
                  <a:pt x="83" y="469"/>
                  <a:pt x="98" y="49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64000" y="1197000"/>
            <a:ext cx="2448000" cy="792000"/>
          </a:xfrm>
          <a:prstGeom prst="wedgeRoundRectCallout">
            <a:avLst>
              <a:gd name="adj1" fmla="val -6810"/>
              <a:gd name="adj2" fmla="val 243986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f89f7"/>
                                      </p:to>
                                    </p:animClr>
                                    <p:set>
                                      <p:cBhvr>
                                        <p:cTn id="281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752480" y="812880"/>
            <a:ext cx="3759480" cy="4444920"/>
          </a:xfrm>
          <a:custGeom>
            <a:avLst/>
            <a:gdLst/>
            <a:ahLst/>
            <a:rect l="l" t="t" r="r" b="b"/>
            <a:pathLst>
              <a:path w="2368" h="2800">
                <a:moveTo>
                  <a:pt x="1272" y="0"/>
                </a:moveTo>
                <a:lnTo>
                  <a:pt x="1096" y="2768"/>
                </a:lnTo>
                <a:lnTo>
                  <a:pt x="1064" y="2800"/>
                </a:lnTo>
                <a:lnTo>
                  <a:pt x="0" y="2168"/>
                </a:lnTo>
                <a:lnTo>
                  <a:pt x="2368" y="616"/>
                </a:lnTo>
                <a:lnTo>
                  <a:pt x="1272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35280" y="763560"/>
            <a:ext cx="1876680" cy="2300400"/>
          </a:xfrm>
          <a:custGeom>
            <a:avLst/>
            <a:gdLst/>
            <a:ahLst/>
            <a:rect l="l" t="t" r="r" b="b"/>
            <a:pathLst>
              <a:path w="1182" h="1449">
                <a:moveTo>
                  <a:pt x="79" y="0"/>
                </a:moveTo>
                <a:lnTo>
                  <a:pt x="1182" y="655"/>
                </a:lnTo>
                <a:lnTo>
                  <a:pt x="0" y="1449"/>
                </a:lnTo>
                <a:lnTo>
                  <a:pt x="79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84360" y="3573360"/>
            <a:ext cx="216000" cy="216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27960" y="2276640"/>
            <a:ext cx="182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27640" y="292428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27640" y="2276640"/>
            <a:ext cx="289080" cy="502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558">
                <a:moveTo>
                  <a:pt x="0" y="0"/>
                </a:moveTo>
                <a:lnTo>
                  <a:pt x="21600" y="0"/>
                </a:lnTo>
                <a:lnTo>
                  <a:pt x="21600" y="37558"/>
                </a:lnTo>
                <a:lnTo>
                  <a:pt x="0" y="37558"/>
                </a:lnTo>
                <a:close/>
              </a:path>
              <a:path fill="lightenLess" w="21600" h="37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58">
                <a:moveTo>
                  <a:pt x="21600" y="0"/>
                </a:moveTo>
                <a:lnTo>
                  <a:pt x="21600" y="37558"/>
                </a:lnTo>
                <a:lnTo>
                  <a:pt x="20200" y="36158"/>
                </a:lnTo>
                <a:lnTo>
                  <a:pt x="20200" y="1400"/>
                </a:lnTo>
                <a:close/>
              </a:path>
              <a:path fill="darkenLess" w="21600" h="37558">
                <a:moveTo>
                  <a:pt x="21600" y="37558"/>
                </a:moveTo>
                <a:lnTo>
                  <a:pt x="0" y="37558"/>
                </a:lnTo>
                <a:lnTo>
                  <a:pt x="1400" y="36158"/>
                </a:lnTo>
                <a:lnTo>
                  <a:pt x="20200" y="36158"/>
                </a:lnTo>
                <a:close/>
              </a:path>
              <a:path fill="lighten" w="21600" h="37558">
                <a:moveTo>
                  <a:pt x="0" y="37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27640" y="371628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86600" y="3333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зать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АВС =   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7885080" y="33336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732720" y="333360"/>
                <a:ext cx="36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3197520" y="5373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13280" y="407664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04040" y="299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56440" y="404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97920" y="148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84720" y="1268280"/>
            <a:ext cx="201456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учишь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rot="17163000">
            <a:off x="3679920" y="2670480"/>
            <a:ext cx="136440" cy="22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64000" y="5877000"/>
            <a:ext cx="2448000" cy="792000"/>
          </a:xfrm>
          <a:prstGeom prst="wedgeRoundRectCallout">
            <a:avLst>
              <a:gd name="adj1" fmla="val 56680"/>
              <a:gd name="adj2" fmla="val -467837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03280" y="836640"/>
            <a:ext cx="4464000" cy="4464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64000" y="1844640"/>
            <a:ext cx="287280" cy="71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2276640"/>
            <a:ext cx="215640" cy="215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64000" y="2924280"/>
            <a:ext cx="144360" cy="14292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4149720"/>
            <a:ext cx="287280" cy="7128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7486400">
            <a:off x="3393360" y="3178800"/>
            <a:ext cx="14436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765000"/>
            <a:ext cx="144360" cy="144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35640" y="1771560"/>
            <a:ext cx="144360" cy="144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4221000"/>
            <a:ext cx="144360" cy="144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19640" y="5229360"/>
            <a:ext cx="14436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4400" y="18900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– центр окружности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0092 L -0.20486 0.32615 E">
                                      <p:cBhvr>
                                        <p:cTn id="373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763640" y="1779480"/>
            <a:ext cx="2278080" cy="4302360"/>
          </a:xfrm>
          <a:custGeom>
            <a:avLst/>
            <a:gdLst/>
            <a:ahLst/>
            <a:rect l="l" t="t" r="r" b="b"/>
            <a:pathLst>
              <a:path w="1435" h="2710">
                <a:moveTo>
                  <a:pt x="1435" y="1049"/>
                </a:moveTo>
                <a:lnTo>
                  <a:pt x="200" y="0"/>
                </a:lnTo>
                <a:lnTo>
                  <a:pt x="0" y="2710"/>
                </a:lnTo>
                <a:lnTo>
                  <a:pt x="1435" y="1049"/>
                </a:lnTo>
                <a:close/>
              </a:path>
            </a:pathLst>
          </a:custGeom>
          <a:solidFill>
            <a:srgbClr val="0099ff">
              <a:alpha val="76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68320" y="3444840"/>
            <a:ext cx="4219560" cy="2648160"/>
          </a:xfrm>
          <a:custGeom>
            <a:avLst/>
            <a:gdLst/>
            <a:ahLst/>
            <a:rect l="l" t="t" r="r" b="b"/>
            <a:pathLst>
              <a:path w="2658" h="1668">
                <a:moveTo>
                  <a:pt x="1432" y="0"/>
                </a:moveTo>
                <a:lnTo>
                  <a:pt x="2658" y="1102"/>
                </a:lnTo>
                <a:lnTo>
                  <a:pt x="0" y="1668"/>
                </a:lnTo>
                <a:lnTo>
                  <a:pt x="1432" y="0"/>
                </a:lnTo>
                <a:close/>
              </a:path>
            </a:pathLst>
          </a:custGeom>
          <a:solidFill>
            <a:srgbClr val="cc00cc">
              <a:alpha val="76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26600" y="58975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18760" y="50324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64040" y="2944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1000" y="15764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2720" y="3068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32720" y="378936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32720" y="458136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88320" y="3141720"/>
            <a:ext cx="182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810320" y="404640"/>
            <a:ext cx="3847320" cy="459720"/>
            <a:chOff x="4810320" y="404640"/>
            <a:chExt cx="3847320" cy="459720"/>
          </a:xfrm>
        </p:grpSpPr>
        <p:sp>
          <p:nvSpPr>
            <p:cNvPr id="389" name=""/>
            <p:cNvSpPr/>
            <p:nvPr/>
          </p:nvSpPr>
          <p:spPr>
            <a:xfrm>
              <a:off x="4810320" y="404640"/>
              <a:ext cx="38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АВК  =    М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B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К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7667640" y="404640"/>
                  <a:ext cx="3646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6299280" y="404640"/>
                  <a:ext cx="3646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2" name=""/>
          <p:cNvSpPr/>
          <p:nvPr/>
        </p:nvSpPr>
        <p:spPr>
          <a:xfrm>
            <a:off x="6227640" y="1844640"/>
            <a:ext cx="1871640" cy="79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3716280"/>
            <a:ext cx="35892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80000" y="1484280"/>
            <a:ext cx="2447640" cy="792360"/>
          </a:xfrm>
          <a:prstGeom prst="wedgeRoundRectCallout">
            <a:avLst>
              <a:gd name="adj1" fmla="val 68416"/>
              <a:gd name="adj2" fmla="val 380861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4320" y="371628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7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м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69320" y="573408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д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320" y="33336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середина В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252360" y="1717560"/>
            <a:ext cx="4219560" cy="2648160"/>
          </a:xfrm>
          <a:custGeom>
            <a:avLst/>
            <a:gdLst/>
            <a:ahLst/>
            <a:rect l="l" t="t" r="r" b="b"/>
            <a:pathLst>
              <a:path w="2658" h="1668">
                <a:moveTo>
                  <a:pt x="1432" y="0"/>
                </a:moveTo>
                <a:lnTo>
                  <a:pt x="2658" y="1102"/>
                </a:lnTo>
                <a:lnTo>
                  <a:pt x="0" y="1668"/>
                </a:lnTo>
                <a:lnTo>
                  <a:pt x="1432" y="0"/>
                </a:lnTo>
                <a:close/>
              </a:path>
            </a:pathLst>
          </a:custGeom>
          <a:solidFill>
            <a:srgbClr val="cc00cc">
              <a:alpha val="76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925720" y="2495160"/>
            <a:ext cx="2147040" cy="1860120"/>
            <a:chOff x="2925720" y="2495160"/>
            <a:chExt cx="2147040" cy="1860120"/>
          </a:xfrm>
        </p:grpSpPr>
        <p:grpSp>
          <p:nvGrpSpPr>
            <p:cNvPr id="401" name=""/>
            <p:cNvGrpSpPr/>
            <p:nvPr/>
          </p:nvGrpSpPr>
          <p:grpSpPr>
            <a:xfrm>
              <a:off x="2925720" y="2495160"/>
              <a:ext cx="195120" cy="210240"/>
              <a:chOff x="2925720" y="2495160"/>
              <a:chExt cx="195120" cy="210240"/>
            </a:xfrm>
          </p:grpSpPr>
          <p:sp>
            <p:nvSpPr>
              <p:cNvPr id="402" name=""/>
              <p:cNvSpPr/>
              <p:nvPr/>
            </p:nvSpPr>
            <p:spPr>
              <a:xfrm flipH="1">
                <a:off x="2925720" y="2495160"/>
                <a:ext cx="141120" cy="16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979720" y="2541960"/>
                <a:ext cx="141120" cy="16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64680" y="4158360"/>
              <a:ext cx="208080" cy="196920"/>
              <a:chOff x="4864680" y="4158360"/>
              <a:chExt cx="208080" cy="196920"/>
            </a:xfrm>
          </p:grpSpPr>
          <p:sp>
            <p:nvSpPr>
              <p:cNvPr id="405" name=""/>
              <p:cNvSpPr/>
              <p:nvPr/>
            </p:nvSpPr>
            <p:spPr>
              <a:xfrm flipH="1">
                <a:off x="4864680" y="4158360"/>
                <a:ext cx="16020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4912200" y="4211280"/>
                <a:ext cx="16056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3995640" y="3429000"/>
            <a:ext cx="7164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961400">
            <a:off x="2987280" y="4292280"/>
            <a:ext cx="216000" cy="504720"/>
          </a:xfrm>
          <a:custGeom>
            <a:avLst/>
            <a:gdLst/>
            <a:ahLst/>
            <a:rect l="l" t="t" r="r" b="b"/>
            <a:pathLst>
              <a:path w="144" h="499">
                <a:moveTo>
                  <a:pt x="8" y="0"/>
                </a:moveTo>
                <a:cubicBezTo>
                  <a:pt x="76" y="64"/>
                  <a:pt x="144" y="128"/>
                  <a:pt x="144" y="181"/>
                </a:cubicBezTo>
                <a:cubicBezTo>
                  <a:pt x="144" y="234"/>
                  <a:pt x="16" y="264"/>
                  <a:pt x="8" y="317"/>
                </a:cubicBezTo>
                <a:cubicBezTo>
                  <a:pt x="0" y="370"/>
                  <a:pt x="83" y="469"/>
                  <a:pt x="98" y="49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95640" y="551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22049 0.25208 E">
                                      <p:cBhvr>
                                        <p:cTn id="488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984760" y="4413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4920" y="2757600"/>
            <a:ext cx="71640" cy="30240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7701600">
            <a:off x="345600" y="3309480"/>
            <a:ext cx="4416480" cy="1584360"/>
          </a:xfrm>
          <a:prstGeom prst="triangle">
            <a:avLst>
              <a:gd name="adj" fmla="val 44741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rot="13898400">
            <a:off x="1848960" y="3327120"/>
            <a:ext cx="4464000" cy="1584360"/>
          </a:xfrm>
          <a:prstGeom prst="triangle">
            <a:avLst>
              <a:gd name="adj" fmla="val 4427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7701600">
            <a:off x="2290320" y="3380760"/>
            <a:ext cx="4416480" cy="1584360"/>
          </a:xfrm>
          <a:prstGeom prst="triangle">
            <a:avLst>
              <a:gd name="adj" fmla="val 44231"/>
            </a:avLst>
          </a:prstGeom>
          <a:solidFill>
            <a:srgbClr val="0099ff">
              <a:alpha val="73000"/>
            </a:srgbClr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45400" y="3141720"/>
            <a:ext cx="182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45080" y="306864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45080" y="378936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45080" y="4508640"/>
            <a:ext cx="289080" cy="502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558">
                <a:moveTo>
                  <a:pt x="0" y="0"/>
                </a:moveTo>
                <a:lnTo>
                  <a:pt x="21600" y="0"/>
                </a:lnTo>
                <a:lnTo>
                  <a:pt x="21600" y="37558"/>
                </a:lnTo>
                <a:lnTo>
                  <a:pt x="0" y="37558"/>
                </a:lnTo>
                <a:close/>
              </a:path>
              <a:path fill="lightenLess" w="21600" h="37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58">
                <a:moveTo>
                  <a:pt x="21600" y="0"/>
                </a:moveTo>
                <a:lnTo>
                  <a:pt x="21600" y="37558"/>
                </a:lnTo>
                <a:lnTo>
                  <a:pt x="20200" y="36158"/>
                </a:lnTo>
                <a:lnTo>
                  <a:pt x="20200" y="1400"/>
                </a:lnTo>
                <a:close/>
              </a:path>
              <a:path fill="darkenLess" w="21600" h="37558">
                <a:moveTo>
                  <a:pt x="21600" y="37558"/>
                </a:moveTo>
                <a:lnTo>
                  <a:pt x="0" y="37558"/>
                </a:lnTo>
                <a:lnTo>
                  <a:pt x="1400" y="36158"/>
                </a:lnTo>
                <a:lnTo>
                  <a:pt x="20200" y="36158"/>
                </a:lnTo>
                <a:close/>
              </a:path>
              <a:path fill="lighten" w="21600" h="37558">
                <a:moveTo>
                  <a:pt x="0" y="37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56360" y="206064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 rot="13206000">
            <a:off x="3044160" y="4145760"/>
            <a:ext cx="149040" cy="3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 rot="19357200">
            <a:off x="3411720" y="4126680"/>
            <a:ext cx="146160" cy="36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 rot="7081800">
            <a:off x="2976840" y="2262240"/>
            <a:ext cx="21600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 flipV="1" rot="3903000">
            <a:off x="3409560" y="2261160"/>
            <a:ext cx="21600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03640" y="2973240"/>
            <a:ext cx="216000" cy="503280"/>
          </a:xfrm>
          <a:custGeom>
            <a:avLst/>
            <a:gdLst/>
            <a:ahLst/>
            <a:rect l="l" t="t" r="r" b="b"/>
            <a:pathLst>
              <a:path w="189" h="454">
                <a:moveTo>
                  <a:pt x="8" y="0"/>
                </a:moveTo>
                <a:cubicBezTo>
                  <a:pt x="76" y="19"/>
                  <a:pt x="144" y="38"/>
                  <a:pt x="144" y="91"/>
                </a:cubicBezTo>
                <a:cubicBezTo>
                  <a:pt x="144" y="144"/>
                  <a:pt x="0" y="257"/>
                  <a:pt x="8" y="317"/>
                </a:cubicBezTo>
                <a:cubicBezTo>
                  <a:pt x="16" y="377"/>
                  <a:pt x="159" y="431"/>
                  <a:pt x="189" y="45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37920" y="140796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5520" y="529740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53006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8728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00" y="476280"/>
            <a:ext cx="44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биссектриса угла АВО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32360" y="1052640"/>
            <a:ext cx="2448000" cy="792000"/>
          </a:xfrm>
          <a:prstGeom prst="wedgeRoundRectCallout">
            <a:avLst>
              <a:gd name="adj1" fmla="val 108819"/>
              <a:gd name="adj2" fmla="val 333768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53320" y="5297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875480" y="85680"/>
            <a:ext cx="3974040" cy="825480"/>
            <a:chOff x="4875480" y="85680"/>
            <a:chExt cx="3974040" cy="825480"/>
          </a:xfrm>
        </p:grpSpPr>
        <p:sp>
          <p:nvSpPr>
            <p:cNvPr id="435" name=""/>
            <p:cNvSpPr/>
            <p:nvPr/>
          </p:nvSpPr>
          <p:spPr>
            <a:xfrm>
              <a:off x="4875480" y="85680"/>
              <a:ext cx="397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  АВС =     ОВС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6508800" y="4330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877160" y="4330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11111E-006 1.15607E-006 L -0.21267 -0.00694 E">
                                      <p:cBhvr>
                                        <p:cTn id="54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24000" y="1197000"/>
            <a:ext cx="5256360" cy="51116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rot="7845000">
            <a:off x="2133360" y="2410560"/>
            <a:ext cx="3960720" cy="1676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3807200">
            <a:off x="3429360" y="2409840"/>
            <a:ext cx="3961080" cy="1676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0920" y="3213000"/>
            <a:ext cx="1871640" cy="79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795640" y="2349360"/>
            <a:ext cx="14436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56360" y="3789360"/>
            <a:ext cx="0" cy="360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84720" y="3789360"/>
            <a:ext cx="0" cy="360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3818" y="3794"/>
                </a:moveTo>
                <a:lnTo>
                  <a:pt x="17830" y="10800"/>
                </a:lnTo>
                <a:lnTo>
                  <a:pt x="3818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56640" y="4437000"/>
            <a:ext cx="154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ризнак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4000" y="436572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4000" y="501336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566100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3807200">
            <a:off x="3429360" y="2409840"/>
            <a:ext cx="3961080" cy="167652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rot="7845000">
            <a:off x="2133360" y="2410560"/>
            <a:ext cx="3960720" cy="1676160"/>
          </a:xfrm>
          <a:prstGeom prst="triangle">
            <a:avLst>
              <a:gd name="adj" fmla="val 50000"/>
            </a:avLst>
          </a:prstGeom>
          <a:solidFill>
            <a:srgbClr val="ffff00">
              <a:alpha val="61000"/>
            </a:srgbClr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64000" y="2421000"/>
            <a:ext cx="21600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92360" y="3860640"/>
            <a:ext cx="0" cy="287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9640" y="3860640"/>
            <a:ext cx="0" cy="287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2060640"/>
            <a:ext cx="287280" cy="1008000"/>
          </a:xfrm>
          <a:custGeom>
            <a:avLst/>
            <a:gdLst/>
            <a:ahLst/>
            <a:rect l="l" t="t" r="r" b="b"/>
            <a:pathLst>
              <a:path w="181" h="635">
                <a:moveTo>
                  <a:pt x="0" y="0"/>
                </a:moveTo>
                <a:cubicBezTo>
                  <a:pt x="90" y="57"/>
                  <a:pt x="181" y="114"/>
                  <a:pt x="181" y="182"/>
                </a:cubicBezTo>
                <a:cubicBezTo>
                  <a:pt x="181" y="250"/>
                  <a:pt x="0" y="333"/>
                  <a:pt x="0" y="408"/>
                </a:cubicBezTo>
                <a:cubicBezTo>
                  <a:pt x="0" y="483"/>
                  <a:pt x="151" y="597"/>
                  <a:pt x="181" y="635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16360" y="3716280"/>
            <a:ext cx="142920" cy="1443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6000" y="4869000"/>
            <a:ext cx="2448000" cy="792000"/>
          </a:xfrm>
          <a:prstGeom prst="wedgeRoundRectCallout">
            <a:avLst>
              <a:gd name="adj1" fmla="val -159337"/>
              <a:gd name="adj2" fmla="val 115328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81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000" y="76500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77480" y="41497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60480" y="386064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42040" y="400536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786920" y="189000"/>
            <a:ext cx="3862800" cy="459720"/>
            <a:chOff x="4786920" y="189000"/>
            <a:chExt cx="3862800" cy="459720"/>
          </a:xfrm>
        </p:grpSpPr>
        <p:sp>
          <p:nvSpPr>
            <p:cNvPr id="464" name=""/>
            <p:cNvSpPr/>
            <p:nvPr/>
          </p:nvSpPr>
          <p:spPr>
            <a:xfrm>
              <a:off x="4786920" y="189000"/>
              <a:ext cx="386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МВО  =   СВО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7667640" y="189000"/>
                  <a:ext cx="3646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6299280" y="189000"/>
                  <a:ext cx="3646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86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000"/>
                            </p:stCondLst>
                            <p:childTnLst>
                              <p:par>
                                <p:cTn id="70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7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CLASSIC</cp:lastModifiedBy>
  <dcterms:modified xsi:type="dcterms:W3CDTF">2015-01-17T19:40:40Z</dcterms:modified>
  <cp:revision>86</cp:revision>
  <dc:subject/>
  <dc:title>Презентация PowerPoint</dc:title>
</cp:coreProperties>
</file>