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024-FDFB-458B-997E-330475013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4B8-CEC1-49D9-B843-0541CAA6A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331-D452-4A11-8BA6-9DB5464F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8A9-CF4F-4B61-8977-D9215BA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C1B-94E8-4B5D-9983-8A7CCA91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733-18F5-44C9-A183-AF1ABB59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70B-5A95-4B9F-A1E9-C4FEDCB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BAA-BF78-4EFE-8776-7E406651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293-F8EA-4955-BDB2-306460A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E1B-C346-4E2E-A4EC-C6D7993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5FC-A6B3-4A76-8749-BD808D12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C55-7EE5-426D-8B17-CD526FA2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CCB-E274-45CC-A99C-58B71B03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950-07C4-4729-B0FC-C2E60E0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B4E0-D092-47AD-8AC6-C88DBDB64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otoblogs.ru/4369-eshhe_odni_pozitivnye_raboty_happy_fatherss_day/13-foto/600" TargetMode="External"/><Relationship Id="rId3" Type="http://schemas.openxmlformats.org/officeDocument/2006/relationships/hyperlink" Target="http://photoblogs.ru/4369-eshhe_odni_pozitivnye_raboty_happy_fatherss_day/13-foto/600" TargetMode="External"/><Relationship Id="rId4" Type="http://schemas.openxmlformats.org/officeDocument/2006/relationships/hyperlink" Target="http://photoblogs.ru/4369-eshhe_odni_pozitivnye_raboty_happy_fatherss_day/13-foto/600" TargetMode="External"/><Relationship Id="rId5" Type="http://schemas.openxmlformats.org/officeDocument/2006/relationships/hyperlink" Target="http://photoblogs.ru/4369-eshhe_odni_pozitivnye_raboty_happy_fatherss_day/13-foto/600" TargetMode="External"/><Relationship Id="rId6" Type="http://schemas.openxmlformats.org/officeDocument/2006/relationships/hyperlink" Target="http://photoblogs.ru/4369-eshhe_odni_pozitivnye_raboty_happy_fatherss_day/13-foto/600" TargetMode="External"/><Relationship Id="rId7" Type="http://schemas.openxmlformats.org/officeDocument/2006/relationships/hyperlink" Target="http://photoblogs.ru/4369-eshhe_odni_pozitivnye_raboty_happy_fatherss_day/13-foto/600" TargetMode="External"/><Relationship Id="rId8" Type="http://schemas.openxmlformats.org/officeDocument/2006/relationships/hyperlink" Target="http://photoblogs.ru/4369-eshhe_odni_pozitivnye_raboty_happy_fatherss_day/13-foto/600" TargetMode="External"/><Relationship Id="rId9" Type="http://schemas.openxmlformats.org/officeDocument/2006/relationships/hyperlink" Target="http://photoblogs.ru/4369-eshhe_odni_pozitivnye_raboty_happy_fatherss_day/13-foto/600" TargetMode="External"/><Relationship Id="rId10" Type="http://schemas.openxmlformats.org/officeDocument/2006/relationships/hyperlink" Target="http://photoblogs.ru/4369-eshhe_odni_pozitivnye_raboty_happy_fatherss_day/13-foto/600" TargetMode="External"/><Relationship Id="rId11" Type="http://schemas.openxmlformats.org/officeDocument/2006/relationships/hyperlink" Target="http://photoblogs.ru/4369-eshhe_odni_pozitivnye_raboty_happy_fatherss_day/13-foto/600" TargetMode="External"/><Relationship Id="rId12" Type="http://schemas.openxmlformats.org/officeDocument/2006/relationships/hyperlink" Target="http://photoblogs.ru/4369-eshhe_odni_pozitivnye_raboty_happy_fatherss_day/13-foto/600" TargetMode="External"/><Relationship Id="rId13" Type="http://schemas.openxmlformats.org/officeDocument/2006/relationships/hyperlink" Target="http://photoblogs.ru/4369-eshhe_odni_pozitivnye_raboty_happy_fatherss_day/13-foto/600" TargetMode="External"/><Relationship Id="rId14" Type="http://schemas.openxmlformats.org/officeDocument/2006/relationships/hyperlink" Target="http://photoblogs.ru/4369-eshhe_odni_pozitivnye_raboty_happy_fatherss_day/13-foto/600" TargetMode="External"/><Relationship Id="rId15" Type="http://schemas.openxmlformats.org/officeDocument/2006/relationships/hyperlink" Target="http://photoblogs.ru/4369-eshhe_odni_pozitivnye_raboty_happy_fatherss_day/13-foto/600" TargetMode="External"/><Relationship Id="rId16" Type="http://schemas.openxmlformats.org/officeDocument/2006/relationships/hyperlink" Target="http://photoblogs.ru/4369-eshhe_odni_pozitivnye_raboty_happy_fatherss_day/13-foto/600" TargetMode="External"/><Relationship Id="rId17" Type="http://schemas.openxmlformats.org/officeDocument/2006/relationships/hyperlink" Target="http://photoblogs.ru/4369-eshhe_odni_pozitivnye_raboty_happy_fatherss_day/13-foto/600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-18108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1000" y="1547640"/>
            <a:ext cx="511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</a:t>
            </a:r>
            <a:r>
              <a:rPr b="1" lang="ru-RU" sz="1200" spc="-1" strike="noStrike">
                <a:solidFill>
                  <a:srgbClr val="0000ff"/>
                </a:solidFill>
                <a:latin typeface="Cambria"/>
              </a:rPr>
              <a:t>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mbria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mbria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92280" y="6876720"/>
            <a:ext cx="52336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Воспитатель Ельшова Екатерина Владими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1"/>
          <p:cNvSpPr/>
          <p:nvPr/>
        </p:nvSpPr>
        <p:spPr>
          <a:xfrm>
            <a:off x="620640" y="3924360"/>
            <a:ext cx="576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0d0d"/>
                </a:solidFill>
                <a:latin typeface="Calibri"/>
              </a:rPr>
              <a:t>«Лето в </a:t>
            </a:r>
            <a:r>
              <a:rPr b="1" i="1" lang="ru-RU" sz="2800" spc="-1" strike="noStrike">
                <a:solidFill>
                  <a:srgbClr val="b30d0d"/>
                </a:solidFill>
                <a:latin typeface="Arial"/>
              </a:rPr>
              <a:t>з</a:t>
            </a:r>
            <a:r>
              <a:rPr b="1" i="1" lang="ru-RU" sz="2800" spc="-1" strike="noStrike">
                <a:solidFill>
                  <a:srgbClr val="b30d0d"/>
                </a:solidFill>
                <a:latin typeface="Calibri"/>
              </a:rPr>
              <a:t>агадках»</a:t>
            </a:r>
            <a:br>
              <a:rPr sz="2800"/>
            </a:br>
            <a:r>
              <a:rPr b="1" i="1" lang="ru-RU" sz="1600" spc="-1" strike="noStrike">
                <a:solidFill>
                  <a:srgbClr val="b30d0d"/>
                </a:solidFill>
                <a:latin typeface="Arial"/>
              </a:rPr>
              <a:t>(д</a:t>
            </a:r>
            <a:r>
              <a:rPr b="1" i="1" lang="ru-RU" sz="1600" spc="-1" strike="noStrike">
                <a:solidFill>
                  <a:srgbClr val="b30d0d"/>
                </a:solidFill>
                <a:latin typeface="Calibri"/>
              </a:rPr>
              <a:t>идактическое пособ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30d0d"/>
                </a:solidFill>
                <a:latin typeface="Calibri"/>
              </a:rPr>
              <a:t>для детей дошкольного возраста</a:t>
            </a:r>
            <a:r>
              <a:rPr b="1" i="1" lang="ru-RU" sz="1600" spc="-1" strike="noStrike">
                <a:solidFill>
                  <a:srgbClr val="b30d0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80640" y="-360"/>
            <a:ext cx="4969080" cy="68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ЗА ВНИМАНИЕ!!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44280" y="1692360"/>
            <a:ext cx="543708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писок использованных интернет – ресурсов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photoblog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6"/>
              </a:rPr>
              <a:t>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7"/>
              </a:rPr>
              <a:t>/4369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8"/>
              </a:rPr>
              <a:t>eshh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9"/>
              </a:rPr>
              <a:t>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10"/>
              </a:rPr>
              <a:t>odn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11"/>
              </a:rPr>
              <a:t>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12"/>
              </a:rPr>
              <a:t>pozitivny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13"/>
              </a:rPr>
              <a:t>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14"/>
              </a:rPr>
              <a:t>raboty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15"/>
              </a:rPr>
              <a:t>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mbria"/>
                <a:hlinkClick r:id="rId16"/>
              </a:rPr>
              <a:t>happy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mbria"/>
                <a:hlinkClick r:id="rId17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atherss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day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/13-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to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/600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http://gov.cap.ru/SiteMap.aspx?gov_id=344&amp;id=1378833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http://allforchildren.ru/pictures/showimg/happychwp/happychildhood05jpg.htm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http://www.bglife.ru/threads/5252/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http://kumertau4shkola.ucoz.ru/publ/1-1-0-43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http://fotoyoghurt.ucoz.net/news/2010-06-28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1692000"/>
            <a:ext cx="58291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ЛЕТО В ЗАГАДКАХ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595520" y="3924360"/>
            <a:ext cx="3598920" cy="270036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0280" y="1547280"/>
            <a:ext cx="59389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тепла для вас не жалко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юга я пришло с жарой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есло цветы, рыбалку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аров звенящий рой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янику в кузовке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купание в реке.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Лето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773360" y="4284720"/>
            <a:ext cx="3671640" cy="269856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52280" y="1332000"/>
            <a:ext cx="5040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брое, хорошее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людей глядит,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людям на себя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ядеть не велит.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олнце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1996920" y="4500720"/>
            <a:ext cx="3035520" cy="292392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31680" y="157320"/>
            <a:ext cx="6858000" cy="932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41040" y="755640"/>
            <a:ext cx="50403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пути и без дороги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ит самый длинноногий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учах прячется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мгле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ноги на земле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ждь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773360" y="4140360"/>
            <a:ext cx="3635280" cy="272880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7800" y="178920"/>
            <a:ext cx="540072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извилистой дорожки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ёт солнышко на ножке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дозреет солнышко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ет горстка зёрнышек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дсолнух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711440" y="4140360"/>
            <a:ext cx="3598920" cy="270000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179280"/>
            <a:ext cx="6858000" cy="9325080"/>
          </a:xfrm>
          <a:prstGeom prst="rect">
            <a:avLst/>
          </a:prstGeom>
          <a:ln w="9360">
            <a:solidFill>
              <a:srgbClr val="215968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25360" y="1692360"/>
            <a:ext cx="46072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ждик с Солнцем смастерил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ст высокий без перил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чудесного мост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му миру красота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адуга)</a:t>
            </a:r>
            <a:br>
              <a:rPr sz="2400"/>
            </a:b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00280" y="4284720"/>
            <a:ext cx="3600360" cy="269856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2700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52280" y="1099800"/>
            <a:ext cx="5040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евелились у цветк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четыре лепестка.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сорвать его хотел,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он вспорхнул и улетел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бочка)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1773360" y="4140360"/>
            <a:ext cx="3598920" cy="270000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Tolik\AppData\Local\Microsoft\Windows\Temporary Internet Files\Content.IE5\SJVW72ZD\MC900445073[1].jpg"/>
          <p:cNvPicPr/>
          <p:nvPr/>
        </p:nvPicPr>
        <p:blipFill>
          <a:blip r:embed="rId1"/>
          <a:stretch/>
        </p:blipFill>
        <p:spPr>
          <a:xfrm>
            <a:off x="0" y="-17640"/>
            <a:ext cx="6858000" cy="932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2280" y="826560"/>
            <a:ext cx="504036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еленой хрупкой ножке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ос шарик у дорожки.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терочек прошуршал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развеял этот шар.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дуванчик)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773360" y="4022640"/>
            <a:ext cx="3598920" cy="2700360"/>
          </a:xfrm>
          <a:prstGeom prst="rect">
            <a:avLst/>
          </a:prstGeom>
          <a:ln w="31680">
            <a:solidFill>
              <a:srgbClr val="215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6:09:57Z</dcterms:created>
  <dc:creator>Tolik</dc:creator>
  <dc:description/>
  <dc:language>en-US</dc:language>
  <cp:lastModifiedBy>Наталья Николаевна</cp:lastModifiedBy>
  <dcterms:modified xsi:type="dcterms:W3CDTF">2019-12-26T10:57:36Z</dcterms:modified>
  <cp:revision>52</cp:revision>
  <dc:subject/>
  <dc:title>Слайд 1</dc:title>
</cp:coreProperties>
</file>