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14.jpeg" ContentType="image/jpeg"/>
  <Override PartName="/ppt/media/image11.jpeg" ContentType="image/jpeg"/>
  <Override PartName="/ppt/media/image36.jpeg" ContentType="image/jpeg"/>
  <Override PartName="/ppt/media/image30.jpeg" ContentType="image/jpeg"/>
  <Override PartName="/ppt/media/image8.png" ContentType="image/png"/>
  <Override PartName="/ppt/media/image39.jpeg" ContentType="image/jpeg"/>
  <Override PartName="/ppt/media/image33.jpeg" ContentType="image/jpeg"/>
  <Override PartName="/ppt/media/image27.jpeg" ContentType="image/jpeg"/>
  <Override PartName="/ppt/media/image37.jpeg" ContentType="image/jpeg"/>
  <Override PartName="/ppt/media/image32.jpeg" ContentType="image/jpeg"/>
  <Override PartName="/ppt/media/image38.jpeg" ContentType="image/jpeg"/>
  <Override PartName="/ppt/media/image31.jpeg" ContentType="image/jpeg"/>
  <Override PartName="/ppt/media/image25.jpeg" ContentType="image/jpeg"/>
  <Override PartName="/ppt/media/image2.png" ContentType="image/png"/>
  <Override PartName="/ppt/media/image41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6.png" ContentType="image/pn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79EA-AF65-45E7-AFC3-8E2E92D0A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8F9D-C60C-4247-9E43-49A63886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862ED6-4A5B-4F37-96E2-CD92E077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AEA2F0-F251-409D-9B38-DCAC368D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ACC7CB-13D3-4D4D-B88E-2063FB3B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756D40-52E3-4454-A1B2-9D023C00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3455E8-194F-43ED-8166-77062A75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D85C54-1C71-41F5-8C10-71AE501D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79E24C-9C13-4ACA-B05B-23175702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5A96DD-5ABE-433E-AB0E-31332E256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4C5E71-8C3D-4593-A09B-FA857903C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682759-4B3F-429F-A22A-E9F805482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02AC-A49A-4D4B-8704-C973539C0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5ADE20-ECDB-4BB6-BF8A-C4DD8E37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358E24-0B86-4335-A7E7-19291813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987C54-8A6B-43BC-9349-78DCC512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EBBC11-3DEC-4BCE-8F9B-10F1D6BD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0485A4-4D0B-4CE1-85B0-EA156F47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90474D-4568-424D-B17A-4F90CB77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95D057-8FF6-453B-A74B-9B3D6C04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541AFB-081B-4C29-9572-27BF3C0E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1343F1-F1A4-42E6-8C05-5208ACAD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00FA66-A542-49F4-9A1C-1D601F3E3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8ADE-EEEB-448C-8D62-E888F5F54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786DB8-47F4-42CA-93E4-49DBEBD66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E7B131-390C-48A5-A7B9-5E7A6311D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691D1-1190-41D6-A9ED-1FCF8546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84407-E4B6-4A3B-A9C2-12706BD5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212EBB-5D05-42C0-AB11-18497148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B08EC7-DE28-435B-9CC5-0717B712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AEEE87-CE59-4B56-A64C-EAA4F1C0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EDA71B-FFC7-40C0-8A86-0FC46B5B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1F15A-916B-469A-8AEF-3F134537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41D85-CFD0-4123-8D83-1738BE32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2BAE-FF95-4894-9A1E-34F84B19A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11C394-F17C-4B5B-8482-9D284B19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D7C1AE-ADED-4AF8-9846-DB960059B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C3FF2-8DD8-4441-9E29-A5F2DA1E8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9F19-CBD3-47BD-BCF4-7CECEB1A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D2DF-8C62-4665-B8A7-888409E5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47FD-FBF6-4323-8198-3E6A4320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6C1A-A160-47C0-B683-A28D1F53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D0C61-5BA0-4C6A-AA27-C8AB669B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2AD6-C3E1-4574-BF9E-56FBFB5B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AF2B-E4F3-4EBC-ACE4-B0B5D736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117E-FA2F-4EFC-AF76-15803531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0953-A75F-4227-8EA3-BBFC0866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F64EB-5C90-4E31-B4F3-917B0D7C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05D5-5257-4652-A89A-97241EDD6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C8FB7-2BC0-49D8-AC55-7B386F168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31CEF-89FC-4DBA-B103-470BC578D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29061-162F-41E1-AEC7-C689C706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38843-7129-48C7-8947-0A0E7EF7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FBD67-8C1A-4F3A-9C8B-8D491DF5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5B493-CB53-450C-BE64-F764137A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1F53-961E-4864-B968-42D73A9A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109E2-A83A-445B-9C09-7718CC98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26C32-DD2C-40CC-B627-5CE17814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F222B-693F-4F45-9174-DC6E5FCF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7F63A-B152-451C-A88D-BE646C00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0222D-F9D5-442B-B816-F63846F3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F8D86-2838-4A94-AFE5-B03CF0640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F9932-B23C-4FBA-B9B1-8CD740886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2EF64-D48E-481B-AB36-3D4B7515A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A52D0-A281-4B71-96FA-FD863B9E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AC927-47EB-4BA3-B811-6DCF96CA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3D39-AF60-4D85-9D62-3B01C11F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96B06-9E4D-4254-82B6-88C5E00D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1F296-208F-4498-999A-13E29240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5336F-10E2-4F2A-ABEB-349D5ED9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AEFDE-CFD0-4C8E-99D1-52FBDA7B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CFDB8-D565-4621-B58A-B6397CDE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6C756-F16A-4BA0-BB81-C869E976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093F5-1410-49A7-8A14-52BE5DB3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C9E83-42D3-403A-A22B-AE1218D41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0A827-D83B-4562-BD1A-2705ADBD7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4D60E-8EEE-415B-B0EA-A5CB62C49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8740-9072-40D5-8F6C-6B5836FC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CD5B4-98A4-4473-9394-1167945D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E66B1-C4AB-42E0-A3E7-BEB16861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E817D-B517-48C8-832A-6BA6CB67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224D4-015E-47F4-BCA1-4E7DDE68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861F4-661A-44BF-8A1C-E8B896A6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7635E-028D-4BD7-9526-250B720C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B6793-EC8E-48C8-BFF3-B1C8DA96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447C1-096C-468A-878D-F10B2766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BC432-BC03-4FB5-A8C1-F3663760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8B2FE-42FA-4DC6-9B9F-8A1B04498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7D35-9E4D-452C-A989-6AD00D37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206B5-BBBC-460F-B05C-9BF466C67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C9E01-38CF-4C16-96CB-150D44C81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97CC2-E0B4-40E6-A101-A93CA8F3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DB2E0-F1BB-4066-9F15-CBCFD8DF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DF048-A6B7-49CC-8587-26143423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97282-D68F-402E-951D-2D396865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3C5DC-4484-4C4E-931C-84BF29E2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C36BA-DD14-447F-A2E1-1145B9AD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3F804-B160-4A02-8E8A-3BBD1EE5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63888-5475-45F7-8281-BCFD52CA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B9EF-32CF-4A1A-8A99-E0B44E6A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FA7A9-49C6-479F-949B-8F767C7F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625AA-91ED-4229-9BAB-FBC09E7F5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F8625-682C-4AC4-842E-3424F5C1F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7B08A-0BEB-4024-99C4-E2FB1B5BF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90ECA-2BA2-4EB8-9268-46163740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1128A-7B8E-4A66-A134-7F62EC64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5447C-CD14-49F1-9A21-6788045F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C35BC-E465-4973-867F-7CF60106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6F51E-6ACC-42F4-869B-34023301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48152-9A99-41CD-8C07-261BAA67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D422-34E4-4B39-A46F-A8107AAC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77340-4AA8-4E5C-AD53-09530AEB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B6341-D480-434C-8BD7-6B53F18D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1915F-0438-4766-87E7-5E7C8F8E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69E67-6F66-4CAA-86B6-8F64D57CB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E1889-48C8-4B0F-A3D5-2A39319A7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35BD3-CAB0-48DB-BAA2-42FEA8901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C3DCF-E58E-402B-A5E9-E534A341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AD586-AC09-4B7E-91D8-6EFD300B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19B4B-6F4E-4BDC-9EE5-A0C464FF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F99F0-5F86-49B4-8517-6C2EED98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5F76-0CDA-48AD-A859-2D182FFA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4692A-A12D-4F06-87CF-5F1369A0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268247-4557-4FDF-9563-201C2C5A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941BB-DDD7-4BFE-8556-9FCB7D1A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338CB-D8BF-4CB1-8511-6D58810D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E20FC-451C-4CD7-8900-1F126383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903D7-39F1-4C2D-9632-FBB8AA0FE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9A1AB-8FCB-4C09-B79D-9B05CEACD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CD0C8D-7ACC-45DB-AC3F-C317D5194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470013-565C-47EF-98E9-7BA0F55A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8E73D3-2C55-44B8-8336-47E02D30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72766970_1301397954_9b92bd227178.png"/>
          <p:cNvPicPr/>
          <p:nvPr/>
        </p:nvPicPr>
        <p:blipFill>
          <a:blip r:embed="rId2"/>
          <a:stretch/>
        </p:blipFill>
        <p:spPr>
          <a:xfrm>
            <a:off x="-12600" y="-34920"/>
            <a:ext cx="9775800" cy="6918480"/>
          </a:xfrm>
          <a:prstGeom prst="rect">
            <a:avLst/>
          </a:prstGeom>
          <a:ln w="0">
            <a:noFill/>
          </a:ln>
        </p:spPr>
      </p:pic>
      <p:grpSp>
        <p:nvGrpSpPr>
          <p:cNvPr id="1" name="Группа 16"/>
          <p:cNvGrpSpPr/>
          <p:nvPr/>
        </p:nvGrpSpPr>
        <p:grpSpPr>
          <a:xfrm>
            <a:off x="4555080" y="1226160"/>
            <a:ext cx="5934600" cy="5631480"/>
            <a:chOff x="4555080" y="1226160"/>
            <a:chExt cx="5934600" cy="5631480"/>
          </a:xfrm>
        </p:grpSpPr>
        <p:pic>
          <p:nvPicPr>
            <p:cNvPr id="2" name="Рисунок 8" descr="80326048_large_kTs_Jardin_orchidees23.png"/>
            <p:cNvPicPr/>
            <p:nvPr/>
          </p:nvPicPr>
          <p:blipFill>
            <a:blip r:embed="rId3"/>
            <a:stretch/>
          </p:blipFill>
          <p:spPr>
            <a:xfrm rot="1517400">
              <a:off x="5985720" y="1833120"/>
              <a:ext cx="3786480" cy="420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Рисунок 9" descr="80326049_large_kTs_Jardin_orchidees21.png"/>
            <p:cNvPicPr/>
            <p:nvPr/>
          </p:nvPicPr>
          <p:blipFill>
            <a:blip r:embed="rId4"/>
            <a:stretch/>
          </p:blipFill>
          <p:spPr>
            <a:xfrm flipH="1" rot="1601400">
              <a:off x="4960440" y="3052800"/>
              <a:ext cx="3777840" cy="270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Рисунок 10" descr="80326054_large_kTs_Jardin_orchidees12.png"/>
            <p:cNvPicPr/>
            <p:nvPr/>
          </p:nvPicPr>
          <p:blipFill>
            <a:blip r:embed="rId5"/>
            <a:stretch/>
          </p:blipFill>
          <p:spPr>
            <a:xfrm rot="766200">
              <a:off x="7571160" y="3809880"/>
              <a:ext cx="1786320" cy="257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Рисунок 11" descr="80326052_large_kTs_Jardin_orchidees13.png"/>
            <p:cNvPicPr/>
            <p:nvPr/>
          </p:nvPicPr>
          <p:blipFill>
            <a:blip r:embed="rId6"/>
            <a:stretch/>
          </p:blipFill>
          <p:spPr>
            <a:xfrm rot="19717200">
              <a:off x="6221160" y="3901680"/>
              <a:ext cx="1784160" cy="268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Рисунок 12" descr="80326053_large_kTs_Jardin_orchidees11.png"/>
            <p:cNvPicPr/>
            <p:nvPr/>
          </p:nvPicPr>
          <p:blipFill>
            <a:blip r:embed="rId7"/>
            <a:stretch/>
          </p:blipFill>
          <p:spPr>
            <a:xfrm rot="3121200">
              <a:off x="6485760" y="3276360"/>
              <a:ext cx="2778840" cy="274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E584-ABA4-4C93-885B-76F2C900CE7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37F6-26AE-4F01-BC20-C0EAD4842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E862-EFB0-40AE-BA3E-29DC92320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BC36-C132-4F12-B74E-8FFCBA7E76E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6" descr="80326052_large_kTs_Jardin_orchidees13.png"/>
          <p:cNvPicPr/>
          <p:nvPr/>
        </p:nvPicPr>
        <p:blipFill>
          <a:blip r:embed="rId2"/>
          <a:stretch/>
        </p:blipFill>
        <p:spPr>
          <a:xfrm rot="18921000">
            <a:off x="6221160" y="3225960"/>
            <a:ext cx="2784240" cy="4197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20B2-C5CD-4811-BC01-4836E429FDB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6" descr="80326054_large_kTs_Jardin_orchidees12.png"/>
          <p:cNvPicPr/>
          <p:nvPr/>
        </p:nvPicPr>
        <p:blipFill>
          <a:blip r:embed="rId2"/>
          <a:stretch/>
        </p:blipFill>
        <p:spPr>
          <a:xfrm rot="18721800">
            <a:off x="6899400" y="3792600"/>
            <a:ext cx="2193840" cy="31687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828F-4346-45D8-A366-414C41E7B9C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Рисунок 6" descr="80326053_large_kTs_Jardin_orchidees11.png"/>
          <p:cNvPicPr/>
          <p:nvPr/>
        </p:nvPicPr>
        <p:blipFill>
          <a:blip r:embed="rId2"/>
          <a:stretch/>
        </p:blipFill>
        <p:spPr>
          <a:xfrm rot="20008200">
            <a:off x="5682960" y="4190760"/>
            <a:ext cx="3186000" cy="31446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669A-17F1-4205-8918-E85F7F7768C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Рисунок 6" descr="80326048_large_kTs_Jardin_orchidees23.png"/>
          <p:cNvPicPr/>
          <p:nvPr/>
        </p:nvPicPr>
        <p:blipFill>
          <a:blip r:embed="rId2"/>
          <a:stretch/>
        </p:blipFill>
        <p:spPr>
          <a:xfrm rot="21025200">
            <a:off x="6400800" y="3644640"/>
            <a:ext cx="2855880" cy="31734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49669-EC98-436A-8A00-33C9763EB3D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Рисунок 6" descr="80326049_large_kTs_Jardin_orchidees21.png"/>
          <p:cNvPicPr/>
          <p:nvPr/>
        </p:nvPicPr>
        <p:blipFill>
          <a:blip r:embed="rId2"/>
          <a:stretch/>
        </p:blipFill>
        <p:spPr>
          <a:xfrm rot="15691800">
            <a:off x="5640480" y="3928320"/>
            <a:ext cx="3778200" cy="27018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A24C-A230-4156-B2E5-2C89613B701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1556-E94D-488A-8C40-1840A09E2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BF92-C118-4F87-9903-F9351C3DB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3809880"/>
            <a:ext cx="68580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астер- класс.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гровая технология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нтеллектуально-творческого развития детей дошкольного возраста.</a:t>
            </a:r>
            <a:br>
              <a:rPr sz="2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зентацию составила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спитатель МАДОУ «Детский сад №4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Шевчук Светлана Валентино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1371600" y="236196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</a:rPr>
              <a:t>«Коврограф ЛАРЧИК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580920" y="3045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Можно строить разные фигуры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4" name="Picture 5" descr="DSCN0568"/>
          <p:cNvPicPr/>
          <p:nvPr/>
        </p:nvPicPr>
        <p:blipFill>
          <a:blip r:embed="rId1"/>
          <a:stretch/>
        </p:blipFill>
        <p:spPr>
          <a:xfrm>
            <a:off x="609480" y="2743200"/>
            <a:ext cx="3086280" cy="41148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7" descr="DSCN0573"/>
          <p:cNvPicPr/>
          <p:nvPr/>
        </p:nvPicPr>
        <p:blipFill>
          <a:blip r:embed="rId2"/>
          <a:stretch/>
        </p:blipFill>
        <p:spPr>
          <a:xfrm>
            <a:off x="4648320" y="2455920"/>
            <a:ext cx="3809880" cy="316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657240" y="-360"/>
            <a:ext cx="4800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66"/>
                </a:solidFill>
                <a:uFillTx/>
                <a:latin typeface="Times New Roman"/>
              </a:rPr>
              <a:t>Разноцветные круги-липучк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7" name="Picture 6" descr="DSCN0555"/>
          <p:cNvPicPr/>
          <p:nvPr/>
        </p:nvPicPr>
        <p:blipFill>
          <a:blip r:embed="rId1"/>
          <a:stretch/>
        </p:blipFill>
        <p:spPr>
          <a:xfrm>
            <a:off x="1600200" y="2057400"/>
            <a:ext cx="586728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86200" y="609480"/>
            <a:ext cx="4572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Долька расстроилась.  Пригрело солнышко,  и Снеговик растая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Picture 5" descr="DSCN0411"/>
          <p:cNvPicPr/>
          <p:nvPr/>
        </p:nvPicPr>
        <p:blipFill>
          <a:blip r:embed="rId1"/>
          <a:stretch/>
        </p:blipFill>
        <p:spPr>
          <a:xfrm rot="21055200">
            <a:off x="380880" y="312408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7" descr="DSCN0412"/>
          <p:cNvPicPr/>
          <p:nvPr/>
        </p:nvPicPr>
        <p:blipFill>
          <a:blip r:embed="rId2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8"/>
          <p:cNvSpPr/>
          <p:nvPr/>
        </p:nvSpPr>
        <p:spPr>
          <a:xfrm>
            <a:off x="2057400" y="6095880"/>
            <a:ext cx="578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ы сделаем новых Снегов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505320" y="6091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</a:rPr>
              <a:t>Бусы для Фифы рассыпались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Picture 6" descr="DSCN0533"/>
          <p:cNvPicPr/>
          <p:nvPr/>
        </p:nvPicPr>
        <p:blipFill>
          <a:blip r:embed="rId1"/>
          <a:stretch/>
        </p:blipFill>
        <p:spPr>
          <a:xfrm rot="21427800">
            <a:off x="380880" y="320040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8" descr="DSCN0544"/>
          <p:cNvPicPr/>
          <p:nvPr/>
        </p:nvPicPr>
        <p:blipFill>
          <a:blip r:embed="rId2"/>
          <a:stretch/>
        </p:blipFill>
        <p:spPr>
          <a:xfrm>
            <a:off x="4648320" y="2552760"/>
            <a:ext cx="38098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66"/>
                </a:solidFill>
                <a:uFillTx/>
                <a:latin typeface="Times New Roman"/>
              </a:rPr>
              <a:t>Разноцветные квадраты и Радужные гномы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Picture 10" descr="DSCN0712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429000" y="609120"/>
            <a:ext cx="50292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</a:rPr>
              <a:t>Гномы перепутали свои колпаки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Picture 7" descr="DSCN0667"/>
          <p:cNvPicPr/>
          <p:nvPr/>
        </p:nvPicPr>
        <p:blipFill>
          <a:blip r:embed="rId1"/>
          <a:stretch/>
        </p:blipFill>
        <p:spPr>
          <a:xfrm>
            <a:off x="685800" y="2662200"/>
            <a:ext cx="3809880" cy="27529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0" descr="DSCN0668"/>
          <p:cNvPicPr/>
          <p:nvPr/>
        </p:nvPicPr>
        <p:blipFill>
          <a:blip r:embed="rId2"/>
          <a:stretch/>
        </p:blipFill>
        <p:spPr>
          <a:xfrm>
            <a:off x="4643280" y="2660760"/>
            <a:ext cx="3814920" cy="27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7" descr="DSCN0673"/>
          <p:cNvPicPr/>
          <p:nvPr/>
        </p:nvPicPr>
        <p:blipFill>
          <a:blip r:embed="rId1"/>
          <a:stretch/>
        </p:blipFill>
        <p:spPr>
          <a:xfrm>
            <a:off x="990720" y="1981080"/>
            <a:ext cx="3200400" cy="41148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8" descr="DSCN0676"/>
          <p:cNvPicPr/>
          <p:nvPr/>
        </p:nvPicPr>
        <p:blipFill>
          <a:blip r:embed="rId2"/>
          <a:stretch/>
        </p:blipFill>
        <p:spPr>
          <a:xfrm>
            <a:off x="609480" y="3048120"/>
            <a:ext cx="3814920" cy="275436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9"/>
          <p:cNvSpPr/>
          <p:nvPr/>
        </p:nvSpPr>
        <p:spPr>
          <a:xfrm>
            <a:off x="4800600" y="646200"/>
            <a:ext cx="363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  <a:ea typeface="Arial"/>
              </a:rPr>
              <a:t>Помогут волшебн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  <a:ea typeface="Arial"/>
              </a:rPr>
              <a:t>веревоч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66"/>
                </a:solidFill>
                <a:uFillTx/>
                <a:latin typeface="Times New Roman"/>
              </a:rPr>
              <a:t>Пространственные карточки:</a:t>
            </a:r>
            <a:br>
              <a:rPr sz="3600"/>
            </a:br>
            <a:r>
              <a:rPr b="1" lang="ru-RU" sz="3600" spc="-1" strike="noStrike" u="sng">
                <a:solidFill>
                  <a:srgbClr val="000066"/>
                </a:solidFill>
                <a:uFillTx/>
                <a:latin typeface="Times New Roman"/>
              </a:rPr>
              <a:t>Лев , Павлин,Пони,Лань.</a:t>
            </a:r>
            <a:br>
              <a:rPr sz="3600"/>
            </a:b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 С помощью сказки дети запоминают кто из зверей где живе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4" name="Picture 6" descr="DSCN0564"/>
          <p:cNvPicPr/>
          <p:nvPr/>
        </p:nvPicPr>
        <p:blipFill>
          <a:blip r:embed="rId1"/>
          <a:stretch/>
        </p:blipFill>
        <p:spPr>
          <a:xfrm>
            <a:off x="1905120" y="3200400"/>
            <a:ext cx="47480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114800" y="3809880"/>
            <a:ext cx="50292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Бабочка захотела поиграть и стала летать в разные части коврика. (у льва ,у пони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Picture 11" descr="DSCN0645"/>
          <p:cNvPicPr/>
          <p:nvPr/>
        </p:nvPicPr>
        <p:blipFill>
          <a:blip r:embed="rId1"/>
          <a:stretch/>
        </p:blipFill>
        <p:spPr>
          <a:xfrm rot="21015000">
            <a:off x="228600" y="2666520"/>
            <a:ext cx="3813120" cy="27543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14" descr="DSCN0657"/>
          <p:cNvPicPr/>
          <p:nvPr/>
        </p:nvPicPr>
        <p:blipFill>
          <a:blip r:embed="rId2"/>
          <a:stretch/>
        </p:blipFill>
        <p:spPr>
          <a:xfrm rot="422400">
            <a:off x="4572000" y="6091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429000" y="380520"/>
            <a:ext cx="50292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66"/>
                </a:solidFill>
                <a:uFillTx/>
                <a:latin typeface="Times New Roman"/>
              </a:rPr>
              <a:t>Образные элементы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Picture 6" descr="DSCN0566"/>
          <p:cNvPicPr/>
          <p:nvPr/>
        </p:nvPicPr>
        <p:blipFill>
          <a:blip r:embed="rId1"/>
          <a:stretch/>
        </p:blipFill>
        <p:spPr>
          <a:xfrm>
            <a:off x="1724040" y="1981080"/>
            <a:ext cx="56959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-360" y="3809880"/>
            <a:ext cx="853452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« Коврограф ЛАРЧИК»-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о игровое поле из ковролина и наглядный материал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Забавные буквы» , «Забавные цифры» , «Разноцветные веревочки» , «Разноцветные круги» , «Разноцветные квадраты-эталоны цвета» , «Буквы и цифры» и оригинальные элементы  - зажимы , кармашки и т.д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Picture 8" descr="DSCN0552"/>
          <p:cNvPicPr/>
          <p:nvPr/>
        </p:nvPicPr>
        <p:blipFill>
          <a:blip r:embed="rId1"/>
          <a:stretch/>
        </p:blipFill>
        <p:spPr>
          <a:xfrm>
            <a:off x="3276720" y="0"/>
            <a:ext cx="5181480" cy="367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580920" y="60912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Times New Roman"/>
              </a:rPr>
              <a:t>Игры с забавными цифрами позволяют знакомить детей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цифрами и числами натурального ряд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рядковым и количественным значением числ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воение счета и отсчета в пределах десят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вают психические процессы: внимания (произвольно, концентрированности, объема); произвольной памяти; операций логического мышления (умения анализировать, сравнивать, сопоставлять, объединять); воображения, речь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66"/>
                </a:solidFill>
                <a:uFillTx/>
                <a:latin typeface="Times New Roman"/>
              </a:rPr>
              <a:t>В основе методики Воскобовича лежит принцип:</a:t>
            </a:r>
            <a:br>
              <a:rPr sz="3600"/>
            </a:br>
            <a:r>
              <a:rPr b="1" i="1" lang="ru-RU" sz="3600" spc="-1" strike="noStrike" u="sng">
                <a:solidFill>
                  <a:srgbClr val="000066"/>
                </a:solidFill>
                <a:uFillTx/>
                <a:latin typeface="Times New Roman"/>
              </a:rPr>
              <a:t> интерес – познание – творчество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Picture 4" descr="KOVRO"/>
          <p:cNvPicPr/>
          <p:nvPr/>
        </p:nvPicPr>
        <p:blipFill>
          <a:blip r:embed="rId1"/>
          <a:stretch/>
        </p:blipFill>
        <p:spPr>
          <a:xfrm>
            <a:off x="914400" y="40384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5" descr="img--i-271802-w-640"/>
          <p:cNvPicPr/>
          <p:nvPr/>
        </p:nvPicPr>
        <p:blipFill>
          <a:blip r:embed="rId2"/>
          <a:stretch/>
        </p:blipFill>
        <p:spPr>
          <a:xfrm>
            <a:off x="6934320" y="4495680"/>
            <a:ext cx="1590480" cy="20574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6" descr="1451image"/>
          <p:cNvPicPr/>
          <p:nvPr/>
        </p:nvPicPr>
        <p:blipFill>
          <a:blip r:embed="rId3"/>
          <a:stretch/>
        </p:blipFill>
        <p:spPr>
          <a:xfrm>
            <a:off x="3733920" y="3505320"/>
            <a:ext cx="220968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441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адеемся , что вы, по возможности, будете использовать данное игровое пособие в своей деятельности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Прямоугольник 3" descr=""/>
          <p:cNvPicPr/>
          <p:nvPr/>
        </p:nvPicPr>
        <p:blipFill>
          <a:blip r:embed="rId1"/>
          <a:stretch/>
        </p:blipFill>
        <p:spPr>
          <a:xfrm>
            <a:off x="457200" y="689040"/>
            <a:ext cx="7875720" cy="19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69343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Коврограф Ларчик относится к универсальным пособиям . Пособие способствует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685800" y="25909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сенсорному развитию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развитию психических процессов (память,  внимание , мышление , воображение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развивает математические , речевые , экологические предпосылки у детей от двух лет и школьного возрас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8" descr="DSCN0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0" name="TextBox 4"/>
          <p:cNvSpPr/>
          <p:nvPr/>
        </p:nvSpPr>
        <p:spPr>
          <a:xfrm>
            <a:off x="685800" y="304920"/>
            <a:ext cx="815328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  процессе игры коврограф «Ларчик» превращается в волшебную поляну в Фиолетовом лесу , на которой происходят различные чуд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533160" y="7617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ле коврографа разделено сеткой, которая помогает знакомить детей с пространственными и количественными отношениями, и облегчает построение геометрических контуров и облегчает в дальнейшем ориентировку детей в тетрадях в клетку, позволяет увидеть границу клеток их расположение. Дети знакомятся с такими понятиями, как вертикаль, горизонталь, диагональ. Учатся ориентироваться на плоскости. Можно давать такие виды заданий, как счет клеток  в первом ряду или до точки и т.д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657240" y="6091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66"/>
                </a:solidFill>
                <a:uFillTx/>
                <a:latin typeface="Times New Roman"/>
              </a:rPr>
              <a:t>Разноцветные веревочки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Picture 5" descr="DSCN0554"/>
          <p:cNvPicPr/>
          <p:nvPr/>
        </p:nvPicPr>
        <p:blipFill>
          <a:blip r:embed="rId1"/>
          <a:stretch/>
        </p:blipFill>
        <p:spPr>
          <a:xfrm>
            <a:off x="1776240" y="1981080"/>
            <a:ext cx="55915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533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Times New Roman"/>
              </a:rPr>
              <a:t>Веревочками можно обводить и соединять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Picture 8" descr="DSCN0499"/>
          <p:cNvPicPr/>
          <p:nvPr/>
        </p:nvPicPr>
        <p:blipFill>
          <a:blip r:embed="rId1"/>
          <a:stretch/>
        </p:blipFill>
        <p:spPr>
          <a:xfrm rot="21295200">
            <a:off x="0" y="456840"/>
            <a:ext cx="4495680" cy="426708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2" descr="DSCN0504"/>
          <p:cNvPicPr/>
          <p:nvPr/>
        </p:nvPicPr>
        <p:blipFill>
          <a:blip r:embed="rId2"/>
          <a:stretch/>
        </p:blipFill>
        <p:spPr>
          <a:xfrm rot="325200">
            <a:off x="4648320" y="456840"/>
            <a:ext cx="4495680" cy="43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4648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Строим домики для Дольки , Жужи и Незримки Всюсь .</a:t>
            </a: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А как им попасть к друг другу в гости ? </a:t>
            </a: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Ну конечно помогут волшебные веревочки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Picture 8" descr="DSCN0511"/>
          <p:cNvPicPr/>
          <p:nvPr/>
        </p:nvPicPr>
        <p:blipFill>
          <a:blip r:embed="rId1"/>
          <a:stretch/>
        </p:blipFill>
        <p:spPr>
          <a:xfrm rot="21228600">
            <a:off x="609480" y="609120"/>
            <a:ext cx="3810240" cy="33912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1" descr="DSCN0520"/>
          <p:cNvPicPr/>
          <p:nvPr/>
        </p:nvPicPr>
        <p:blipFill>
          <a:blip r:embed="rId2"/>
          <a:stretch/>
        </p:blipFill>
        <p:spPr>
          <a:xfrm rot="778200">
            <a:off x="4724280" y="685440"/>
            <a:ext cx="381024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505320" y="609480"/>
            <a:ext cx="49528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А теперь попробуем закрыть глаза и пальчиком пройти по дорожкам. Куда мы попадем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Picture 6" descr="DSCN0523"/>
          <p:cNvPicPr/>
          <p:nvPr/>
        </p:nvPicPr>
        <p:blipFill>
          <a:blip r:embed="rId1"/>
          <a:stretch/>
        </p:blipFill>
        <p:spPr>
          <a:xfrm rot="20771400">
            <a:off x="609480" y="320040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8" descr="DSCN0525"/>
          <p:cNvPicPr/>
          <p:nvPr/>
        </p:nvPicPr>
        <p:blipFill>
          <a:blip r:embed="rId2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10:03:30Z</dcterms:created>
  <dc:creator>евросеть</dc:creator>
  <dc:description/>
  <dc:language>en-US</dc:language>
  <cp:lastModifiedBy>ПК-03</cp:lastModifiedBy>
  <dcterms:modified xsi:type="dcterms:W3CDTF">2019-12-24T11:32:31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