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C640-94E4-4338-A89A-83581D089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D2F2-B19F-49B3-945F-B27E14F3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0E93-6058-49B6-9240-997E9486B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58A3-D01D-4E3E-8BBC-806F886A4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1150-D8F2-40B2-9F96-DFE01D7F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6DD0-1D6E-4A69-AB0E-90AD42DE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88F9-AFC8-44A7-8BFF-94992C52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E057-C19A-4E30-9318-6E57C113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4817-A703-41F1-ACFB-D292CE2E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4A87-2591-4834-BD36-8CD0B6AA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796E-BB7F-4760-872F-D08959BB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9504-CB16-47C2-A7D5-C3A52A05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0332-F131-4860-AF03-ED413F0E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0263-5F3F-4599-926C-D5731287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D31C-1FF7-4AD7-BE04-125CD15B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6DFE-F190-438B-A968-12FA26267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2EF6-B988-40CF-A9EE-9D3D57F41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3456-2A61-45F4-879F-CD03AAC8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F001-2EEC-461D-81B1-A8148E8F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48D5-A325-4A49-A024-9FA40175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D07A-E8B6-4552-8608-0C82A4F5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486E-5471-4E90-91F2-A6D149D3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A74A-E6CA-4154-9A13-4D073BC7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B65C-62C0-4D0B-8D93-9FD4DF6C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1A5F-98E8-46B1-81FD-79D4620B1C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D1EC-FC5D-4674-AF1C-2667413483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ahoma"/>
              </a:rPr>
              <a:t>Математическое путешествие к пирамиде Хеопса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Задача 3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ирамида была построена за 20 ле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сли вся пирамида состоит из 2 300 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локов, определите, сколько в среднем нужно было укладывать таких блоков ежедневн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вет:  315 бло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Задача 4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нование пирамиды – квадрат, сторона которого около 230 м. Найдите площадь основания пирамиды и ее перимет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Задача 4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нование пирамиды – квадрат, сторона которого около 230 м. Найдите площадь основания пирамиды и ее перимет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вет: 52900 кв. м ; 920 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Хуфу –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мя фараона Хеопса,  по указанию которого началось строительство знаменитой пирамиды, которая до сих пор хранит в себе много тайн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ris2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380880"/>
            <a:ext cx="82915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ирамида -монументальное сооружение, имеющее геометрическую форму пирамиды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2997360"/>
            <a:ext cx="8229600" cy="38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ирамидами называют гробницы древнеегипетских фараонов  третьего-второго тысячелетия до нашей э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Задача 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Высота пирамиды Хеопса –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47 метров, однако сейчас она на 6,2% ниже из-за поврежденной вершины. Найдите современную длину пирамид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Задача 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Высота пирамиды Хеопса –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47 метров, однако сейчас она на 6,2% ниже из-за поврежденной вершины. Найдите современную длину пирамид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Ответ: 138 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Задача 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ирамида Хеопса сложена из 2 300 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вестняковых блоков, каждый из которых весит 2500 кг.  Они были подогнаны с большой точностью. Найдите массу всех блоков, ответ выразите в тонн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Задача 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ирамида Хеопса сложена из 2 300 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вестняковых блоков, каждый из которых весит 2500 кг.  Они были подогнаны с большой точностью. Найдите массу всех блоков, ответ выразите в тонн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вет: 5 750 000 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Задача 3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ирамида была построена за 20 ле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сли вся пирамида состоит из 2 300 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локов, определите, сколько в среднем нужно было укладывать таких блоков ежедневн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3T16:27:35Z</dcterms:created>
  <dc:creator>BLACKCLASSIC</dc:creator>
  <dc:description/>
  <dc:language>en-US</dc:language>
  <cp:lastModifiedBy>BLACKCLASSIC</cp:lastModifiedBy>
  <dcterms:modified xsi:type="dcterms:W3CDTF">2015-01-08T22:05:55Z</dcterms:modified>
  <cp:revision>5</cp:revision>
  <dc:subject/>
  <dc:title>Математическое путешествие к пирамиде Хеопса</dc:title>
</cp:coreProperties>
</file>