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  <p:custShowLst>
    <p:custShow name="Произвольный показ 1" id="0">
      <p:sldLst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5077-5AB1-425A-9932-4E5704BC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C3D9-50ED-4D49-BD30-15951B65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4E4A-D01E-4843-9F6E-8CD7F256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B6E6-659C-4BD2-9199-DA6CE639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F37-023D-4EC4-83D0-5CD872AD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C1E5-7C38-497C-BEB1-8F0E7B0A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9C4F-57A1-4B62-9EA3-7EE7D55E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01F-1E8B-4F80-8FAF-7D7F04BD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1AD7-02D4-44AF-983C-B0D915DA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069E-1427-4C36-891E-B1BFCC38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B9B9-17CD-464B-A091-193D3CBA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844-E13C-4A22-A529-E4B6B4CF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13C5-782C-43E5-9F3F-094359EFB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090440" y="-46440"/>
            <a:ext cx="75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42920" y="2133720"/>
            <a:ext cx="705816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>
                    <a:alpha val="74000"/>
                  </a:srgbClr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>
                    <a:alpha val="74000"/>
                  </a:srgbClr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Times New Roman"/>
              </a:rPr>
              <a:t>ПОНЯТИЕ ЦИЛИНД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>
                  <a:alpha val="74000"/>
                </a:srgbClr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55920" y="5494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62120" y="3821040"/>
            <a:ext cx="19051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юбые два осевых сечения цилиндра равны между соб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27280" y="4834080"/>
            <a:ext cx="2484720" cy="9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011640" y="3033720"/>
            <a:ext cx="3636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68360" y="1592280"/>
            <a:ext cx="8229600" cy="4525920"/>
            <a:chOff x="468360" y="1592280"/>
            <a:chExt cx="8229600" cy="4525920"/>
          </a:xfrm>
        </p:grpSpPr>
        <p:sp>
          <p:nvSpPr>
            <p:cNvPr id="134" name=""/>
            <p:cNvSpPr/>
            <p:nvPr/>
          </p:nvSpPr>
          <p:spPr>
            <a:xfrm>
              <a:off x="3575160" y="2521080"/>
              <a:ext cx="2484360" cy="900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538440" y="2952720"/>
              <a:ext cx="3672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8360" y="1592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022800" y="3025800"/>
              <a:ext cx="36360" cy="23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27280" y="4834080"/>
            <a:ext cx="2484720" cy="9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68360" y="1592280"/>
            <a:ext cx="8229600" cy="4525920"/>
            <a:chOff x="468360" y="1592280"/>
            <a:chExt cx="8229600" cy="4525920"/>
          </a:xfrm>
        </p:grpSpPr>
        <p:sp>
          <p:nvSpPr>
            <p:cNvPr id="140" name=""/>
            <p:cNvSpPr/>
            <p:nvPr/>
          </p:nvSpPr>
          <p:spPr>
            <a:xfrm>
              <a:off x="3575160" y="2521080"/>
              <a:ext cx="2484360" cy="900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538440" y="2952720"/>
              <a:ext cx="3672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8360" y="1592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022800" y="3025800"/>
              <a:ext cx="36360" cy="23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527280" y="4834080"/>
            <a:ext cx="2484720" cy="9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68360" y="1571760"/>
            <a:ext cx="8229600" cy="4525920"/>
            <a:chOff x="468360" y="1571760"/>
            <a:chExt cx="8229600" cy="4525920"/>
          </a:xfrm>
        </p:grpSpPr>
        <p:sp>
          <p:nvSpPr>
            <p:cNvPr id="146" name=""/>
            <p:cNvSpPr/>
            <p:nvPr/>
          </p:nvSpPr>
          <p:spPr>
            <a:xfrm>
              <a:off x="3575160" y="2500560"/>
              <a:ext cx="2484360" cy="900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538440" y="2932200"/>
              <a:ext cx="3672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8360" y="157176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022800" y="3005280"/>
              <a:ext cx="36360" cy="23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527280" y="4834080"/>
            <a:ext cx="2484720" cy="9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2997360"/>
            <a:ext cx="0" cy="2339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924360" y="501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924360" y="501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88000" y="2997360"/>
            <a:ext cx="0" cy="2339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924360" y="501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88000" y="2997360"/>
            <a:ext cx="0" cy="2339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924360" y="501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2997360"/>
            <a:ext cx="0" cy="2339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924360" y="501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328464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924360" y="2673360"/>
            <a:ext cx="1871640" cy="2951280"/>
            <a:chOff x="3924360" y="2673360"/>
            <a:chExt cx="1871640" cy="2951280"/>
          </a:xfrm>
        </p:grpSpPr>
        <p:sp>
          <p:nvSpPr>
            <p:cNvPr id="182" name=""/>
            <p:cNvSpPr/>
            <p:nvPr/>
          </p:nvSpPr>
          <p:spPr>
            <a:xfrm>
              <a:off x="4788000" y="2997360"/>
              <a:ext cx="0" cy="233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924360" y="2673360"/>
              <a:ext cx="1871640" cy="611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6000" y="2673360"/>
              <a:ext cx="0" cy="234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24360" y="3284640"/>
              <a:ext cx="0" cy="234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4211640" y="2565360"/>
            <a:ext cx="1152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11640" y="2600280"/>
            <a:ext cx="0" cy="226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64000" y="3392640"/>
            <a:ext cx="0" cy="22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11640" y="4905360"/>
            <a:ext cx="1152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2960640"/>
            <a:ext cx="36360" cy="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924360" y="2673360"/>
            <a:ext cx="1871640" cy="2951280"/>
            <a:chOff x="3924360" y="2673360"/>
            <a:chExt cx="1871640" cy="2951280"/>
          </a:xfrm>
        </p:grpSpPr>
        <p:sp>
          <p:nvSpPr>
            <p:cNvPr id="197" name=""/>
            <p:cNvSpPr/>
            <p:nvPr/>
          </p:nvSpPr>
          <p:spPr>
            <a:xfrm>
              <a:off x="4788000" y="2997360"/>
              <a:ext cx="0" cy="233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924360" y="2673360"/>
              <a:ext cx="1871640" cy="611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6000" y="2673360"/>
              <a:ext cx="0" cy="234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24360" y="3284640"/>
              <a:ext cx="0" cy="234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211640" y="2565360"/>
            <a:ext cx="1152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11640" y="2600280"/>
            <a:ext cx="0" cy="226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11640" y="4905360"/>
            <a:ext cx="1152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924360" y="2673360"/>
            <a:ext cx="1871640" cy="6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96000" y="267336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1800" y="3213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94360" y="2343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26160" y="47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5475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1960" y="201924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70480" y="328464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57960" y="558324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70320" y="425124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0560" y="4005360"/>
            <a:ext cx="281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(ABCD)=S(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чение цилиндра плоскостью, перпендикулярной к оси цилин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27280" y="2565360"/>
            <a:ext cx="2881440" cy="1116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92360" y="4834080"/>
            <a:ext cx="2881440" cy="1116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3789360"/>
            <a:ext cx="2881440" cy="1116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492000" y="3068640"/>
            <a:ext cx="34920" cy="23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372000" y="3141720"/>
            <a:ext cx="34920" cy="23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895640" y="2133720"/>
            <a:ext cx="36360" cy="4032000"/>
          </a:xfrm>
          <a:prstGeom prst="line">
            <a:avLst/>
          </a:prstGeom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47640" y="3392640"/>
            <a:ext cx="7093080" cy="1692000"/>
          </a:xfrm>
          <a:prstGeom prst="parallelogram">
            <a:avLst>
              <a:gd name="adj" fmla="val 1048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59280" y="3068640"/>
            <a:ext cx="14436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24360" y="5373720"/>
            <a:ext cx="14436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24360" y="4257720"/>
            <a:ext cx="14436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527280" y="3824280"/>
            <a:ext cx="10447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743280" y="3789000"/>
            <a:ext cx="14414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032360" y="3860280"/>
            <a:ext cx="151128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392720" y="3933360"/>
            <a:ext cx="151128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788000" y="4113360"/>
            <a:ext cx="1404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292720" y="4292640"/>
            <a:ext cx="10447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63840" y="442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195640" y="4494240"/>
                <a:ext cx="5396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ечения, параллельные оси цилиндра - прямоуголь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592360" y="1860480"/>
            <a:ext cx="4033800" cy="3997080"/>
            <a:chOff x="2592360" y="1860480"/>
            <a:chExt cx="4033800" cy="3997080"/>
          </a:xfrm>
        </p:grpSpPr>
        <p:grpSp>
          <p:nvGrpSpPr>
            <p:cNvPr id="236" name=""/>
            <p:cNvGrpSpPr/>
            <p:nvPr/>
          </p:nvGrpSpPr>
          <p:grpSpPr>
            <a:xfrm>
              <a:off x="2592360" y="1860480"/>
              <a:ext cx="4033800" cy="3997080"/>
              <a:chOff x="2592360" y="1860480"/>
              <a:chExt cx="4033800" cy="3997080"/>
            </a:xfrm>
          </p:grpSpPr>
          <p:sp>
            <p:nvSpPr>
              <p:cNvPr id="237" name=""/>
              <p:cNvSpPr/>
              <p:nvPr/>
            </p:nvSpPr>
            <p:spPr>
              <a:xfrm>
                <a:off x="2592360" y="4489200"/>
                <a:ext cx="4033800" cy="136836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92360" y="2509560"/>
                <a:ext cx="0" cy="2664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92360" y="1860480"/>
                <a:ext cx="4033800" cy="136836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6626160" y="2581200"/>
              <a:ext cx="0" cy="26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608360" y="1449360"/>
            <a:ext cx="0" cy="46800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535640" y="2456640"/>
            <a:ext cx="107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535640" y="5083920"/>
            <a:ext cx="107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871720" y="1872720"/>
            <a:ext cx="129564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43280" y="2889360"/>
            <a:ext cx="0" cy="26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843280" y="4545000"/>
            <a:ext cx="1368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211640" y="1889280"/>
            <a:ext cx="30240" cy="26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813040" y="2522520"/>
            <a:ext cx="50472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843280" y="2184480"/>
            <a:ext cx="922320" cy="178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808360" y="1889280"/>
            <a:ext cx="1403280" cy="26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42920" y="2346480"/>
            <a:ext cx="138420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015720" y="3011400"/>
            <a:ext cx="1219320" cy="236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492360" y="3687840"/>
            <a:ext cx="728640" cy="132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032360" y="4329000"/>
            <a:ext cx="180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600000" y="4941360"/>
            <a:ext cx="97164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00" y="50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816360" y="5013000"/>
            <a:ext cx="179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211640" y="1889280"/>
            <a:ext cx="30240" cy="26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871720" y="1872720"/>
            <a:ext cx="129564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211640" y="1889280"/>
            <a:ext cx="30240" cy="26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43280" y="2889360"/>
            <a:ext cx="0" cy="26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843280" y="4545000"/>
            <a:ext cx="1368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871720" y="1872720"/>
            <a:ext cx="129564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211640" y="1874880"/>
            <a:ext cx="30240" cy="26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871720" y="1872720"/>
            <a:ext cx="129564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871720" y="1872720"/>
            <a:ext cx="129564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828880" y="1872720"/>
            <a:ext cx="1398600" cy="3643920"/>
            <a:chOff x="2828880" y="1872720"/>
            <a:chExt cx="1398600" cy="3643920"/>
          </a:xfrm>
        </p:grpSpPr>
        <p:sp>
          <p:nvSpPr>
            <p:cNvPr id="268" name=""/>
            <p:cNvSpPr/>
            <p:nvPr/>
          </p:nvSpPr>
          <p:spPr>
            <a:xfrm flipV="1">
              <a:off x="2828880" y="4560840"/>
              <a:ext cx="136836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2828880" y="1872720"/>
              <a:ext cx="1398600" cy="3643920"/>
              <a:chOff x="2828880" y="1872720"/>
              <a:chExt cx="1398600" cy="3643920"/>
            </a:xfrm>
          </p:grpSpPr>
          <p:sp>
            <p:nvSpPr>
              <p:cNvPr id="270" name=""/>
              <p:cNvSpPr/>
              <p:nvPr/>
            </p:nvSpPr>
            <p:spPr>
              <a:xfrm>
                <a:off x="2828880" y="2889360"/>
                <a:ext cx="0" cy="26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2857320" y="1872720"/>
                <a:ext cx="1295640" cy="9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4197240" y="1874880"/>
                <a:ext cx="30240" cy="265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 flipH="1" flipV="1">
            <a:off x="3600000" y="4941360"/>
            <a:ext cx="97164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816360" y="5013000"/>
            <a:ext cx="179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56000" y="50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600000" y="4941360"/>
            <a:ext cx="97164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816360" y="5013000"/>
            <a:ext cx="179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вносторонний цилинд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56000" y="1413000"/>
            <a:ext cx="4176720" cy="1728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92360" y="4545000"/>
            <a:ext cx="4140360" cy="1728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721560" y="2259000"/>
            <a:ext cx="11160" cy="323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2546280" y="2214720"/>
            <a:ext cx="46080" cy="319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176640" y="162864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76640" y="288936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58080" y="160344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108240" y="477828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2168640"/>
            <a:ext cx="1792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5319720"/>
            <a:ext cx="1792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18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78200" y="1643040"/>
            <a:ext cx="0" cy="43657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76640" y="288936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176640" y="162864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6640" y="288936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58080" y="160344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176640" y="162864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76640" y="288936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3108240" y="477828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58080" y="160344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176640" y="162864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176640" y="288936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108240" y="477828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58080" y="160344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108240" y="477828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176640" y="162864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58080" y="1603440"/>
            <a:ext cx="0" cy="31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108240" y="4778280"/>
            <a:ext cx="292572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76640" y="2889360"/>
            <a:ext cx="0" cy="3149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176640" y="1628640"/>
            <a:ext cx="2925720" cy="1260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58080" y="1603440"/>
            <a:ext cx="0" cy="3149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108240" y="4778280"/>
            <a:ext cx="2925720" cy="1260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78600" y="391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83520" y="510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165440" y="386856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=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76640" y="2874960"/>
            <a:ext cx="0" cy="314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108240" y="1603440"/>
            <a:ext cx="2994120" cy="4435560"/>
            <a:chOff x="3108240" y="1603440"/>
            <a:chExt cx="2994120" cy="4435560"/>
          </a:xfrm>
        </p:grpSpPr>
        <p:sp>
          <p:nvSpPr>
            <p:cNvPr id="316" name=""/>
            <p:cNvSpPr/>
            <p:nvPr/>
          </p:nvSpPr>
          <p:spPr>
            <a:xfrm flipV="1">
              <a:off x="3176640" y="1628640"/>
              <a:ext cx="2925720" cy="1260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58080" y="1603440"/>
              <a:ext cx="0" cy="3149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108240" y="4778280"/>
              <a:ext cx="2925720" cy="1260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82520" y="312840"/>
            <a:ext cx="8572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Касательная плоско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цилинд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плоскость проходящая через образующую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цилиндра, перпендикулярная осевому сечению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денному через ту же образующ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48120" y="2147760"/>
            <a:ext cx="3236760" cy="1363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48120" y="4629240"/>
            <a:ext cx="3265200" cy="1319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33720" y="2801880"/>
            <a:ext cx="28440" cy="254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84880" y="2786040"/>
            <a:ext cx="14400" cy="255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84600" y="266868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86480" y="517860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75040" y="2233440"/>
            <a:ext cx="1828800" cy="11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33720" y="4732200"/>
            <a:ext cx="177012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75400" y="3336840"/>
            <a:ext cx="71280" cy="251136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378160" y="2568600"/>
            <a:ext cx="57340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739960" y="5047920"/>
            <a:ext cx="5372280" cy="168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111520" y="2525760"/>
            <a:ext cx="42840" cy="2495520"/>
          </a:xfrm>
          <a:custGeom>
            <a:avLst/>
            <a:gdLst/>
            <a:ahLst/>
            <a:rect l="l" t="t" r="r" b="b"/>
            <a:pathLst>
              <a:path w="353" h="1572">
                <a:moveTo>
                  <a:pt x="166" y="0"/>
                </a:moveTo>
                <a:cubicBezTo>
                  <a:pt x="255" y="112"/>
                  <a:pt x="345" y="225"/>
                  <a:pt x="349" y="347"/>
                </a:cubicBezTo>
                <a:cubicBezTo>
                  <a:pt x="353" y="469"/>
                  <a:pt x="248" y="603"/>
                  <a:pt x="193" y="731"/>
                </a:cubicBezTo>
                <a:cubicBezTo>
                  <a:pt x="138" y="859"/>
                  <a:pt x="40" y="975"/>
                  <a:pt x="20" y="1115"/>
                </a:cubicBezTo>
                <a:cubicBezTo>
                  <a:pt x="0" y="1255"/>
                  <a:pt x="37" y="1413"/>
                  <a:pt x="74" y="15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09840" y="4441680"/>
            <a:ext cx="333360" cy="2279880"/>
          </a:xfrm>
          <a:custGeom>
            <a:avLst/>
            <a:gdLst/>
            <a:ahLst/>
            <a:rect l="l" t="t" r="r" b="b"/>
            <a:pathLst>
              <a:path w="338" h="1436">
                <a:moveTo>
                  <a:pt x="0" y="0"/>
                </a:moveTo>
                <a:cubicBezTo>
                  <a:pt x="108" y="164"/>
                  <a:pt x="217" y="329"/>
                  <a:pt x="246" y="494"/>
                </a:cubicBezTo>
                <a:cubicBezTo>
                  <a:pt x="275" y="659"/>
                  <a:pt x="158" y="831"/>
                  <a:pt x="173" y="988"/>
                </a:cubicBezTo>
                <a:cubicBezTo>
                  <a:pt x="188" y="1145"/>
                  <a:pt x="311" y="1363"/>
                  <a:pt x="338" y="14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378160" y="2568600"/>
            <a:ext cx="57340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09840" y="4441680"/>
            <a:ext cx="333360" cy="2279880"/>
          </a:xfrm>
          <a:custGeom>
            <a:avLst/>
            <a:gdLst/>
            <a:ahLst/>
            <a:rect l="l" t="t" r="r" b="b"/>
            <a:pathLst>
              <a:path w="338" h="1436">
                <a:moveTo>
                  <a:pt x="0" y="0"/>
                </a:moveTo>
                <a:cubicBezTo>
                  <a:pt x="108" y="164"/>
                  <a:pt x="217" y="329"/>
                  <a:pt x="246" y="494"/>
                </a:cubicBezTo>
                <a:cubicBezTo>
                  <a:pt x="275" y="659"/>
                  <a:pt x="158" y="831"/>
                  <a:pt x="173" y="988"/>
                </a:cubicBezTo>
                <a:cubicBezTo>
                  <a:pt x="188" y="1145"/>
                  <a:pt x="311" y="1363"/>
                  <a:pt x="338" y="14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8111520" y="2525760"/>
            <a:ext cx="42840" cy="2495520"/>
          </a:xfrm>
          <a:custGeom>
            <a:avLst/>
            <a:gdLst/>
            <a:ahLst/>
            <a:rect l="l" t="t" r="r" b="b"/>
            <a:pathLst>
              <a:path w="353" h="1572">
                <a:moveTo>
                  <a:pt x="166" y="0"/>
                </a:moveTo>
                <a:cubicBezTo>
                  <a:pt x="255" y="112"/>
                  <a:pt x="345" y="225"/>
                  <a:pt x="349" y="347"/>
                </a:cubicBezTo>
                <a:cubicBezTo>
                  <a:pt x="353" y="469"/>
                  <a:pt x="248" y="603"/>
                  <a:pt x="193" y="731"/>
                </a:cubicBezTo>
                <a:cubicBezTo>
                  <a:pt x="138" y="859"/>
                  <a:pt x="40" y="975"/>
                  <a:pt x="20" y="1115"/>
                </a:cubicBezTo>
                <a:cubicBezTo>
                  <a:pt x="0" y="1255"/>
                  <a:pt x="37" y="1413"/>
                  <a:pt x="74" y="15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378160" y="2568600"/>
            <a:ext cx="57340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09840" y="4441680"/>
            <a:ext cx="333360" cy="2279880"/>
          </a:xfrm>
          <a:custGeom>
            <a:avLst/>
            <a:gdLst/>
            <a:ahLst/>
            <a:rect l="l" t="t" r="r" b="b"/>
            <a:pathLst>
              <a:path w="338" h="1436">
                <a:moveTo>
                  <a:pt x="0" y="0"/>
                </a:moveTo>
                <a:cubicBezTo>
                  <a:pt x="108" y="164"/>
                  <a:pt x="217" y="329"/>
                  <a:pt x="246" y="494"/>
                </a:cubicBezTo>
                <a:cubicBezTo>
                  <a:pt x="275" y="659"/>
                  <a:pt x="158" y="831"/>
                  <a:pt x="173" y="988"/>
                </a:cubicBezTo>
                <a:cubicBezTo>
                  <a:pt x="188" y="1145"/>
                  <a:pt x="311" y="1363"/>
                  <a:pt x="338" y="14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739960" y="5047920"/>
            <a:ext cx="5372280" cy="168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378160" y="2540160"/>
            <a:ext cx="5762160" cy="4195080"/>
            <a:chOff x="2378160" y="2540160"/>
            <a:chExt cx="5762160" cy="4195080"/>
          </a:xfrm>
        </p:grpSpPr>
        <p:sp>
          <p:nvSpPr>
            <p:cNvPr id="340" name=""/>
            <p:cNvSpPr/>
            <p:nvPr/>
          </p:nvSpPr>
          <p:spPr>
            <a:xfrm flipH="1">
              <a:off x="8097840" y="2540160"/>
              <a:ext cx="42480" cy="2495160"/>
            </a:xfrm>
            <a:custGeom>
              <a:avLst/>
              <a:gdLst/>
              <a:ahLst/>
              <a:rect l="l" t="t" r="r" b="b"/>
              <a:pathLst>
                <a:path w="353" h="1572">
                  <a:moveTo>
                    <a:pt x="166" y="0"/>
                  </a:moveTo>
                  <a:cubicBezTo>
                    <a:pt x="255" y="112"/>
                    <a:pt x="345" y="225"/>
                    <a:pt x="349" y="347"/>
                  </a:cubicBezTo>
                  <a:cubicBezTo>
                    <a:pt x="353" y="469"/>
                    <a:pt x="248" y="603"/>
                    <a:pt x="193" y="731"/>
                  </a:cubicBezTo>
                  <a:cubicBezTo>
                    <a:pt x="138" y="859"/>
                    <a:pt x="40" y="975"/>
                    <a:pt x="20" y="1115"/>
                  </a:cubicBezTo>
                  <a:cubicBezTo>
                    <a:pt x="0" y="1255"/>
                    <a:pt x="37" y="1413"/>
                    <a:pt x="74" y="15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2378160" y="2582280"/>
              <a:ext cx="5719680" cy="18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09480" y="4455720"/>
              <a:ext cx="332280" cy="2279520"/>
            </a:xfrm>
            <a:custGeom>
              <a:avLst/>
              <a:gdLst/>
              <a:ahLst/>
              <a:rect l="l" t="t" r="r" b="b"/>
              <a:pathLst>
                <a:path w="338" h="1436">
                  <a:moveTo>
                    <a:pt x="0" y="0"/>
                  </a:moveTo>
                  <a:cubicBezTo>
                    <a:pt x="108" y="164"/>
                    <a:pt x="217" y="329"/>
                    <a:pt x="246" y="494"/>
                  </a:cubicBezTo>
                  <a:cubicBezTo>
                    <a:pt x="275" y="659"/>
                    <a:pt x="158" y="831"/>
                    <a:pt x="173" y="988"/>
                  </a:cubicBezTo>
                  <a:cubicBezTo>
                    <a:pt x="188" y="1145"/>
                    <a:pt x="311" y="1363"/>
                    <a:pt x="338" y="14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875040" y="2233440"/>
            <a:ext cx="71640" cy="251172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59480" y="2278080"/>
            <a:ext cx="101520" cy="34704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527960" y="4187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926400" y="4292640"/>
                <a:ext cx="6458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 flipV="1">
            <a:off x="2641680" y="3425400"/>
            <a:ext cx="2728800" cy="16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583000" y="2583000"/>
            <a:ext cx="5530680" cy="33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251160" y="3642840"/>
            <a:ext cx="4862520" cy="29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6996240" y="4761000"/>
            <a:ext cx="1131840" cy="63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5181480" y="3309840"/>
            <a:ext cx="24624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195880" y="3235320"/>
            <a:ext cx="29052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946240" y="2655720"/>
            <a:ext cx="5661360" cy="223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ощадь боковой поверхности цилинд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2040" y="2178000"/>
            <a:ext cx="1654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6200" y="4427640"/>
            <a:ext cx="1654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8000" y="265572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46240" y="265572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25400" y="2973240"/>
            <a:ext cx="0" cy="2235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2320" y="29289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8280" y="52084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6240" y="5353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93720" y="4946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61960" y="2536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09560" y="2143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50960" y="387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31840" y="4873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6240" y="2593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190520" y="264168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682560" y="4905360"/>
            <a:ext cx="507960" cy="34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82360" y="49752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607600" y="4876920"/>
            <a:ext cx="0" cy="53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946240" y="5283000"/>
            <a:ext cx="5675400" cy="1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240160" y="4923000"/>
                <a:ext cx="38916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2841120" y="55245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=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3746520" y="5634000"/>
                <a:ext cx="6508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4357440" y="5551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46240" y="481824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046840" y="4869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960640" y="2625840"/>
            <a:ext cx="0" cy="22939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21387E-006 L 0.24583 -0.0467 E">
                                      <p:cBhvr>
                                        <p:cTn id="103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93064E-006 L 0.25555 -0.04231 E">
                                      <p:cBhvr>
                                        <p:cTn id="105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98844E-006 L -0.2493 0.04439 E">
                                      <p:cBhvr>
                                        <p:cTn id="125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вертка цилиндра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ощадь полной поверхности цилин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3680" y="1060560"/>
            <a:ext cx="1828800" cy="1654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79520" y="2714760"/>
            <a:ext cx="4964040" cy="227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9520" y="4978440"/>
            <a:ext cx="1828800" cy="1654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67240" y="2739960"/>
            <a:ext cx="1806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пол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5907240" y="3786120"/>
                <a:ext cx="30207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h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5468040" y="39607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290600" y="1844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320840" y="5762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82360" y="1969920"/>
            <a:ext cx="93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96760" y="5889600"/>
            <a:ext cx="93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364480" y="3378240"/>
            <a:ext cx="13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219800" y="536400"/>
            <a:ext cx="1924200" cy="16066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857240" y="2176560"/>
            <a:ext cx="1828800" cy="19303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Найти площадь полной поверхности цилинд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 rot="16114800">
            <a:off x="2536920" y="2992320"/>
            <a:ext cx="478440" cy="183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347" y="1477"/>
                </a:moveTo>
                <a:arcTo wR="10800" hR="10800" stAng="-7219346" swAng="12266862"/>
                <a:lnTo>
                  <a:pt x="10800" y="10800"/>
                </a:lnTo>
                <a:close/>
              </a:path>
              <a:path fill="none" w="21600" h="21600">
                <a:moveTo>
                  <a:pt x="5347" y="1477"/>
                </a:moveTo>
                <a:arcTo wR="10800" hR="10800" stAng="-7219346" swAng="12266862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886040" y="3875040"/>
            <a:ext cx="1828800" cy="30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00360" y="3859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30200" y="3726000"/>
            <a:ext cx="4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843200" y="2424240"/>
            <a:ext cx="1842840" cy="145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25640" y="2101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770280" y="3668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59480" y="3614760"/>
            <a:ext cx="4053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91400" y="34765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770360" y="221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848120" y="2409840"/>
            <a:ext cx="176400" cy="190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977360" y="2344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801760" y="225576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977360" y="3084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789440" y="3164040"/>
            <a:ext cx="176400" cy="190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16520" y="298296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внобедр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711960" y="2940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136480" y="34909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=АС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81640" y="405756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=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066040" y="5494320"/>
            <a:ext cx="50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=2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2,5(5 + 2,5)= 5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7,5 = 37,5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77360" y="3084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789440" y="3164040"/>
            <a:ext cx="176400" cy="190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11600" y="4724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=2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(h+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848120" y="2409840"/>
            <a:ext cx="176400" cy="190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977360" y="2344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48120" y="2409840"/>
            <a:ext cx="176400" cy="190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89440" y="3164040"/>
            <a:ext cx="176400" cy="190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977360" y="3084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789440" y="3164040"/>
            <a:ext cx="176400" cy="190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73600" y="35053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826920" y="4789440"/>
            <a:ext cx="2554560" cy="711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60400" y="39384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лощадь осевого сечения цилиндра равна 10 м</a:t>
            </a:r>
            <a:r>
              <a:rPr b="1" lang="ru-RU" sz="2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, а площадь основания равна 5 м</a:t>
            </a:r>
            <a:r>
              <a:rPr b="1" lang="ru-RU" sz="2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. Найдите высоту цилинд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41320" y="2467080"/>
            <a:ext cx="2540160" cy="3062160"/>
          </a:xfrm>
          <a:prstGeom prst="can">
            <a:avLst>
              <a:gd name="adj" fmla="val 25000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98480" y="2830680"/>
            <a:ext cx="255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6920" y="5153040"/>
            <a:ext cx="255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60640" y="27874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058840" y="512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61080" y="4897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60800" y="25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435840" y="2560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08840" y="4897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41040" y="5114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862280" y="2371680"/>
            <a:ext cx="51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08840" y="4675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826920" y="2844360"/>
            <a:ext cx="871560" cy="6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855720" y="2842920"/>
            <a:ext cx="2149560" cy="16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871560" y="2844720"/>
            <a:ext cx="1452600" cy="11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130400" y="3438000"/>
            <a:ext cx="2235240" cy="17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855720" y="3003120"/>
            <a:ext cx="2511360" cy="19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712880" y="3846240"/>
            <a:ext cx="1655640" cy="130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263680" y="4325760"/>
            <a:ext cx="1089000" cy="8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800440" y="4716000"/>
            <a:ext cx="58104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50240" y="377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857840" y="2909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019400" y="1633680"/>
                <a:ext cx="2949840" cy="17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π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4970520" y="3762360"/>
                <a:ext cx="5079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6181560" y="3527280"/>
                <a:ext cx="2710080" cy="15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"/>
          <p:cNvSpPr/>
          <p:nvPr/>
        </p:nvSpPr>
        <p:spPr>
          <a:xfrm>
            <a:off x="4857840" y="4376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423680" y="396252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265800" y="4324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177800" y="526896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4606920" y="5110200"/>
                <a:ext cx="1214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π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5744160" y="5381640"/>
            <a:ext cx="3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741240" y="5108400"/>
            <a:ext cx="3249720" cy="819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66840" y="255600"/>
            <a:ext cx="85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Высота цилиндра равна 8 см, радиус равен 5 см. Найдите площадь сечения цилиндра плоскостью, параллельной его оси, если расстояние между этой плоскостью и осью цилиндра равно 3 см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54200" y="2787480"/>
            <a:ext cx="3236760" cy="3164040"/>
          </a:xfrm>
          <a:prstGeom prst="can">
            <a:avLst>
              <a:gd name="adj" fmla="val 25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06520" y="3090960"/>
            <a:ext cx="13176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320920" y="5472000"/>
            <a:ext cx="13176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319480" y="3178080"/>
            <a:ext cx="29880" cy="2394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001880" y="5124240"/>
            <a:ext cx="1060200" cy="6238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1001880" y="2757240"/>
            <a:ext cx="1058760" cy="623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69840" y="3363840"/>
            <a:ext cx="0" cy="2424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028960" y="2752560"/>
            <a:ext cx="14040" cy="236700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957240" y="5529240"/>
            <a:ext cx="1407960" cy="247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1566720" y="5413320"/>
            <a:ext cx="812880" cy="115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477520" y="5262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527200" y="2897280"/>
            <a:ext cx="51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51320" y="5958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509840" y="5457960"/>
            <a:ext cx="18864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654200" y="5443200"/>
            <a:ext cx="10152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03920" y="3112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99080" y="2344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029320" y="4740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972720" y="2786040"/>
            <a:ext cx="1058760" cy="2962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956880" y="3073320"/>
            <a:ext cx="536760" cy="1527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1479600" y="3957480"/>
            <a:ext cx="536400" cy="1527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67520" y="5000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440960" y="28224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10600" y="2841480"/>
            <a:ext cx="21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534560" y="3321000"/>
            <a:ext cx="339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BC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AB</a:t>
            </a:r>
            <a:r>
              <a:rPr b="1" lang="en-US" sz="2000" spc="-1" strike="noStrike">
                <a:solidFill>
                  <a:srgbClr val="000000"/>
                </a:solidFill>
                <a:latin typeface=""/>
              </a:rPr>
              <a:t>·AD, H=AB=8</a:t>
            </a:r>
            <a:r>
              <a:rPr b="1" lang="ru-RU" sz="2000" spc="-1" strike="noStrike">
                <a:solidFill>
                  <a:srgbClr val="000000"/>
                </a:solidFill>
                <a:latin typeface=""/>
              </a:rPr>
              <a:t> см</a:t>
            </a:r>
            <a:r>
              <a:rPr b="0" lang="ru-RU" sz="1800" spc="-1" strike="noStrike">
                <a:solidFill>
                  <a:srgbClr val="000000"/>
                </a:solidFill>
                <a:latin typeface="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64480" y="4172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49680" y="3843360"/>
            <a:ext cx="36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асстояние от О д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582080" y="44528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5018040" y="4489560"/>
                <a:ext cx="3110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91" name=""/>
          <p:cNvSpPr/>
          <p:nvPr/>
        </p:nvSpPr>
        <p:spPr>
          <a:xfrm>
            <a:off x="5200920" y="4467240"/>
            <a:ext cx="29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,   AK=KD, AK=4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706280" y="4960800"/>
            <a:ext cx="3806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=8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м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BC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8</a:t>
            </a:r>
            <a:r>
              <a:rPr b="1" lang="en-US" sz="2000" spc="-1" strike="noStrike">
                <a:solidFill>
                  <a:srgbClr val="000000"/>
                </a:solidFill>
                <a:latin typeface=""/>
              </a:rPr>
              <a:t>·8=64 (</a:t>
            </a:r>
            <a:r>
              <a:rPr b="1" lang="ru-RU" sz="2000" spc="-1" strike="noStrike">
                <a:solidFill>
                  <a:srgbClr val="000000"/>
                </a:solidFill>
                <a:latin typeface=""/>
              </a:rPr>
              <a:t>с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693800" y="5570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2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067520" y="196920"/>
            <a:ext cx="1901880" cy="1901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9960" y="1528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вести понятие цилиндрической поверхности, цилиндра и его элементов (боковая поверхность, основания, образующие, ось, высота, радиу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ести формулы для вычисления площадей боковой и полной поверхностей цилиндра; рассмотреть типовые задачи по изучаемой т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595440" y="4632480"/>
            <a:ext cx="2859120" cy="73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17680" y="219240"/>
            <a:ext cx="82278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Осевое сечение  цилиндра – квадрат, диагональ которого равна 2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Найдите: а) высоту цилиндра; б) площадь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основания цилинд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23880" y="2527200"/>
            <a:ext cx="2859120" cy="2830680"/>
          </a:xfrm>
          <a:prstGeom prst="can">
            <a:avLst>
              <a:gd name="adj" fmla="val 25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857240" y="2844720"/>
            <a:ext cx="158760" cy="103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930320" y="287352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57240" y="4960800"/>
            <a:ext cx="189000" cy="104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23880" y="2873520"/>
            <a:ext cx="287352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5006880"/>
            <a:ext cx="287352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955880" y="4911840"/>
            <a:ext cx="3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035080" y="2459160"/>
            <a:ext cx="51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49440" y="567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86480" y="5037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84680" y="2495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496320" y="2625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510360" y="475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253400" y="2495520"/>
            <a:ext cx="273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D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=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, CD=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C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A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5405400" y="3708360"/>
                <a:ext cx="633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4259160" y="5049720"/>
                <a:ext cx="189252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2" name=""/>
          <p:cNvSpPr/>
          <p:nvPr/>
        </p:nvSpPr>
        <p:spPr>
          <a:xfrm>
            <a:off x="5860440" y="381492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179600" y="455760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=0,5AD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6087960" y="4527720"/>
                <a:ext cx="557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5" name=""/>
          <p:cNvSpPr/>
          <p:nvPr/>
        </p:nvSpPr>
        <p:spPr>
          <a:xfrm>
            <a:off x="6512760" y="454176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073400" y="5137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71000" y="5919840"/>
            <a:ext cx="10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=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672080" y="5913360"/>
                <a:ext cx="504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5013360" y="586260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609480" y="2887560"/>
            <a:ext cx="2845080" cy="209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21200" y="262080"/>
            <a:ext cx="882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ая фигура получается в сечении цилиндр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лоскостью, проходящей перпендикулярно ос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илинд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1960" y="171288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К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53160" y="2351160"/>
            <a:ext cx="870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ая фигура получается в сечении цилиндр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лоскостью, проходящей через ось цилинд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76360" y="3527280"/>
            <a:ext cx="79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65120" y="4179960"/>
            <a:ext cx="707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ему равна площадь осевого сечени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вностороннего цилиндра, высот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торого равна 6 с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93800" y="5776920"/>
            <a:ext cx="77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36 см</a:t>
            </a:r>
            <a:r>
              <a:rPr b="1" lang="en-US" sz="2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цилиндрической поверхности, цилин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осевого сечения цилиндра, его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гие виды сечений цилин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равностороннего цилин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касательной плоскости цилин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ертка цилин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улы боковой и полной поверхности цилин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2800" y="276120"/>
            <a:ext cx="167148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Понятие цилиндрической поверхности, цилинд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611680" y="1849320"/>
            <a:ext cx="2667240" cy="2000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112920" y="404964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26920" y="1628640"/>
            <a:ext cx="291492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Понятие цилиндрической поверхности, цилинд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51040" y="1600200"/>
            <a:ext cx="324936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5880" y="21207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819760" y="3645000"/>
            <a:ext cx="235260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Понятие цилиндрической поверхности, цилинд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00120" y="1957320"/>
            <a:ext cx="1952640" cy="3810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Понятие цилиндрической поверхности, цилинд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727280" y="1700280"/>
            <a:ext cx="6755400" cy="4534920"/>
            <a:chOff x="1727280" y="1700280"/>
            <a:chExt cx="6755400" cy="4534920"/>
          </a:xfrm>
        </p:grpSpPr>
        <p:grpSp>
          <p:nvGrpSpPr>
            <p:cNvPr id="67" name=""/>
            <p:cNvGrpSpPr/>
            <p:nvPr/>
          </p:nvGrpSpPr>
          <p:grpSpPr>
            <a:xfrm>
              <a:off x="1727280" y="1700280"/>
              <a:ext cx="6755400" cy="4534920"/>
              <a:chOff x="1727280" y="1700280"/>
              <a:chExt cx="6755400" cy="4534920"/>
            </a:xfrm>
          </p:grpSpPr>
          <p:sp>
            <p:nvSpPr>
              <p:cNvPr id="68" name=""/>
              <p:cNvSpPr/>
              <p:nvPr/>
            </p:nvSpPr>
            <p:spPr>
              <a:xfrm>
                <a:off x="4265640" y="2058840"/>
                <a:ext cx="2448000" cy="862920"/>
              </a:xfrm>
              <a:prstGeom prst="ellipse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330720" y="4723920"/>
                <a:ext cx="2447640" cy="1008000"/>
              </a:xfrm>
              <a:prstGeom prst="ellipse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3330360" y="2419200"/>
                <a:ext cx="934920" cy="280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5778360" y="2491920"/>
                <a:ext cx="936720" cy="280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4122360" y="1700280"/>
                <a:ext cx="1584360" cy="4463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4770360" y="2419200"/>
                <a:ext cx="719280" cy="43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483080" y="5227200"/>
                <a:ext cx="12952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489640" y="2491920"/>
                <a:ext cx="0" cy="280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5273640" y="508428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275080" y="5084280"/>
                <a:ext cx="180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728360" y="3808080"/>
                <a:ext cx="157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Образующа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3259080" y="3715560"/>
                <a:ext cx="576360" cy="2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727280" y="4455720"/>
                <a:ext cx="169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Ось цилиндр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3403440" y="4292280"/>
                <a:ext cx="136692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345800" y="3808080"/>
                <a:ext cx="97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ысо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5635080" y="4076280"/>
                <a:ext cx="172908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096720" y="1790280"/>
                <a:ext cx="95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Радиу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978360" y="1987200"/>
                <a:ext cx="1008000" cy="64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82720" y="4292280"/>
                <a:ext cx="5400720" cy="1942920"/>
              </a:xfrm>
              <a:prstGeom prst="parallelogram">
                <a:avLst>
                  <a:gd name="adj" fmla="val 6949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72000" y="1719000"/>
                <a:ext cx="31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553440" y="4382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62720" y="2538000"/>
                <a:ext cx="63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||</a:t>
                </a:r>
                <a:r>
                  <a:rPr b="1" lang="el-GR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30160" y="5319360"/>
                <a:ext cx="135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Осн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flipV="1">
                <a:off x="5130360" y="5443200"/>
                <a:ext cx="20890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flipV="1">
                <a:off x="5922720" y="2563560"/>
                <a:ext cx="1873080" cy="28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5435640" y="2421000"/>
              <a:ext cx="7164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27640" y="51926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130560" y="1484280"/>
            <a:ext cx="5040360" cy="1728720"/>
          </a:xfrm>
          <a:prstGeom prst="parallelogram">
            <a:avLst>
              <a:gd name="adj" fmla="val 728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128000" y="3176640"/>
            <a:ext cx="358560" cy="503280"/>
          </a:xfrm>
          <a:custGeom>
            <a:avLst/>
            <a:gdLst>
              <a:gd name="textAreaLeft" fmla="*/ 62640 w 358560"/>
              <a:gd name="textAreaRight" fmla="*/ 259920 w 35856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168640"/>
            <a:ext cx="2160720" cy="126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Понятие цилиндрической поверхности, цилинд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580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41920" y="3429000"/>
            <a:ext cx="393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572000" y="1520640"/>
            <a:ext cx="0" cy="482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6908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60720" y="144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6600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3440" y="35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1800" y="256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24440" y="4998960"/>
            <a:ext cx="177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ямой цилин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4391280" y="2024640"/>
            <a:ext cx="2520720" cy="280836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372360" y="2168640"/>
            <a:ext cx="646560" cy="25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0920" y="2028960"/>
            <a:ext cx="2613240" cy="2798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5400" y="493380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линдр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ерх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Сечения цилинд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евое сечение - прямо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2565360"/>
            <a:ext cx="2160720" cy="331164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953000">
            <a:off x="1763640" y="3141360"/>
            <a:ext cx="2509920" cy="2200320"/>
          </a:xfrm>
          <a:prstGeom prst="parallelogram">
            <a:avLst>
              <a:gd name="adj" fmla="val 5145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5013360"/>
            <a:ext cx="215928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2133720"/>
            <a:ext cx="0" cy="41036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2924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54450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411280" y="314172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411280" y="2997360"/>
            <a:ext cx="648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411280" y="2852280"/>
            <a:ext cx="93672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411280" y="2781360"/>
            <a:ext cx="122400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411280" y="342864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843280" y="4076280"/>
            <a:ext cx="79200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276720" y="4653000"/>
            <a:ext cx="3585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12920" y="5321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36560" y="2584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0" y="2781360"/>
            <a:ext cx="1729080" cy="2735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2:19:40Z</dcterms:created>
  <dc:creator>Кружок</dc:creator>
  <dc:description/>
  <dc:language>en-US</dc:language>
  <cp:lastModifiedBy>BLACKCLASSIC</cp:lastModifiedBy>
  <dcterms:modified xsi:type="dcterms:W3CDTF">2019-12-19T20:18:33Z</dcterms:modified>
  <cp:revision>33</cp:revision>
  <dc:subject/>
  <dc:title>Слайд 1</dc:title>
</cp:coreProperties>
</file>