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7.jpeg" ContentType="image/jpeg"/>
  <Override PartName="/ppt/media/image13.png" ContentType="image/png"/>
  <Override PartName="/ppt/media/image16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0579-588F-4963-B653-25C9B5373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2DD1-492B-4DD9-B404-AF26F1D03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391E-27BE-4B6D-96C5-BFA99A741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08A7-12E6-4F5D-BC4B-8764CD169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A189-E30B-4ACA-8226-BCE7F4C03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B855-3F38-498B-8E3B-B7F9E8E1E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89B6-3EC7-4E86-822B-DDB23E602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56B0-E33A-47B8-9314-B6D70D7B2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CB0A-A8E2-4F38-8ECD-8154D04DD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0CFB-E385-4DD8-BE6C-B11D0CE2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82B7-09B3-45F1-91FC-78EF8B7B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E506-CC41-4E3B-9948-A7C54BFF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6B861-9FEF-4404-B76C-2F72FB51971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4"/>
          <p:cNvSpPr/>
          <p:nvPr/>
        </p:nvSpPr>
        <p:spPr>
          <a:xfrm>
            <a:off x="611280" y="549360"/>
            <a:ext cx="8137440" cy="53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Bookman Old Style"/>
                <a:ea typeface="Verdana"/>
              </a:rPr>
              <a:t>Урок    матема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Bookman Old Style"/>
                <a:ea typeface="Verdana"/>
              </a:rPr>
              <a:t>УМК  «Школа Росс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Bookman Old Style"/>
                <a:ea typeface="Verdana"/>
              </a:rPr>
              <a:t>1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Bookman Old Style"/>
                <a:ea typeface="Verdana"/>
              </a:rPr>
              <a:t>«Числа 6  и 7. Письмо цифры 7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68"/>
                </a:solidFill>
                <a:latin typeface="Bookman Old Style"/>
                <a:ea typeface="Verdana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3"/>
          <p:cNvSpPr/>
          <p:nvPr/>
        </p:nvSpPr>
        <p:spPr>
          <a:xfrm>
            <a:off x="395280" y="333360"/>
            <a:ext cx="799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Индивидуальная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Заполни пропус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1116000" y="1197000"/>
            <a:ext cx="6985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+? = 5                    ? +? = 4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+? = 5                    ? – 1 =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+? = 5                    ? +? =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+? = 5                    6 – 1 =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+? = 4                    7 - ? =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+? = 6                    ? + 1 =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0" y="3860640"/>
            <a:ext cx="3203640" cy="264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4876920" y="0"/>
            <a:ext cx="4267080" cy="1743120"/>
          </a:xfrm>
          <a:prstGeom prst="rect">
            <a:avLst/>
          </a:prstGeom>
          <a:ln w="0">
            <a:noFill/>
          </a:ln>
        </p:spPr>
      </p:pic>
      <p:sp>
        <p:nvSpPr>
          <p:cNvPr id="66" name="TextBox 6"/>
          <p:cNvSpPr/>
          <p:nvPr/>
        </p:nvSpPr>
        <p:spPr>
          <a:xfrm>
            <a:off x="0" y="549360"/>
            <a:ext cx="485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Поставьте нужные зна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7"/>
          <p:cNvSpPr/>
          <p:nvPr/>
        </p:nvSpPr>
        <p:spPr>
          <a:xfrm>
            <a:off x="1042920" y="1916280"/>
            <a:ext cx="6265800" cy="35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○  4         4  ○  3       5+1 ○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○  6         1  ○  6       7- 1 ○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○  7         2  ○  5       4+2 ○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тайте равен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тайте неравен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ьте  два неравенства с числами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и 7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4876920" y="0"/>
            <a:ext cx="4267080" cy="1743120"/>
          </a:xfrm>
          <a:prstGeom prst="rect">
            <a:avLst/>
          </a:prstGeom>
          <a:ln w="0">
            <a:noFill/>
          </a:ln>
        </p:spPr>
      </p:pic>
      <p:sp>
        <p:nvSpPr>
          <p:cNvPr id="69" name="TextBox 6"/>
          <p:cNvSpPr/>
          <p:nvPr/>
        </p:nvSpPr>
        <p:spPr>
          <a:xfrm>
            <a:off x="0" y="189000"/>
            <a:ext cx="485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Поставьте нужные зна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1042920" y="1916280"/>
            <a:ext cx="6265800" cy="41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4         4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3       5+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6         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6       7- 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7         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5       4+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22226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Прочитайте равен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22226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Прочитайте неравен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22226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Составьте  два неравенства с числами  </a:t>
            </a:r>
            <a:r>
              <a:rPr b="0" lang="en-US" sz="1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&gt;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Самоопределение к деятель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6840" y="1600200"/>
            <a:ext cx="793116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 </a:t>
            </a:r>
            <a:r>
              <a:rPr b="0" lang="ru-RU" sz="1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Откройте учебник на странице</a:t>
            </a:r>
            <a:r>
              <a:rPr b="1" lang="ru-RU" sz="24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 5</a:t>
            </a:r>
            <a:r>
              <a:rPr b="1" lang="en-US" sz="24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. Прочитайте вопрос к рисунку на полях . Восстановите последовательность, поставьте карточки с числ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2268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Прочитайте числа с кон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2268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Как вы думаете, что мы должны узнать на этом урок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6551640" y="3517920"/>
            <a:ext cx="259236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620640"/>
            <a:ext cx="749952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lnSpc>
                <a:spcPct val="100000"/>
              </a:lnSpc>
              <a:spcBef>
                <a:spcPts val="601"/>
              </a:spcBef>
              <a:buClr>
                <a:srgbClr val="22226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Локализация индивидуальных затрудн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lnSpc>
                <a:spcPct val="100000"/>
              </a:lnSpc>
              <a:spcBef>
                <a:spcPts val="601"/>
              </a:spcBef>
              <a:buClr>
                <a:srgbClr val="22226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Построение проекта коррекции выявленных затрудн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lnSpc>
                <a:spcPct val="100000"/>
              </a:lnSpc>
              <a:spcBef>
                <a:spcPts val="601"/>
              </a:spcBef>
              <a:buClr>
                <a:srgbClr val="22226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Реализация построенного про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lnSpc>
                <a:spcPct val="100000"/>
              </a:lnSpc>
              <a:spcBef>
                <a:spcPts val="601"/>
              </a:spcBef>
              <a:buClr>
                <a:srgbClr val="22226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Обобщение затрудн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4140360" y="3068640"/>
            <a:ext cx="500364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5689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Работа по учебнику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3995640" y="612720"/>
            <a:ext cx="4464000" cy="579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5940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Работа по учебнику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3564000" y="630360"/>
            <a:ext cx="4968720" cy="62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2626920" y="764640"/>
            <a:ext cx="5232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Физкультминут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Одолела нас дремо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Шевельнуться неохо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Ну-ка, делайте со мно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Упражнение тако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Вверх, вниз, потянис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Все ребята дружно вста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И на месте зашага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На носочках потянул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Как пружинки мы присел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А потом тихонько се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Самостоятельная работа с самопровер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1476360" y="1268280"/>
            <a:ext cx="5759640" cy="2881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7020000" y="4076640"/>
            <a:ext cx="21240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39408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597a0"/>
                </a:solidFill>
                <a:latin typeface="Times New Roman"/>
                <a:ea typeface="Times New Roman"/>
              </a:rPr>
              <a:t>Включение в систему знаний и повт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4"/>
          <p:cNvSpPr/>
          <p:nvPr/>
        </p:nvSpPr>
        <p:spPr>
          <a:xfrm>
            <a:off x="324000" y="1700280"/>
            <a:ext cx="3743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597a0"/>
                </a:solidFill>
                <a:latin typeface="Times New Roman"/>
                <a:ea typeface="Times New Roman"/>
              </a:rPr>
              <a:t>Работа по учебни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597a0"/>
                </a:solidFill>
                <a:latin typeface="Times New Roman"/>
                <a:ea typeface="Times New Roman"/>
              </a:rPr>
              <a:t>стр. </a:t>
            </a:r>
            <a:r>
              <a:rPr b="1" lang="ru-RU" sz="2800" spc="-1" strike="noStrike">
                <a:solidFill>
                  <a:srgbClr val="4597a0"/>
                </a:solidFill>
                <a:latin typeface="Times New Roman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4597a0"/>
                </a:solidFill>
                <a:latin typeface="Times New Roman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4211640" y="189000"/>
            <a:ext cx="4681440" cy="59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рямоугольник 4"/>
          <p:cNvSpPr/>
          <p:nvPr/>
        </p:nvSpPr>
        <p:spPr>
          <a:xfrm>
            <a:off x="900000" y="18900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Тип урока: Урок рефлек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395280" y="1484280"/>
            <a:ext cx="828036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Тема уро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«Числа 6 и 7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Письмо цифры 7»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39408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Включение в систему знаний и повт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4"/>
          <p:cNvSpPr/>
          <p:nvPr/>
        </p:nvSpPr>
        <p:spPr>
          <a:xfrm>
            <a:off x="324000" y="1700280"/>
            <a:ext cx="3743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Работа по учебни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стр. </a:t>
            </a:r>
            <a:r>
              <a:rPr b="1" lang="ru-RU" sz="2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4140360" y="189000"/>
            <a:ext cx="482436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58996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Работа в тетради на печатной основе  стр.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5076720" y="907920"/>
            <a:ext cx="4067280" cy="5950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2"/>
          <a:stretch/>
        </p:blipFill>
        <p:spPr>
          <a:xfrm>
            <a:off x="1116000" y="1484280"/>
            <a:ext cx="2448000" cy="27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Рефлекс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6840" y="1599840"/>
            <a:ext cx="721044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- Определи, не вычисляя, что больш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6 без одного или 6 да ещё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222268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Кто хорошо разобрался в материале уро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222268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Кому нужна помощ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222268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Оцени себ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4067280" y="3213000"/>
            <a:ext cx="507672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51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Интернет ресурсы:</a:t>
            </a:r>
            <a:br>
              <a:rPr sz="2400"/>
            </a:br>
            <a:r>
              <a:rPr b="0" lang="smj-NO" sz="1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http://templated.ru/obrazovanie/635-geometriya.html</a:t>
            </a:r>
            <a:r>
              <a:rPr b="0" lang="ru-RU" sz="1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;</a:t>
            </a:r>
            <a:br>
              <a:rPr sz="1800"/>
            </a:br>
            <a:r>
              <a:rPr b="0" lang="smj-NO" sz="1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 http://www.proshkolu.ru/user/Nadegda797/blog/411247/ </a:t>
            </a:r>
            <a:r>
              <a:rPr b="0" lang="ru-RU" sz="1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;</a:t>
            </a:r>
            <a:br>
              <a:rPr sz="1800"/>
            </a:br>
            <a:r>
              <a:rPr b="0" lang="smj-NO" sz="1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https://infourok.ru/fizminutki_na_urokah_matematiki-321144.htm</a:t>
            </a:r>
            <a:r>
              <a:rPr b="0" lang="ru-RU" sz="1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;</a:t>
            </a:r>
            <a:br>
              <a:rPr sz="1800"/>
            </a:br>
            <a:r>
              <a:rPr b="0" lang="en-US" sz="1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http://boombob.ru/img/picture/May/13/9d6a615d576f04596dfd835d83afe712/1.jpg</a:t>
            </a:r>
            <a:r>
              <a:rPr b="0" lang="ru-RU" sz="1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;</a:t>
            </a:r>
            <a:br>
              <a:rPr sz="1800"/>
            </a:br>
            <a:r>
              <a:rPr b="0" lang="smj-NO" sz="1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http://mywishlist.ru/pic/i/wish/orig/001/786/156.jpeg</a:t>
            </a:r>
            <a:r>
              <a:rPr b="0" lang="ru-RU" sz="1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;</a:t>
            </a:r>
            <a:br>
              <a:rPr sz="1800"/>
            </a:br>
            <a:r>
              <a:rPr b="0" lang="smj-NO" sz="1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http://sad-bolshe.berestovica.edu.by/ru/sm.aspx?guid=12533</a:t>
            </a:r>
            <a:r>
              <a:rPr b="0" lang="ru-RU" sz="1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;</a:t>
            </a:r>
            <a:br>
              <a:rPr sz="1800"/>
            </a:br>
            <a:r>
              <a:rPr b="0" lang="smj-NO" sz="1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http://cdn.toonvectors.com/images/84/38414/toonvectors-38414-940.jpg</a:t>
            </a:r>
            <a:r>
              <a:rPr b="0" lang="ru-RU" sz="1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;</a:t>
            </a:r>
            <a:br>
              <a:rPr sz="1800"/>
            </a:br>
            <a:r>
              <a:rPr b="0" lang="smj-NO" sz="1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http://www.picshare.ru/uploads/150530/a35g7bi92N.png</a:t>
            </a:r>
            <a:r>
              <a:rPr b="0" lang="ru-RU" sz="1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;</a:t>
            </a:r>
            <a:br>
              <a:rPr sz="1800"/>
            </a:br>
            <a:r>
              <a:rPr b="0" lang="smj-NO" sz="1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https://www.colourbox.com/preview/9774844-cartoon-boy-and-girl-study-together.jpg</a:t>
            </a:r>
            <a:r>
              <a:rPr b="0" lang="ru-RU" sz="1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;</a:t>
            </a:r>
            <a:br>
              <a:rPr sz="1800"/>
            </a:br>
            <a:r>
              <a:rPr b="0" lang="smj-NO" sz="1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http://nachalo4ka.ru/wp-content/uploads/2014/06/skorochtenie.png</a:t>
            </a:r>
            <a:r>
              <a:rPr b="0" lang="ru-RU" sz="1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;</a:t>
            </a:r>
            <a:br>
              <a:rPr sz="1800"/>
            </a:br>
            <a:r>
              <a:rPr b="0" lang="smj-NO" sz="1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http://detskiy1972sad.caduk.ru/images/1.png</a:t>
            </a:r>
            <a:r>
              <a:rPr b="0" lang="ru-RU" sz="1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;</a:t>
            </a:r>
            <a:br>
              <a:rPr sz="1800"/>
            </a:br>
            <a:r>
              <a:rPr b="0" lang="smj-NO" sz="1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https://ds02.infourok.ru/uploads/ex/07ba/00017ad1-e8087023/hello_html_762be42c.png</a:t>
            </a:r>
            <a:r>
              <a:rPr b="0" lang="ru-RU" sz="1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;</a:t>
            </a:r>
            <a:br>
              <a:rPr sz="1800"/>
            </a:br>
            <a:r>
              <a:rPr b="0" lang="smj-NO" sz="1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https://fs00.infourok.ru/images/doc/225/31045/1/img11.jpg</a:t>
            </a:r>
            <a:r>
              <a:rPr b="0" lang="ru-RU" sz="1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;</a:t>
            </a:r>
            <a:br>
              <a:rPr sz="1800"/>
            </a:br>
            <a:r>
              <a:rPr b="0" lang="smj-NO" sz="1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http://globuss24.ru/web/userfiles/image/doc/hello_html_m49e33d57.gif</a:t>
            </a:r>
            <a:r>
              <a:rPr b="0" lang="ru-RU" sz="1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;</a:t>
            </a:r>
            <a:br>
              <a:rPr sz="1800"/>
            </a:br>
            <a:r>
              <a:rPr b="0" lang="smj-NO" sz="1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http://www.playing-field.ru/img/2015/052203/4309888</a:t>
            </a:r>
            <a:r>
              <a:rPr b="0" lang="ru-RU" sz="1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;</a:t>
            </a:r>
            <a:br>
              <a:rPr sz="1800"/>
            </a:br>
            <a:r>
              <a:rPr b="0" lang="smj-NO" sz="1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http://gdzlol.ru/matematika-1-klass-moro-rabochaya-tetrad.html</a:t>
            </a:r>
            <a:r>
              <a:rPr b="0" lang="ru-RU" sz="1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;</a:t>
            </a:r>
            <a:br>
              <a:rPr sz="1800"/>
            </a:br>
            <a:r>
              <a:rPr b="0" lang="smj-NO" sz="1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http://gdz.ru/t/8732/0/719e9c107304.png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2400"/>
            </a:b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1280" y="242100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Спасибо за вним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0" y="3933720"/>
            <a:ext cx="320364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5"/>
          <p:cNvSpPr/>
          <p:nvPr/>
        </p:nvSpPr>
        <p:spPr>
          <a:xfrm>
            <a:off x="684360" y="260280"/>
            <a:ext cx="8280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Методы: </a:t>
            </a:r>
            <a:r>
              <a:rPr b="0" lang="ru-RU" sz="24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словесный; наглядный; практичес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Формы:  </a:t>
            </a:r>
            <a:r>
              <a:rPr b="0" lang="ru-RU" sz="24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индивидуальная; работа в па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Сред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68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М.И.Моро  « Математика». Учебник для 1 клас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Рабочая тетрадь ч. 1. Издательство Москва. «Просвещение», 2018г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презентац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68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интерактивная доска, проектор, компьют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3"/>
          <p:cNvSpPr/>
          <p:nvPr/>
        </p:nvSpPr>
        <p:spPr>
          <a:xfrm>
            <a:off x="324000" y="18900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Цели урока</a:t>
            </a:r>
            <a:r>
              <a:rPr b="1" lang="ru-RU" sz="1800" spc="-1" strike="noStrike">
                <a:solidFill>
                  <a:srgbClr val="222268"/>
                </a:solidFill>
                <a:latin typeface="Bookman Old Style"/>
              </a:rPr>
              <a:t>:</a:t>
            </a:r>
            <a:r>
              <a:rPr b="1" lang="ru-RU" sz="1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в ходе практической работы и наблюдений познакомить с составом чисел 6 и 7; научить писать цифру 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4"/>
          <p:cNvSpPr/>
          <p:nvPr/>
        </p:nvSpPr>
        <p:spPr>
          <a:xfrm>
            <a:off x="395280" y="1052640"/>
            <a:ext cx="8497800" cy="50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Планируемые результа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Предметные:</a:t>
            </a:r>
            <a:r>
              <a:rPr b="0" i="1" lang="ru-RU" sz="1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 научится записывать цифрой число 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Метапредмет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познавательные:</a:t>
            </a:r>
            <a:r>
              <a:rPr b="0" i="1" lang="ru-RU" sz="1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 ориентироваться в своей системе знаний; выполнять учебно – познавательные действия; определять закономерность  следования объектов и использовать ее для выполнения зад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коммуникативные:</a:t>
            </a:r>
            <a:r>
              <a:rPr b="0" i="1" lang="ru-RU" sz="1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 понимать и принимать элементарные правила работы в группе: проявлять доброжелательное отношение к  сверстникам, стремиться прислушиваться к мнению одноклассни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регулятивные:</a:t>
            </a:r>
            <a:r>
              <a:rPr b="0" i="1" lang="ru-RU" sz="1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  принимать и сохранять учебную задачу; планировать в сотрудничестве с учителем и одноклассниками необходимые действ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Личностные:</a:t>
            </a:r>
            <a:r>
              <a:rPr b="0" i="1" lang="ru-RU" sz="1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 формирование устойчивой мотивации к самостоятельной и коллективной  аналитической деятельности, положительного отношения к познавательной  деятель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3"/>
          <p:cNvSpPr/>
          <p:nvPr/>
        </p:nvSpPr>
        <p:spPr>
          <a:xfrm>
            <a:off x="468360" y="333360"/>
            <a:ext cx="8351640" cy="64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Структура урока рефлекс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2268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Организационный момент.  Мотивация к учебной деятельности. -2м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2268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Актуализация знаний -5м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2268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Самоопределение к деятельности-5м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2268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Локализация индивидуальных затруднений -5 м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Удобнее всего работать по вопроса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Какое задание я выполня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Какое знание я использовал / каким способом решал задач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Что делал сначала? Пото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Где возникло затруднени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Почему? Чего мне хватает для правильного реш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2268"/>
              </a:buClr>
              <a:buFont typeface="Bookman Old Style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Построение проекта коррекции выявленных затруднений- 3м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2268"/>
              </a:buClr>
              <a:buFont typeface="Bookman Old Style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Реализация построенного проекта </a:t>
            </a:r>
            <a:r>
              <a:rPr b="0" i="1" lang="ru-RU" sz="1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6м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2268"/>
              </a:buClr>
              <a:buFont typeface="Bookman Old Style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Обобщение затруднений- 4м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2268"/>
              </a:buClr>
              <a:buFont typeface="Bookman Old Style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Самостоятельная работа с самопроверкой по эталону – 5м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2268"/>
              </a:buClr>
              <a:buFont typeface="Bookman Old Style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Включение в систему знаний и повторение -7м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2268"/>
              </a:buClr>
              <a:buFont typeface="Bookman Old Style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Рефлексия учебной деятельности на уроке- 3м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2268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3"/>
          <p:cNvSpPr/>
          <p:nvPr/>
        </p:nvSpPr>
        <p:spPr>
          <a:xfrm>
            <a:off x="179280" y="476280"/>
            <a:ext cx="849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Организационный момент.  Мотивация к учебн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826920" y="1268280"/>
            <a:ext cx="5977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Прозвенел звонок,</a:t>
            </a:r>
            <a:br>
              <a:rPr sz="1800"/>
            </a:br>
            <a:r>
              <a:rPr b="1" lang="ru-RU" sz="1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Начинается урок.</a:t>
            </a:r>
            <a:br>
              <a:rPr sz="1800"/>
            </a:br>
            <a:r>
              <a:rPr b="1" lang="ru-RU" sz="1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Вы за парты дружно сели,</a:t>
            </a:r>
            <a:br>
              <a:rPr sz="1800"/>
            </a:br>
            <a:r>
              <a:rPr b="1" lang="ru-RU" sz="1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На меня все посмотре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Встало солнышко давно, </a:t>
            </a:r>
            <a:br>
              <a:rPr sz="1800"/>
            </a:br>
            <a:r>
              <a:rPr b="1" lang="ru-RU" sz="1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Заглянуло к нам в окно,</a:t>
            </a:r>
            <a:br>
              <a:rPr sz="1800"/>
            </a:br>
            <a:r>
              <a:rPr b="1" lang="ru-RU" sz="1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На урок торопит нас –</a:t>
            </a:r>
            <a:br>
              <a:rPr sz="1800"/>
            </a:br>
            <a:r>
              <a:rPr b="1" lang="ru-RU" sz="24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Математика </a:t>
            </a:r>
            <a:r>
              <a:rPr b="1" lang="ru-RU" sz="1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сейчас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4140360" y="2637000"/>
            <a:ext cx="500364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3"/>
          <p:cNvSpPr/>
          <p:nvPr/>
        </p:nvSpPr>
        <p:spPr>
          <a:xfrm>
            <a:off x="287280" y="333360"/>
            <a:ext cx="81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597a0"/>
                </a:solidFill>
                <a:latin typeface="Times New Roman"/>
                <a:ea typeface="Times New Roman"/>
              </a:rPr>
              <a:t>Актуализация зн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468360" y="1052640"/>
            <a:ext cx="482436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-Нарисуй недостающую кошеч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-Понаблюдайте, что меняется?</a:t>
            </a:r>
            <a:r>
              <a:rPr b="1" lang="ru-RU" sz="2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6084720" y="4950000"/>
            <a:ext cx="2772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(Форма туловища, головы, количество усов, направление хвост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281160" y="1816200"/>
            <a:ext cx="559584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26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-Какое туловище будет у кошечки?</a:t>
            </a:r>
            <a:br>
              <a:rPr sz="1800"/>
            </a:br>
            <a:r>
              <a:rPr b="0" lang="ru-RU" sz="1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-А голова?</a:t>
            </a:r>
            <a:br>
              <a:rPr sz="1800"/>
            </a:br>
            <a:r>
              <a:rPr b="0" lang="ru-RU" sz="1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- По сколько усов у кошечки?</a:t>
            </a:r>
            <a:br>
              <a:rPr sz="1800"/>
            </a:br>
            <a:r>
              <a:rPr b="0" lang="ru-RU" sz="1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- Сколько усов у недостающей кошечки?</a:t>
            </a:r>
            <a:br>
              <a:rPr sz="1800"/>
            </a:br>
            <a:r>
              <a:rPr b="0" lang="ru-RU" sz="1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-Понаблюдайте, куда направлен хвост у нарисованных кошечек?</a:t>
            </a:r>
            <a:br>
              <a:rPr sz="1800"/>
            </a:br>
            <a:r>
              <a:rPr b="0" lang="ru-RU" sz="1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-А куда должен быть направлен хвост у пропущенной кошеч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6588000" y="24922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1. Квадрат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6659640" y="292428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2. Кругл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6659640" y="3357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3. 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7"/>
          <p:cNvSpPr/>
          <p:nvPr/>
        </p:nvSpPr>
        <p:spPr>
          <a:xfrm>
            <a:off x="6659640" y="371628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4. Впра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2944800" y="2682720"/>
            <a:ext cx="3475080" cy="34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Фронтальная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2268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Сколько дней в недел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2268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Назови первый день неде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2268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Какой день будет после сред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2268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Какой день будет перед суббот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2268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Каким по счету днем недели является </a:t>
            </a:r>
            <a:r>
              <a:rPr b="1" lang="ru-RU" sz="24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воскресенье</a:t>
            </a:r>
            <a:r>
              <a:rPr b="0" lang="ru-RU" sz="1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2268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Какой день сегодн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2268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Какой был вчер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2268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Bookman Old Style"/>
                <a:ea typeface="Times New Roman"/>
              </a:rPr>
              <a:t>Какой будет завтр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Oksana</cp:lastModifiedBy>
  <dcterms:modified xsi:type="dcterms:W3CDTF">2019-12-26T07:15:10Z</dcterms:modified>
  <cp:revision>242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0100000000000010243100207f6000400038000</vt:lpwstr>
  </property>
</Properties>
</file>