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6.wmf" ContentType="image/x-wmf"/>
  <Override PartName="/ppt/media/image11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16.jpeg" ContentType="image/jpeg"/>
  <Override PartName="/ppt/media/wind.wav" ContentType="audio/x-wav"/>
  <Override PartName="/ppt/media/image5.wmf" ContentType="image/x-wmf"/>
  <Override PartName="/ppt/media/image7.jpeg" ContentType="image/jpeg"/>
  <Override PartName="/ppt/media/image12.jpeg" ContentType="image/jpeg"/>
  <Override PartName="/ppt/media/image13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8A8-215D-4406-9100-B88D2C44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E65-927A-47BB-BD37-DD8297E4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E07-0BCC-4ED6-9E6C-39F11F5C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2D2-67A5-4F56-B892-0DC071E7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A0B-B207-4B2D-A321-20925054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6C8-AFFE-484C-9B46-F9CBDDF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539D-32CC-4938-AF17-8161D19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FB5D-A530-4A2D-903B-725FAC5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DEBA-68C2-485A-9961-4E71495E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E8B8-64E0-429D-941E-1806ECD3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F48-C1E0-4157-B04D-C51EA9F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E1D-C3DE-409C-9DDA-6F17DAB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E4B5-A329-47DA-8976-6EDB6E5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A146-19BC-4201-AEEC-90A9039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9671-B73D-4C6C-859A-AC49775E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8580-9DAA-4AD3-AFEC-2DB5E13F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53F8-CE76-4316-B4DD-3C200070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859-8544-4586-BF05-4F82C3A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C05-1910-46A0-BFF8-649476C0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C8A-FF02-45ED-A5E8-C48C8FF4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469-8926-41A8-B8E4-D0EA679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A79-A3DC-4799-98C9-6F0DA85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42E-3D85-4BBC-820D-C1A2BFA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515-15DC-451F-9DA0-5B0CD69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ED50-7EE1-484C-A5F7-45D9D2BF4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200E-78B6-44B1-854E-FEA0CE689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5002f"/>
                    </a:gs>
                  </a:gsLst>
                  <a:lin ang="135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75002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4468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35640" y="2030040"/>
            <a:ext cx="403704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Задачи на прогрес – сии, дошедшие до нас из древности,  были связаны с запросами жизни: распределение продуктов, деление наследства, строи-  тельство, 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8000" y="2205000"/>
            <a:ext cx="446400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16520" y="1773360"/>
            <a:ext cx="465912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ahoma"/>
              </a:rPr>
              <a:t>Карл Гаусс(1777-185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Нашёл моменталь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сумму всех натуральных чисел от 1 до 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будучи ещё ученик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начальной шко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1+2+3+4+….+99+100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(1+100)+(2+99)+ +(3+98)+…..=101*50=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77840" y="2239920"/>
            <a:ext cx="2282760" cy="309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Индийский царь Шерам позвал к себе изобретат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ля шахматной игры, своего подданного Сету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чтобы наградить его за остроумную выдум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Сета,издеваясь над царём,пот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ребовал за первую клетку шах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матной доски 1 зерно,за втору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2 зерна,за третью 4 зерна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Обрадованный царь посмеял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над Сетой и приказал выд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ему такую награ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Геометрическая прогрес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  </a:t>
            </a: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1;2;4;8;…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292248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cc"/>
                </a:solidFill>
                <a:latin typeface="Tahoma"/>
              </a:rPr>
              <a:t>Прогрессии в нашей жизни.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А.С Пушкин «Евгений Онеги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…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.Не мог он ямба от хоре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Как мы не бились отличить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Ямб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-это стихотворный размер с ударением на чётных слогах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2;4;6;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Номер ударных слогов образуют арифметическую прогресс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Хорей</a:t>
            </a: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-это стихотворный размер с ударением на нечётных слогах сти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Tahoma"/>
              </a:rPr>
              <a:t>Номер ударных слогов образуют арифметическую прогрессию: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1;3;5;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       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При хранении брёвен строевого леса, их укладывают так, 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4 ряду сверху, если в е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основании 12 бревен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d=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-1;а</a:t>
            </a:r>
            <a:r>
              <a:rPr b="0" lang="en-US" sz="1600" spc="-1" strike="noStrike">
                <a:solidFill>
                  <a:srgbClr val="ff33c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+(n-1)d;n=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а=12+(-1)8=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12732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8840" y="563400"/>
            <a:ext cx="795636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Бесконечно убывающая  геометрическая прогресс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Геометрическая прогрессия называется бесконечно убывающей, если модуль её знаменателя меньше един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Tahoma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Tahoma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Tahoma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Tahoma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Tahoma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Tahoma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181080" y="0"/>
            <a:ext cx="857268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Прогрессии ка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частные виды после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довательност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встречаются в древ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них египетских папи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русах и в клинопи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ных табличках вавилоня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2075040"/>
            <a:ext cx="2985840" cy="3936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Арифметическая прогресс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вая последовательность, каждый член которой, начиная со второго, равен предыдущему,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ложенному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одним и тем же числом (разность прогресс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Геометрическая прогресс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вая последовательность не равных нулю чисел, каждый член которой, начиная со второго, равен предыдущему,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умноженном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одно и то же число (знаменатель прогресс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q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844640"/>
          <a:ext cx="8662680" cy="506736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+1</a:t>
                      </a: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; -6; -14; -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10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=</a:t>
                      </a: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+</a:t>
                      </a: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9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2-72=-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; -6; 18; -54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=</a:t>
                      </a: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2(-27)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-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80000" y="6081840"/>
            <a:ext cx="1871640" cy="77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372360" y="6165720"/>
            <a:ext cx="2382840" cy="692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</p:spTree>
  </p:cSld>
  <p:transition spd="slow">
    <p:newsflash/>
    <p:sndAc>
      <p:stSnd>
        <p:snd r:embed="rId6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ahoma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cc"/>
                </a:solidFill>
                <a:latin typeface="Tahoma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BLACKCLASSIC</cp:lastModifiedBy>
  <dcterms:modified xsi:type="dcterms:W3CDTF">2015-01-09T15:35:37Z</dcterms:modified>
  <cp:revision>96</cp:revision>
  <dc:subject/>
  <dc:title>Слайд 1</dc:title>
</cp:coreProperties>
</file>