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F64-6EFE-461B-A71D-FFB2CBBD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CBD-D354-43B0-B9B3-539CFE00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F76-191D-4A8C-BF8F-1947100A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6A2-56F5-4E22-AEC7-2170AABA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CDF7-BF61-4833-B9F9-768E2486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1BB-34A6-4CD0-BC92-6C136B0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156-D3E9-4105-A8F8-5E70A1E7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C79-1896-482D-98FB-36C7A2C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3A4-3968-4146-8DAF-CC291E1C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3A2-68C3-40F7-8066-9C29C01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B300-5412-48C8-99BD-D084C12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34D-909E-40A7-A373-B03733C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5C4-DB8D-4FB5-A245-BD25905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A5B-624A-4C6A-8274-E3BEFD81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78CB-131E-41C7-9823-837A6F35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2B5D-E847-45C5-B089-605200CE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A5BC-E752-4B95-AB4F-63BC364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B482-E834-4525-AE35-2D7CC29D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F6DF-62D3-4253-87E3-2E5B35E1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9F13-EB6D-464D-A15B-27D0979C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3DC1-00FD-4DF9-BC3F-9813562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30C5-3CC6-4BC0-AEAF-A6AD836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8B1-81EA-4B9F-9BF6-DB8B95C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C954-4DF5-405E-9A40-19FFC12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F988-E3D2-4DE8-B71B-9CFEA36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FBA3-DC2D-4C2F-BFAE-C16D72E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2C44-783B-49D5-85F1-DFCFD96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575F-86FC-471A-8968-82D8DE99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F9EC-E73A-430F-8C15-BD72CF68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6187-0262-4198-82BE-431AD973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87E9-E4D1-48CD-8F67-80B81608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9342-F6F3-4A71-BB3C-4DEB34B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0DDE-ABA7-4C71-9371-2142B4E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53F-F584-49FB-851E-EA74ED2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8825-DFFF-4339-AA67-622D28B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9EA9-63FF-4845-B49B-D5CC9E23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9D74-2457-403A-B20C-20447A25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74E6-4263-442A-A76D-33490F3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EF12-C7E1-48EB-A16F-3DDA460E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C54D-EA91-406E-B985-E3CD5C4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5339-A923-4720-91F6-6C5F550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21DA-226C-4114-82A4-AE3587A2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BD2B-3737-41FE-BCDC-D0D98266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3003-64F4-4852-96E0-017CE7E4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644-D3F7-49A4-BD24-B3B60D3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BD13-C441-4236-B3C9-D768529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A9E4-F42C-4BEF-8330-98A7214B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35A8-75AD-472B-8E10-2CE8949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C76F-64F6-427D-A09B-4B5956A2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F383-BE05-4FE4-A403-F1A7A3A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3672-48E4-4348-9C4B-1403FD1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A58D-EE34-4108-8CC9-683A2B4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C0AF-B0D0-40FE-A75F-8E8ED36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1AEE-90F2-4B54-9CDF-AC6294F9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70F2-4C4F-4AEB-A912-E602C826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BB6-05C5-4961-967D-8C4FF491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5A6E-37EA-46C9-B4D1-457C0201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D05B-F916-424A-BA83-428745F8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BFB6-4222-4998-A2FE-19AA928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BEFF-6BD3-405C-9493-55E61CA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26EAE-B339-47F9-AAC3-140A94A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0A46-F020-44D5-BFC3-6EEBDAC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7B58-77B4-49D8-8A05-7302C32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8263-F82F-48CF-9016-5E28EFC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97D2-0D60-4603-9FA8-D3C30C2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A462-DCA9-47E4-A126-1A25020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E5E-FABF-45E2-84B6-F517E63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8D83-AEDF-49C7-AF64-E4A44FD3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1611-355F-4057-9CF7-0703686B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E573D-2C5F-405F-A949-B4C6C46E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90F5F-2CD2-4D84-AEBC-99D4FF51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C7EB-9E20-4A1D-83F8-EE2306A8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6A69-F571-4CC1-A574-05F814AC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E243-A24E-4708-92E5-4FB01A38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7724-CBAC-41BC-9C99-7B76903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44C4-5A01-4044-B114-087066BC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A5B70-EFDD-4409-9618-8241B3C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6A0-44D9-4AFF-AFDF-CD593B7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E5E7-82B8-4523-AE2D-276BA42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1E45-DDB2-4A39-8E20-F01B13C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666D-F729-4612-A184-60950D1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2101-B128-464C-8771-1AAF5E7C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7F33-0445-45B9-A60F-D6CBDF02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6803D-F2CC-4D5F-9856-0070A224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E3CC3-8D99-456D-94E5-6AC88AB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7437-4FF4-4363-9519-11C54DBB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21F9-7CDB-4CC0-8F5C-DB84D75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C697-7EAE-4101-80DC-51217C7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1B1-319D-4A58-A38D-29A2CFB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D6454-3F0E-4CBB-9E58-5C446FE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3841-FE35-4115-B66A-8C16F46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98B9-9F56-4819-B484-7A4C2F7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9738-91B4-481E-8640-B17095F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30BCB-140B-4EB0-826D-A8559F3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A220-82B2-49A3-9C2D-59CF3B02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9DCF-A4B0-4F31-8847-E0CA14E8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6A35-F1A3-4D9B-ACBA-90BC849341E3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11A4-F733-4FF1-9C18-347D96854190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6F70-C5DC-4009-A71F-E538AFE857DA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417-835B-4BA3-B1AF-9F989E38BF0F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E676-9B59-4528-9490-D731397C553D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CF6-3853-4404-AE69-4294BD3A564D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6373-D3A7-48CF-8880-C261D6F73A68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7D6-CBC9-4490-9201-A6B7E0ABCFB4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10" descr=""/>
          <p:cNvPicPr/>
          <p:nvPr/>
        </p:nvPicPr>
        <p:blipFill>
          <a:blip r:embed="rId2"/>
          <a:stretch/>
        </p:blipFill>
        <p:spPr>
          <a:xfrm>
            <a:off x="811080" y="646200"/>
            <a:ext cx="5797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3348000" y="526320"/>
            <a:ext cx="50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«Игра – это огромное светлое окно, через которое в духовный мир ребенка вливается живительный поток представлений, понятий об окружающем мире. Игра – это искра, зажигающая огонек пытливости и любознательности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4267080" y="22150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Картинка 13 из 206"/>
          <p:cNvPicPr/>
          <p:nvPr/>
        </p:nvPicPr>
        <p:blipFill>
          <a:blip r:embed="rId1"/>
          <a:stretch/>
        </p:blipFill>
        <p:spPr>
          <a:xfrm>
            <a:off x="401760" y="171360"/>
            <a:ext cx="2798640" cy="3382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Documents and Settings\Иятта\Рабочий стол\ЭТО СРОЧНО\Новая папка\свиток.gif"/>
          <p:cNvPicPr/>
          <p:nvPr/>
        </p:nvPicPr>
        <p:blipFill>
          <a:blip r:embed="rId2"/>
          <a:stretch/>
        </p:blipFill>
        <p:spPr>
          <a:xfrm>
            <a:off x="6300720" y="3554280"/>
            <a:ext cx="3029040" cy="3205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Documents and Settings\Иятта\Рабочий стол\ЭТО СРОЧНО\Новая папка\чернильница.gif"/>
          <p:cNvPicPr/>
          <p:nvPr/>
        </p:nvPicPr>
        <p:blipFill>
          <a:blip r:embed="rId3">
            <a:lum bright="-40000"/>
          </a:blip>
          <a:stretch/>
        </p:blipFill>
        <p:spPr>
          <a:xfrm>
            <a:off x="6715080" y="3357720"/>
            <a:ext cx="16192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476360" y="692280"/>
            <a:ext cx="529128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Игра для студентов 1-х и 2-х курсов является одной из самых привлекательных форм деятельности, и поэтому я старалась искать возможности применения её в подготовке студентов к усвоению важных математических идей, т.е. обучать математике в процессе игр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Настольные игры служат хорошим средством перехода от одной умственной работы к друг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395280" y="620640"/>
            <a:ext cx="79930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4b21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При использовании игровых технологий на уроках соблюдаю следующие усло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4b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оответствие игры учебно-воспитательным целям уро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4b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умеренность в использовании игры на урок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Выделяю следующие виды уроков с использованием игровых технолог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4b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игровая организация учебного процесса с использованием игровых заданий (урок – соревнование, урок – конкурс, урок – путешествие, урок – КВН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4b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игровая организация учебного процесса с использованием заданий и упражне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34b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использование игры на определенном этапе урока (начало, середина, конец; знакомство с новым материалом, повторение и систематизация изученного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1" descr=""/>
          <p:cNvPicPr/>
          <p:nvPr/>
        </p:nvPicPr>
        <p:blipFill>
          <a:blip r:embed="rId1"/>
          <a:stretch/>
        </p:blipFill>
        <p:spPr>
          <a:xfrm>
            <a:off x="725400" y="42840"/>
            <a:ext cx="7942320" cy="19321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042920" y="1989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эффективное средство воспитания познавательных интересов и активизации деятельности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42920" y="27082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тренировка памяти, помогающая учащимся выработать речевые умения и навы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042920" y="33577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стимулирует умственную деятельность учащихся, развивает внимание и познавательный интерес к предме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042920" y="4076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способствует преодолению пассивности уче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1042920" y="4572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способствует усилению работоспособности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Ромб 9"/>
          <p:cNvSpPr/>
          <p:nvPr/>
        </p:nvSpPr>
        <p:spPr>
          <a:xfrm>
            <a:off x="755640" y="2133720"/>
            <a:ext cx="287280" cy="142920"/>
          </a:xfrm>
          <a:prstGeom prst="diamond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Ромб 10"/>
          <p:cNvSpPr/>
          <p:nvPr/>
        </p:nvSpPr>
        <p:spPr>
          <a:xfrm>
            <a:off x="755640" y="2852640"/>
            <a:ext cx="287280" cy="144720"/>
          </a:xfrm>
          <a:prstGeom prst="diamond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Ромб 11"/>
          <p:cNvSpPr/>
          <p:nvPr/>
        </p:nvSpPr>
        <p:spPr>
          <a:xfrm>
            <a:off x="755640" y="3500280"/>
            <a:ext cx="287280" cy="144720"/>
          </a:xfrm>
          <a:prstGeom prst="diamond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Ромб 12"/>
          <p:cNvSpPr/>
          <p:nvPr/>
        </p:nvSpPr>
        <p:spPr>
          <a:xfrm>
            <a:off x="755640" y="4221000"/>
            <a:ext cx="287280" cy="144720"/>
          </a:xfrm>
          <a:prstGeom prst="diamond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Ромб 13"/>
          <p:cNvSpPr/>
          <p:nvPr/>
        </p:nvSpPr>
        <p:spPr>
          <a:xfrm>
            <a:off x="755640" y="4724280"/>
            <a:ext cx="287280" cy="144720"/>
          </a:xfrm>
          <a:prstGeom prst="diamond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игровых технолог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00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51720" indent="-321120">
              <a:lnSpc>
                <a:spcPct val="100000"/>
              </a:lnSpc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«Назови формул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2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Один из учащихся выходит к доске и берет у учителя карточку…. Выигрывает ученик, который первый назовет формулу, записанную на карто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21120">
              <a:lnSpc>
                <a:spcPct val="100000"/>
              </a:lnSpc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«Математическое лото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2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Эту игровую ситуацию можно использовать при проведении обобщающих уро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21120">
              <a:lnSpc>
                <a:spcPct val="100000"/>
              </a:lnSpc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«Необычная запись, чертеж, схе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2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Ярким примером данного приема является задание, связанное с занимательным квадратом. Занимательный квадрат – это квадрат, разбитый на 9 клеток; в каждую клетку записывается один элемент так, чтобы суммы или произведения всех элементов по любой горизонтали, вертикали удовлетворяли определенному услов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572160" y="3797280"/>
            <a:ext cx="3102120" cy="31035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1"/>
          <p:cNvSpPr/>
          <p:nvPr/>
        </p:nvSpPr>
        <p:spPr>
          <a:xfrm>
            <a:off x="179280" y="1123920"/>
            <a:ext cx="74296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>
              <a:lnSpc>
                <a:spcPct val="100000"/>
              </a:lnSpc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Игра “Домино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Игру «Домино» очень полезно применять для запоминания формул, которые, как правило, ленятся запоминать дети. Одной формуле может быть поставлено в соответствие до 10 верных формулировок или наоборот: одной формулировке соответствует несколько формул. 10 – 20 минут игры в такое «домино» достаточно для прочного запоминания многих форму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Игра «Угадай- 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4b21"/>
                </a:solidFill>
                <a:latin typeface="Calibri"/>
              </a:rPr>
              <a:t>Это задание позволяет повторить в полном объеме весь теоретический материал, соответствующий выбранному для обсуждения объекту, вызывает большой интерес у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3"/>
          <a:stretch/>
        </p:blipFill>
        <p:spPr>
          <a:xfrm>
            <a:off x="684360" y="150840"/>
            <a:ext cx="7883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572160" y="3797280"/>
            <a:ext cx="3102120" cy="310356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1"/>
          <p:cNvSpPr/>
          <p:nvPr/>
        </p:nvSpPr>
        <p:spPr>
          <a:xfrm>
            <a:off x="758880" y="1557360"/>
            <a:ext cx="633564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4b21"/>
                </a:solidFill>
                <a:latin typeface="Calibri"/>
              </a:rPr>
              <a:t>В моей методической копилке имеются различные настольные игры. Например, «Индивидуальное лото», «Магический квадрат», «Логарифмическое домино», «Кодированные упражнения», «Геометрическая загадка», «Займи пьедестал первым», «Каждой фигуре своё место», «Погадай на ромашке»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4b21"/>
                </a:solidFill>
                <a:latin typeface="Calibri"/>
              </a:rPr>
              <a:t>Кроме того, имеется компьютерный вариант игр, созданных в программе PowerPoin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598320" y="115920"/>
            <a:ext cx="7883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26920" y="155736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4b21"/>
                </a:solidFill>
                <a:latin typeface="Calibri"/>
              </a:rPr>
              <a:t>Я пришла к выводу, что основным в дидактической игре на уроках математики является обучение математике. Игровые ситуации лишь активизируют деятельность студентов, делают восприятие более активным, творческим, эмоциональным, достойным поним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Вывод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33080" y="1197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4b21"/>
                </a:solidFill>
                <a:latin typeface="Calibri"/>
              </a:rPr>
              <a:t>Мой многолетний опыт показал, что наибольший эффект игры дают в группах, где студенты с неустойчивым вниманием, пониженным интересом к дисциплине, для которых математика кажется сухой и скучной наукой. Создание же даже незначительных игровых ситуаций на уроках повышает интерес к дисциплине, вносит эмоциональную окраску в учебную работу и разнообразие, развивает внимание, сообразительность, чувство соревнования, взаимопомощь, а самое главное – снимает утомление и имеет здоровьесберегающую направл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543480"/>
            <a:ext cx="3029040" cy="3205080"/>
          </a:xfrm>
          <a:prstGeom prst="rect">
            <a:avLst/>
          </a:prstGeom>
          <a:ln w="0">
            <a:noFill/>
          </a:ln>
        </p:spPr>
      </p:pic>
      <p:grpSp>
        <p:nvGrpSpPr>
          <p:cNvPr id="355" name="Лента лицом вверх 3"/>
          <p:cNvGrpSpPr/>
          <p:nvPr/>
        </p:nvGrpSpPr>
        <p:grpSpPr>
          <a:xfrm>
            <a:off x="1865160" y="182520"/>
            <a:ext cx="5383440" cy="1743120"/>
            <a:chOff x="1865160" y="182520"/>
            <a:chExt cx="5383440" cy="1743120"/>
          </a:xfrm>
        </p:grpSpPr>
        <p:pic>
          <p:nvPicPr>
            <p:cNvPr id="356" name="Лента лицом вверх 3" descr=""/>
            <p:cNvPicPr/>
            <p:nvPr/>
          </p:nvPicPr>
          <p:blipFill>
            <a:blip r:embed="rId2"/>
            <a:stretch/>
          </p:blipFill>
          <p:spPr>
            <a:xfrm>
              <a:off x="1865160" y="182520"/>
              <a:ext cx="5383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625840" y="189000"/>
              <a:ext cx="3859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8" name="Picture 2" descr="C:\Documents and Settings\Иятта\Рабочий стол\ЭТО СРОЧНО\Новая папка\чернильница.gif"/>
          <p:cNvPicPr/>
          <p:nvPr/>
        </p:nvPicPr>
        <p:blipFill>
          <a:blip r:embed="rId3">
            <a:lum bright="-40000"/>
          </a:blip>
          <a:stretch/>
        </p:blipFill>
        <p:spPr>
          <a:xfrm>
            <a:off x="7370640" y="3575160"/>
            <a:ext cx="1619280" cy="31906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"/>
          <p:cNvSpPr/>
          <p:nvPr/>
        </p:nvSpPr>
        <p:spPr>
          <a:xfrm>
            <a:off x="252360" y="2492280"/>
            <a:ext cx="61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В колледже при изучении общеобразовательных дисциплин практически с первого урока приходится сталкиваться с такими вопросами учащихся: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Зачем нам это нужно? Как можно применить то, что мы узнали на уроке, в нашей будущей профессии?"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324000" y="511200"/>
            <a:ext cx="7305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Если не ответить на эти вопросы и не показать учащимся их личную заинтересованность в приобретаемых знаниях, то дальнейшее усвоение учебного материала становится проблематичным.</a:t>
            </a:r>
            <a:br>
              <a:rPr sz="2200"/>
            </a:b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Для решения поставленной проблемы на уроках математики  на протяжении всех лет моей работы в колледже осваиваю, внедряю и апробирую элементы новых педагогических технологий (игровые, технологии проблемного обучения, технологии сотрудничества, ИКТ, личностно-ориентированные, здоровье сберегающие, информационные технологии, модульные) показываю связь математики с выбранной профессией, провожу современные уроки в соответствии с новыми ФГОС, провожу внеклассную работу по предмету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6875640" y="3165480"/>
            <a:ext cx="2454120" cy="3205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972480" y="2997360"/>
            <a:ext cx="2171520" cy="3190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C:\Users\Dns\Pictures\изображения для ссылок\image (6).gif"/>
          <p:cNvPicPr/>
          <p:nvPr/>
        </p:nvPicPr>
        <p:blipFill>
          <a:blip r:embed="rId3"/>
          <a:stretch/>
        </p:blipFill>
        <p:spPr>
          <a:xfrm>
            <a:off x="7250040" y="0"/>
            <a:ext cx="19195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Documents and Settings\Иятта\Рабочий стол\ЭТО СРОЧНО\Новая папка\DSC07710-conv-ok-sq-s-web.jpg"/>
          <p:cNvPicPr/>
          <p:nvPr/>
        </p:nvPicPr>
        <p:blipFill>
          <a:blip r:embed="rId1"/>
          <a:stretch/>
        </p:blipFill>
        <p:spPr>
          <a:xfrm>
            <a:off x="6334200" y="3773520"/>
            <a:ext cx="3095640" cy="3097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270920" y="3429000"/>
            <a:ext cx="1618920" cy="31910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1"/>
          <p:cNvSpPr/>
          <p:nvPr/>
        </p:nvSpPr>
        <p:spPr>
          <a:xfrm>
            <a:off x="395280" y="260280"/>
            <a:ext cx="730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"Единственный путь,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едущий к знаниям, -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это деятельность"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Бернард Ш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22200" y="1876320"/>
            <a:ext cx="745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Цель моей работы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высить качество знаний обучающихся по математике, через современный, комплексный подход в обу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6"/>
          <p:cNvSpPr/>
          <p:nvPr/>
        </p:nvSpPr>
        <p:spPr>
          <a:xfrm>
            <a:off x="971640" y="3772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бёнок-это не кувшин, который надо заполнить, а лампада, которую нужно зажечь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15080" y="3357720"/>
            <a:ext cx="1619280" cy="3190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650880" y="779400"/>
            <a:ext cx="553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Задачи работы</a:t>
            </a:r>
            <a:r>
              <a:rPr b="1" i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. Проводить современные уроки, в соответствии с требованиями ФГ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. Использовать на уроке современные технологии и методы, активизирующие познавательную и мыслительную деятельность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. Вовлекать студентов во внеклассную работу по предм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4. Заинтересовывать учащихся в приобретаемых знаниях, показать связь математики с професс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6" descr="C:\Users\Dns\Pictures\изображения для ссылок\image (1).jpg"/>
          <p:cNvPicPr/>
          <p:nvPr/>
        </p:nvPicPr>
        <p:blipFill>
          <a:blip r:embed="rId3"/>
          <a:stretch/>
        </p:blipFill>
        <p:spPr>
          <a:xfrm>
            <a:off x="6751800" y="195120"/>
            <a:ext cx="230652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241200" y="981000"/>
            <a:ext cx="8640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Предметные результ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) повысить успеваемость учащих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) позитивная динамика учебных достиж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) повысить качества уровня обученности по итоговой аттес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5) результаты качественного показателя уровня з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6) Портфолио достижений: в конкурсах, конференциях, олимпиад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Личностные результ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) формирование и развитие интеллектуальных особеннос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) формирование самооцен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) умение давать оценку дру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4) формирование навыков научной организации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5) формирование устойчивого интереса к учебному процес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6) любовь к профе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Прямоугольник 2" descr=""/>
          <p:cNvPicPr/>
          <p:nvPr/>
        </p:nvPicPr>
        <p:blipFill>
          <a:blip r:embed="rId1"/>
          <a:stretch/>
        </p:blipFill>
        <p:spPr>
          <a:xfrm>
            <a:off x="828720" y="262080"/>
            <a:ext cx="6913440" cy="73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766800" y="981000"/>
            <a:ext cx="7189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Универсальные (мета предметные) результ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Познава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) развить умение применять различные мыслительные операции при выполнении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) Сформировать ИКТ-компетен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Регулятив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) сформировать умение работать по заданному плану, сх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) Сформировать умение корректировать, исправлять свои ошиб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) сформировать умение проверять свои результаты по образцу, готовому отв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34b21"/>
                </a:solidFill>
                <a:uFillTx/>
                <a:latin typeface="Times New Roman"/>
                <a:ea typeface="Times New Roman"/>
              </a:rPr>
              <a:t>Коммуникатив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1) умение слушать других и вести диа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) умение излагать собственное мнение, аргумен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) умение задавать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4) умение работать в коллек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Прямоугольник 2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491364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17640" y="189000"/>
            <a:ext cx="8963280" cy="10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педагогические технолог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Прямоугольник 2"/>
          <p:cNvSpPr/>
          <p:nvPr/>
        </p:nvSpPr>
        <p:spPr>
          <a:xfrm>
            <a:off x="468360" y="1268280"/>
            <a:ext cx="7991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нятие «игровые педагогические технологии» включает достаточно обширную группу методов и приемов организации педагогического процесса в форме различных педагогических иг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В отличие от игр вообще педагогическая игра обладает существенным признаком -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Игровая форма занятий создается на уроках при помощи игровых приемов и ситуаций, которые выступают как средство побуждения, стимулирования учащихся к учебной деятель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пользования технолог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- активизация мыслительной деятельности, развитие познавательных способнос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развитие логического мыш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пособствование углублению+ знаний по математи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пособствование восприятию межпредметных связ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ривитие математической культур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плочение коллектива, формирование деловых взаимоотношений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развитие индивидуальности и коммуникативных способ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Ольга</dc:creator>
  <dc:description/>
  <dc:language>en-US</dc:language>
  <cp:lastModifiedBy>Windows User</cp:lastModifiedBy>
  <dcterms:modified xsi:type="dcterms:W3CDTF">2019-12-26T18:42:55Z</dcterms:modified>
  <cp:revision>79</cp:revision>
  <dc:subject/>
  <dc:title>Презентация PowerPoint</dc:title>
</cp:coreProperties>
</file>