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DED-DF87-463E-8474-AF657DC2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F7C-F731-4C76-BD72-1AFF57D3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4DD-56C0-4731-941C-7252940D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628-F5C9-4D71-87FD-12613D2A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234-32CB-4BAC-9641-861221F8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293-3A62-4B2E-BEA6-D95DB82E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ED7-6B68-405C-BA9C-592DA843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BCC-65A9-49CA-94A0-84D134B7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134-483F-4456-9CE5-A4E185C7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AC0-7E8B-4527-A30A-C1908814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C86-0F22-42A5-B0A6-4B90F9CB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A67-C6DE-49D8-BA16-1587B513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86CD-A1F4-442B-8F94-D10234B977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424720" cy="26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Методические рекомендации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к составлению адаптированных основных образовательных программ дошкольного образования детей 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с ограниченными возможностями здоров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7960" y="530856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Денисова Татьяна Юр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читель-логопе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611280" y="517680"/>
            <a:ext cx="792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бюджетное дошкольное 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тский сад комбинированного вида №24 города Кузнец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ания для разработки АООП (нормативные документы)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184464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кон РФ «Об образовании в РФ» (от 29.12.2012 № 273-ФЗ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деральный государственный образовательный стандарт дошкольного образования (приказ МОиН РФ от 17.10.2013 № 1155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нитарно-эпидемиологическими требованиями к устройству, содержанию и организации режима работы  дошкольных образовательных организаций (утв. Постановлением Главного государственного санитарного врача РФ от 15. 05. 2013 г. № 26) и др.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ядок организации и осуществления образовательной деятельности по основным общеобразовательным программам - образовательным программам дошкольного образования (утвержден приказом Министерства образования и науки Российской Федерации от 30 августа 2013 г. N 1014, зарегистрирован в Минюсте России 26 сентября 2013 г. N 30038) с изменениями от 21.01.2019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1116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499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042920" y="105984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ОЙ РАЗ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Обязательная ч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1.  Пояснительная запи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и задачи реализации Программы. Принципы и подходы к  формированию Программы. Характеристики особенностей развития детей с тяжелыми нарушениями 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2.  Планируемые результаты освоения Пр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, формируемая участниками образователь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1. Приоритетное  образовательное направление художественно-эстетическое развитие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69840" y="549000"/>
            <a:ext cx="8172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6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ДЕРЖАТЕЛЬНЫЙ РАЗДЕ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6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    Обязательная час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6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 Описание образовательной деятельности в соответствии с направлениями развития ребенка, представленными в пяти образовательных областя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6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Описание вариативных форм, способов, методов и средств реализации Программы с учетом специфики образовательных потребностей и интересов детей дошкольного возраста с тяжелыми нарушениями реч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6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Особенности образовательной деятельности разных видов и культурных практи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6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пособы и направления поддержки детской инициатив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6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Особенности взаимодействия педагогического коллектива с семьями воспитанни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6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Описание  образовательной деятельности по профессиональной коррекции нарушений развития детей с тяжелыми нарушениями реч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6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, формируемая участниками образовательных отнош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6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Описание образовательной деятельности по приоритетному направлению, выбранного участниками образовательных отнош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6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Описание форм, способов, методов и средств реализации приоритетного  направления, выбранного участниками образовательных отнош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6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6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34960" y="836280"/>
            <a:ext cx="7499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РГАНИЗАЦИОННЫЙ РАЗДЕ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 Обязательная часть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1. Психолого-педагогические условия, обеспечивающие развитие ребён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2. Описание материально-технического обеспечения Программ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3. Организация режима дня и коррекционно-развивающей работы  с детьми с    тяжелыми нарушениями речи  от 5 до 7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4. Планирование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5. Организация развивающей предметно-пространственной сре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6.  Кадровые условия реализации Программ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, формируемая участниками образовательных отноше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1. Планирование  образовательной деятельности по приоритетному  образовательному направлению художественно-эстетическое развитие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2. Методическая литература, позволяющая ознакомиться с содержанием парциальных программ, методик, форм организации образовательной раб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3.Описание материально-технического обеспечения Программы по приоритетному направлению художественно-эстетическое развитие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115920"/>
            <a:ext cx="74995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1640" y="6919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ополнительный разде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.  Краткая презентация Программ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нормативных и нормативно-методических докумен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литературных источни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З №273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Об образовании в РФ» статья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49000"/>
            <a:ext cx="8229600" cy="24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учающийся с ограниченными возможностями здоровь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физическое лицо, имеющее недостатки в физическом и (или) психическом развитии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дтвержденные психолого-медико-педагогической комиссие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препятствующие получению образования без создания специальных усло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тья 79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З № 273 «Об образовании в РФ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тегории детей с ограниченными возможностями 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ухие, слабослышащие, позднооглохш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пые, слабовидящи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тяжёлыми нарушениями реч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нарушениями функций О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задержкой психического развит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умственной отсталостью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расстройствами аутистического спек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 сложными дефектами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З № 273 «Об образовании в РФ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606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даптированная образовательная программ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разовательная программа, адаптированная для обучения лиц с ограниченными возможностями здоровья с учетом особенностей их психофизического развития, индивидуальных возможностей и при необходимости обеспечивающая коррекцию нарушений развития и социальную адаптацию указанных лиц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тья 79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ганизация получения образования обучающимися с ОВ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1600" y="27082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образование обучающихся с ограниченными возможностями здоровья осуществляется в организациях, осуществляющих образовательную деятельность п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даптированным основным образовательным программам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таких организациях создаются специальные условия для получения образования указанными обучающими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мерные адаптированные основные программы для детей с ОВЗ </a:t>
            </a:r>
            <a:br>
              <a:rPr sz="3600"/>
            </a:br>
            <a:r>
              <a:rPr b="0" lang="en-US" sz="3600" spc="-1" strike="noStrike">
                <a:solidFill>
                  <a:srgbClr val="4f81bd"/>
                </a:solidFill>
                <a:latin typeface="Calibri"/>
              </a:rPr>
              <a:t>fgosreestr.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ООП ДО детей с ЗП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ООП ДО детей с ТН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ООП ДО слепых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ООП ДО детей с амблиопией и косоглаз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ООП ДО слабослышащих и позднооглохших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ООП ДО детей с умственной отсталостью (интеллектуальными нарушения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ООП ДО глухих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ООП ДО слабовидящих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ООП ДО детей с Н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уппы компенсирующей направл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4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уппы комбинированной направл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уппа общеразвивающей направленн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котор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включен один ребенок с ОВЗ по заключению ТПМП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3:26:33Z</dcterms:created>
  <dc:creator>User</dc:creator>
  <dc:description/>
  <dc:language>en-US</dc:language>
  <cp:lastModifiedBy>Сергей</cp:lastModifiedBy>
  <cp:lastPrinted>2012-12-05T04:15:31Z</cp:lastPrinted>
  <dcterms:modified xsi:type="dcterms:W3CDTF">2019-12-26T17:08:16Z</dcterms:modified>
  <cp:revision>194</cp:revision>
  <dc:subject/>
  <dc:title>Опыт инклюзивного образования в Санкт-Петербурге</dc:title>
</cp:coreProperties>
</file>