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1A6-CDE2-4751-A42A-F494AC75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05C-29BD-4962-B55D-F6E3880B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A83-55B3-43E3-83CA-A1C0A507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39B-65B9-40BE-A594-CE9FE0E9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405-7BFB-44AB-BC34-FD71B873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350-7731-41B1-8314-F505F2EA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9EB-BA8A-4B67-A006-8A603E23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44E-FB24-4FBC-A3CB-3CEB21B7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6D3-1634-421E-858C-010D359C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A1D-59B8-46AD-B084-0D3D6BAA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EAD-1EE3-42E2-8CB1-72BDC266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E24-AF1E-4398-B255-55179C12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6DAD-E210-4E40-B131-FE6F048AB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76360" y="692280"/>
            <a:ext cx="6408720" cy="32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знак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венств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угольников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738680" y="557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050920" y="0"/>
            <a:ext cx="590724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гра «Молча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 команде учителя поднять карточку с тем цвет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против которого находится правильный отв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4"/>
          <p:cNvSpPr/>
          <p:nvPr/>
        </p:nvSpPr>
        <p:spPr>
          <a:xfrm>
            <a:off x="971640" y="242100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971640" y="386064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/>
          <p:cNvSpPr/>
          <p:nvPr/>
        </p:nvSpPr>
        <p:spPr>
          <a:xfrm>
            <a:off x="971640" y="5229360"/>
            <a:ext cx="9144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557440" y="1484280"/>
            <a:ext cx="52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1)Укажите, на каком из приведённых ниже рисунков имеются равные треугольн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 rot="10800000">
            <a:off x="3563640" y="2205000"/>
            <a:ext cx="2305080" cy="936720"/>
          </a:xfrm>
          <a:prstGeom prst="pie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 rot="8371200">
            <a:off x="3772800" y="5140440"/>
            <a:ext cx="2714760" cy="2233440"/>
          </a:xfrm>
          <a:prstGeom prst="rtTriangle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10"/>
          <p:cNvCxnSpPr>
            <a:stCxn id="48" idx="4"/>
            <a:endCxn id="48" idx="5"/>
          </p:cNvCxnSpPr>
          <p:nvPr/>
        </p:nvCxnSpPr>
        <p:spPr>
          <a:xfrm>
            <a:off x="3831840" y="2673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AutoShape 11"/>
          <p:cNvCxnSpPr>
            <a:stCxn id="48" idx="6"/>
          </p:cNvCxnSpPr>
          <p:nvPr/>
        </p:nvCxnSpPr>
        <p:spPr>
          <a:xfrm>
            <a:off x="4716000" y="2185560"/>
            <a:ext cx="2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Line 12"/>
          <p:cNvSpPr/>
          <p:nvPr/>
        </p:nvSpPr>
        <p:spPr>
          <a:xfrm>
            <a:off x="4140360" y="2205000"/>
            <a:ext cx="172872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3780000" y="2565360"/>
            <a:ext cx="215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 flipH="1">
            <a:off x="5435640" y="2565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rc 15"/>
          <p:cNvSpPr/>
          <p:nvPr/>
        </p:nvSpPr>
        <p:spPr>
          <a:xfrm rot="14911800">
            <a:off x="5145480" y="2926440"/>
            <a:ext cx="416160" cy="268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rc 16"/>
          <p:cNvSpPr/>
          <p:nvPr/>
        </p:nvSpPr>
        <p:spPr>
          <a:xfrm rot="6414000">
            <a:off x="4547160" y="2229480"/>
            <a:ext cx="252360" cy="203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 rot="18186600">
            <a:off x="2356200" y="3555360"/>
            <a:ext cx="1697040" cy="1155600"/>
          </a:xfrm>
          <a:prstGeom prst="parallelogram">
            <a:avLst>
              <a:gd name="adj" fmla="val 36312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3203640" y="3068640"/>
            <a:ext cx="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2627280" y="3645000"/>
            <a:ext cx="21600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3564000" y="4437000"/>
            <a:ext cx="21600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2700360" y="3500280"/>
            <a:ext cx="21600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 flipH="1">
            <a:off x="2700360" y="450864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 flipH="1">
            <a:off x="3564000" y="3645000"/>
            <a:ext cx="21600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>
            <a:off x="3419280" y="3573360"/>
            <a:ext cx="21564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H="1">
            <a:off x="5219640" y="4508640"/>
            <a:ext cx="21600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>
            <a:off x="4427640" y="6093000"/>
            <a:ext cx="7308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5796000" y="6093000"/>
            <a:ext cx="7308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258920" y="260280"/>
            <a:ext cx="619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2)  В силу какого признака равенства треуголь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BAD=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FAC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1835280" y="981000"/>
            <a:ext cx="288720" cy="217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3059280" y="981000"/>
            <a:ext cx="288720" cy="217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 rot="15018000">
            <a:off x="4210560" y="3431160"/>
            <a:ext cx="1224000" cy="222876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 rot="3938400">
            <a:off x="6729840" y="3718080"/>
            <a:ext cx="1224000" cy="222912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>
            <a:off x="5724000" y="4005360"/>
            <a:ext cx="2876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 flipH="1">
            <a:off x="5724000" y="4149720"/>
            <a:ext cx="2876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6156360" y="5084640"/>
            <a:ext cx="28728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6084360" y="5013360"/>
            <a:ext cx="2876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 flipH="1">
            <a:off x="6876720" y="4149720"/>
            <a:ext cx="7308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5148360" y="4869000"/>
            <a:ext cx="7128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1258920" y="177336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4"/>
          <p:cNvSpPr/>
          <p:nvPr/>
        </p:nvSpPr>
        <p:spPr>
          <a:xfrm>
            <a:off x="1258920" y="29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5"/>
          <p:cNvSpPr/>
          <p:nvPr/>
        </p:nvSpPr>
        <p:spPr>
          <a:xfrm>
            <a:off x="1258920" y="4149720"/>
            <a:ext cx="9144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3186360" y="19368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3186360" y="30160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2 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3186000" y="43131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3 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5489640" y="316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6086520" y="42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3637080" y="51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6568920" y="5753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8082360" y="37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195640" y="549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3)  В силу какого признака равенства треуголь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BAC=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FAC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133800" y="198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133800" y="3284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2 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133800" y="4437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3 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6"/>
          <p:cNvSpPr/>
          <p:nvPr/>
        </p:nvSpPr>
        <p:spPr>
          <a:xfrm>
            <a:off x="1258920" y="177336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1258920" y="29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8"/>
          <p:cNvSpPr/>
          <p:nvPr/>
        </p:nvSpPr>
        <p:spPr>
          <a:xfrm>
            <a:off x="1258920" y="4149720"/>
            <a:ext cx="9144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2843280" y="1197000"/>
            <a:ext cx="288720" cy="217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3924360" y="1197000"/>
            <a:ext cx="288720" cy="217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4932360" y="2997360"/>
            <a:ext cx="2568600" cy="1008000"/>
          </a:xfrm>
          <a:prstGeom prst="triangle">
            <a:avLst>
              <a:gd name="adj" fmla="val 7435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2"/>
          <p:cNvSpPr/>
          <p:nvPr/>
        </p:nvSpPr>
        <p:spPr>
          <a:xfrm rot="10800000">
            <a:off x="4932000" y="4005360"/>
            <a:ext cx="2568600" cy="1008000"/>
          </a:xfrm>
          <a:prstGeom prst="triangle">
            <a:avLst>
              <a:gd name="adj" fmla="val 2033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6713640" y="25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4626000" y="395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766944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7002360" y="488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5867280" y="3357720"/>
            <a:ext cx="217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6012000" y="3284640"/>
            <a:ext cx="217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7164360" y="4365720"/>
            <a:ext cx="217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7093080" y="4508640"/>
            <a:ext cx="217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H="1">
            <a:off x="6011640" y="4508640"/>
            <a:ext cx="2156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 flipH="1">
            <a:off x="7020000" y="3357720"/>
            <a:ext cx="21600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 rot="15018000">
            <a:off x="4210560" y="3431160"/>
            <a:ext cx="1224000" cy="22287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 rot="3938400">
            <a:off x="6729840" y="3718080"/>
            <a:ext cx="1224000" cy="22291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050920" y="47628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751120" y="423720"/>
            <a:ext cx="340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4) &lt; D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 = 80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Найти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&lt;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490000" y="31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760920" y="546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797800" y="486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8082000" y="37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6497640" y="5824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V="1">
            <a:off x="5724360" y="414972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 flipV="1">
            <a:off x="6084720" y="508464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13"/>
          <p:cNvSpPr/>
          <p:nvPr/>
        </p:nvSpPr>
        <p:spPr>
          <a:xfrm rot="10239600">
            <a:off x="5435280" y="3859920"/>
            <a:ext cx="395280" cy="209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rc 14"/>
          <p:cNvSpPr/>
          <p:nvPr/>
        </p:nvSpPr>
        <p:spPr>
          <a:xfrm rot="20308800">
            <a:off x="6443640" y="5300640"/>
            <a:ext cx="395280" cy="209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5"/>
          <p:cNvSpPr/>
          <p:nvPr/>
        </p:nvSpPr>
        <p:spPr>
          <a:xfrm>
            <a:off x="1258920" y="177336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6"/>
          <p:cNvSpPr/>
          <p:nvPr/>
        </p:nvSpPr>
        <p:spPr>
          <a:xfrm>
            <a:off x="1258920" y="29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7"/>
          <p:cNvSpPr/>
          <p:nvPr/>
        </p:nvSpPr>
        <p:spPr>
          <a:xfrm>
            <a:off x="1258920" y="4149720"/>
            <a:ext cx="9144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2787480" y="19782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2843280" y="3141720"/>
            <a:ext cx="9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2771640" y="4292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195640" y="549360"/>
            <a:ext cx="38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D =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м. Найти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"/>
          <p:cNvSpPr/>
          <p:nvPr/>
        </p:nvSpPr>
        <p:spPr>
          <a:xfrm>
            <a:off x="1258920" y="177336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1258920" y="29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1258920" y="4149720"/>
            <a:ext cx="9144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 rot="13077000">
            <a:off x="5148360" y="3715920"/>
            <a:ext cx="1224000" cy="22287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 rot="2089200">
            <a:off x="7451640" y="2636640"/>
            <a:ext cx="1224000" cy="22287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77692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365800" y="602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805440" y="4365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7937640" y="208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802980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7451640" y="3284640"/>
            <a:ext cx="28728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156360" y="5013360"/>
            <a:ext cx="21600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 rot="2371800">
            <a:off x="6232320" y="3631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 rot="2060400">
            <a:off x="6928560" y="47145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753280" y="18651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2826360" y="31608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2898000" y="43848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4"/>
          <p:cNvSpPr/>
          <p:nvPr/>
        </p:nvSpPr>
        <p:spPr>
          <a:xfrm>
            <a:off x="1258920" y="177336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1258920" y="29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1258920" y="4149720"/>
            <a:ext cx="9144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41640" y="42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668600" y="398520"/>
            <a:ext cx="68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колько медиан можно провести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536200" y="193680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277164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558520" y="3213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2629080" y="443700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2"/>
          <p:cNvSpPr/>
          <p:nvPr/>
        </p:nvSpPr>
        <p:spPr>
          <a:xfrm>
            <a:off x="1258920" y="177336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258920" y="29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1258920" y="4149720"/>
            <a:ext cx="9144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241640" y="42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814400" y="326880"/>
            <a:ext cx="42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к называется сторона  А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 rot="8198400">
            <a:off x="5630400" y="2327040"/>
            <a:ext cx="1633680" cy="3330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41036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850000" y="179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7506000" y="517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H="1">
            <a:off x="5724000" y="3860640"/>
            <a:ext cx="14292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 flipH="1">
            <a:off x="6300720" y="3213000"/>
            <a:ext cx="43200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2322000" y="193680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2485440" y="306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2538000" y="445608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17:02:34Z</dcterms:created>
  <dc:creator>Света</dc:creator>
  <dc:description/>
  <dc:language>en-US</dc:language>
  <cp:lastModifiedBy>BLACKCLASSIC</cp:lastModifiedBy>
  <dcterms:modified xsi:type="dcterms:W3CDTF">2015-01-06T17:18:28Z</dcterms:modified>
  <cp:revision>8</cp:revision>
  <dc:subject/>
  <dc:title>Слайд 1</dc:title>
</cp:coreProperties>
</file>