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92F-04CA-4591-B344-539BF66B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D08-2CE2-42A0-A967-9D7E1557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432-2AF0-4E47-AF93-A215B967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B71-5C09-4744-95F5-022FF4B9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B7FD-71D5-4332-8EDD-9D1FAC01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F4F0-BBB0-4C3B-B332-11F17C41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16FB-5F4D-4610-B64B-3A1F709D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6AFD-F15D-4829-8266-1BA022C7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E113-0FE1-4381-8D86-C61C1E08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FA70-12F3-45DF-8271-FE7DF385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4E37-88DC-4557-B788-EC926586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8AF-CB88-44A4-A257-280A900D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42EB-04D1-4EA6-9857-53301AC0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7FCE-545C-4A7B-BA22-FB7B061F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E4AC-250C-4AAB-8847-C4E92DA9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F335-5982-4472-873E-92E7242D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5548-DED4-450E-88E1-3C358E54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701-76A8-4ED0-B56C-D01F2BAA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62A-20FA-4626-A742-D5F07CA7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BCA-F3E8-4055-AFAE-BFA9D8AE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71B-5A80-49AA-9534-0F70BA09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238-A7B0-41C3-ABFB-EFD6F2D9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9F1-9698-419B-9A41-EFA04D65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257-DEF8-4B55-A2DD-FA195662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146C-689C-4E15-B74D-4E2BF4A6B5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5D95-1389-47DC-9F1F-D4C1284B4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28885" t="17852" r="29360" b="9226"/>
          <a:stretch/>
        </p:blipFill>
        <p:spPr>
          <a:xfrm>
            <a:off x="12600" y="0"/>
            <a:ext cx="69645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s://i.ytimg.com/vi/lp_zFdMIv7Q/maxresdefault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-128520"/>
            <a:ext cx="5803920" cy="68832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1"/>
          <p:cNvSpPr/>
          <p:nvPr/>
        </p:nvSpPr>
        <p:spPr>
          <a:xfrm>
            <a:off x="108000" y="333360"/>
            <a:ext cx="8856720" cy="636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Ответьте «да» или «нет» на следующие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. Рождение Вашего ребенка было желан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2. Вы каждый день его целуете, говорите ласковые слова или шутите с ним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3. Вы с ним каждый вечер разговариваете по душам и обсуждаете прожитый им ден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4. Раз в неделю проводите с ним досуг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(играете в настольные игры, походы в кино, концерт, театр, посещение родственников, катание на лыжах и т. д.)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5. Вы обсуждаете с ним создавшиеся семейные проблемы, ситуации, план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6. Вы знаете его друзей (чем они занимаются, где живут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7. Вы знаете о его времяпрепровождении, хобби, занятиях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8. Вы в курсе его влюбленности, симпати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9. Вы знаете о его недругах, недоброжелателях, врагах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0. Вы знаете, какой его любимый предмет в школ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1. Вы знаете, кто его любимый учитель, 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то его нелюбимый 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2. Вы первым идете на примирение, разговор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3. Вы не оскорбляете и не унижаете своего ребенк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1619280" y="1000080"/>
            <a:ext cx="734544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ращайте внимание на эмоциональное состояние Вашего реб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йтесь, обсуждайте проблемы, учите их разрешать, внушайте оптимиз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являйте бдитель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не справляетесь сами, чувствуете неблагополучие в социальной, эмоциональной сфере Вашего ребенка, не стесняйтесь обращаться за помощ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циалисты помогут Вам найти выход из трудн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"/>
          <p:cNvSpPr/>
          <p:nvPr/>
        </p:nvSpPr>
        <p:spPr>
          <a:xfrm>
            <a:off x="1619280" y="1000080"/>
            <a:ext cx="7345440" cy="45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что следует обращать внимание в поведен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Принимаете ли вы взросление своего ребён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РОДИТЕЛИ ПОДЧЕРКИВАЮТ И ВЫСМЕИВАЮТ ТЕЛЕСНЫЕ ОСОБЕННОСТИ РЕБЕНКА, ОН СТАНЕТ ОЩУЩАТЬ СЕБЯ УРОДЛИВЫ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179280" y="138240"/>
            <a:ext cx="871380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Какие же чувства родителей заставляют их высмеивать внешность сына или дочер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очар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— родитель «теряет» своего милого ребенка, а вместо него теперь приходится видеть «прыщавое и нескладное нечто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пернич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— взросление ребенка переводит родителя в категорию «старшего поколения», смещает его с «трона власти», напоминает о том, что молодость минова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лость и стра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— подросток вырос, теперь его нельзя подчинить, используя физическую сил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ево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— родитель больше не может контролировать подростка, не уверен в нем, не доверяет ем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179280" y="138240"/>
            <a:ext cx="871380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Во внешне благополучной семье может существовать множество тщательно замаскированных пробл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ад между домочадцами, отсутствие доброго отношения, обманы, измены, интриги — все это имеет огромное значение для подростка, втянутого в такое патологическое семейное взаимодейств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му может отводиться определенная роль в этих отношениях: например, «жилетка для слез матери», или «мировой судья на войне полов», или «последняя надежда бабушки», или «защитник пьющего отца от критики женщин», или «козел отпущения», «клоун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"/>
          <p:cNvSpPr/>
          <p:nvPr/>
        </p:nvSpPr>
        <p:spPr>
          <a:xfrm>
            <a:off x="1619280" y="1000080"/>
            <a:ext cx="7345440" cy="53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что следует обращать внимание в поведен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Высказывания о нежелании жи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: «Было бы лучше умереть», «Не хочу больше жить», «Я больше не буду ни для кого проблемой», «Тебе больше не придётся обо мне волноваться», «Хорошо бы заснуть и не проснуться», «Мне нельзя помочь», «Скоро все закончится», в т.ч. шутки, иронические замечания о желании умереть , о бессмысленности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1547640" y="476280"/>
            <a:ext cx="7345440" cy="29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что следует обращать внимание в поведен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Фиксация на теме смер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в литературе, живописи, музыке; частые разговоры об этом, сбор информации о способах суицида (например, в Интернет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2124000" y="4076640"/>
            <a:ext cx="6621480" cy="25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Активная предварительная подготовка к выбранному способу совершения суицид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апример, сбор таблеток, хранение отравляющих веществ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"/>
          <p:cNvSpPr/>
          <p:nvPr/>
        </p:nvSpPr>
        <p:spPr>
          <a:xfrm>
            <a:off x="1619280" y="1000080"/>
            <a:ext cx="7345440" cy="48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что следует обращать внимание в поведен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Сообщение друзьям о принятии решения о самоубийстве (прямое и косвенное)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косвенные намеки на возможность суицидальных действий, например, помещение своей фотографии в черную рамку, употребление в переписке, разговорах просуицидальных высказываний, симво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"/>
          <p:cNvSpPr/>
          <p:nvPr/>
        </p:nvSpPr>
        <p:spPr>
          <a:xfrm>
            <a:off x="1547640" y="692280"/>
            <a:ext cx="7345440" cy="53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что следует обращать внимание в поведен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Раздражительность, угрюмость, подавленное настроение, проявление признаков страха, беспомощности, безнадёжности, отчаяния, чувство одиночеств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«меня никто не понимает и я никому не нужен»),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сложность контролирования эмоций, внезапная смена эмоц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то эйфория, то приступы отчая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15553" t="13060" r="48206" b="12489"/>
          <a:stretch/>
        </p:blipFill>
        <p:spPr>
          <a:xfrm>
            <a:off x="0" y="-14400"/>
            <a:ext cx="5948280" cy="68724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4572000" y="2205000"/>
            <a:ext cx="4572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Calibri"/>
              </a:rPr>
              <a:t>Какие факторы влияют на развитие саморазрушающ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Calibri"/>
              </a:rPr>
              <a:t>суицидального поведения подро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"/>
          <p:cNvSpPr/>
          <p:nvPr/>
        </p:nvSpPr>
        <p:spPr>
          <a:xfrm>
            <a:off x="1547640" y="692280"/>
            <a:ext cx="7345440" cy="24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что следует обращать внимание в поведен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Негативные оценки своей личности, окружающего мира и будущего, потеря перспективы будущ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1982880" y="3432240"/>
            <a:ext cx="6910200" cy="30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Постоянно пониженное настроение, тоскливость. Ребенок считает, что у него ничего не получится, он ни на что не способен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Ребенок подавлен, безразличен, иногда ощущает вину перед окружающ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1547640" y="692280"/>
            <a:ext cx="7345440" cy="54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что следует обращать внимание в поведен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800" spc="-1" strike="noStrike">
                <a:solidFill>
                  <a:srgbClr val="c00000"/>
                </a:solidFill>
                <a:latin typeface="MS Gothic"/>
                <a:ea typeface="Calibri"/>
              </a:rPr>
              <a:t>Н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еобычное, нехарактерное для данного ребенка повед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более безрассудное, импульсивное, агрессивное; несвойственное стремление к уединению, снижение социальной активности у общительных детей, и наоборот, возбужденное поведение и повышенная общительность у малообщительных и молчаливых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"/>
          <p:cNvSpPr/>
          <p:nvPr/>
        </p:nvSpPr>
        <p:spPr>
          <a:xfrm>
            <a:off x="1547640" y="692280"/>
            <a:ext cx="7345440" cy="19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что следует обращать внимание в поведен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Стремление к рискованным действиям, отрицание проб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1955880" y="2852640"/>
            <a:ext cx="6910200" cy="156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Снижение успеваемости, пропуск занятий, невыполнение домашних зад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2044800" y="4724280"/>
            <a:ext cx="6910200" cy="191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Попытка уединиться: закрыться в комнате, убежать и скрыться от друз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при наличии других настораживающих признак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"/>
          <p:cNvSpPr/>
          <p:nvPr/>
        </p:nvSpPr>
        <p:spPr>
          <a:xfrm>
            <a:off x="1547640" y="1166760"/>
            <a:ext cx="7345440" cy="445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что следует обращать внимание в поведен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Символическое прощание с ближайшим окружени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раздача личных вещей, фото, подготовка и выставление ролика, посвященного друзьям и близким); дарение другим вещей, имеющих большую личную значим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"/>
          <p:cNvSpPr/>
          <p:nvPr/>
        </p:nvSpPr>
        <p:spPr>
          <a:xfrm>
            <a:off x="1547640" y="1166760"/>
            <a:ext cx="7345440" cy="48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что следует обращать внимание в поведен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Gothic"/>
                <a:ea typeface="Calibri"/>
              </a:rPr>
              <a:t>✓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Подросток может устраивать «развлечения», потенциально опасные для его жизни и здоровья, 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ыжки с высоты, залезание на ветхие конструкции, эксперименты с электричеством, с удушением, игры с использованием оружия, потребление несъедобных или ядовитых веще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"/>
          <p:cNvSpPr/>
          <p:nvPr/>
        </p:nvSpPr>
        <p:spPr>
          <a:xfrm>
            <a:off x="1547640" y="765000"/>
            <a:ext cx="7417080" cy="56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ипичные симптомы ДЕПРЕСС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сто грустное настроение, периодический плач, чувство одиночества, бесполез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ялость, хроническая усталость, безнадежность и беспомощ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ижение интересов к деятельности или снижение удовольствия от деятельности, которая раньше ребенку нравилас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глощенность темой смер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оянная ску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циальная изоляция и сложности во взаимоотношения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пуск школы или плохая успеваем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1547640" y="765000"/>
            <a:ext cx="741708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ипичные симптомы ДЕПРЕСС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структивное (разрушительное, отклоняющееся) повед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вство неполноценности, бесполезности, потеря самоуважения, низкая самооценка и чувство ви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ышенная чувствительность к неудачам или неадекватная реакция на похвалы и наград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ышенная раздражительность, гневливость (зачастую из-за мелочей), враждебность или выраженная трево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"/>
          <p:cNvSpPr/>
          <p:nvPr/>
        </p:nvSpPr>
        <p:spPr>
          <a:xfrm>
            <a:off x="1535040" y="836640"/>
            <a:ext cx="741672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ипичные симптомы ДЕПРЕСС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 на физическую боль, например, боль в желудке или головную бол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жности концентрации вним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чительные изменения сна и аппетита (бессонница или сонливость, потеря аппетита или неконтролируемое обжорство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1717560" y="4292640"/>
            <a:ext cx="672012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личие двух или трех поведенческих признаков указывает на то, что у ребенк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может быть депрессия и ему нужна помощь специали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"/>
          <p:cNvSpPr/>
          <p:nvPr/>
        </p:nvSpPr>
        <p:spPr>
          <a:xfrm>
            <a:off x="1332000" y="1844640"/>
            <a:ext cx="741672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Любое резкое изменение в поведении ребёнка должно насторажи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райне важно не бояться обращаться за помощью, если Вы заметили какие-либо проблемы в состоянии своего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1282680" y="692280"/>
            <a:ext cx="7416720" cy="36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Факторы, препятствующие возникнов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уицидального поведения у подрост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аждый человек обладает средствами для решения проблем - это та сила личности, которая служит основой жизнестойкости и повышает вероятность преодоления кризи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 психологии такие «средства» называю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сурс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трелка вниз 2"/>
          <p:cNvSpPr/>
          <p:nvPr/>
        </p:nvSpPr>
        <p:spPr>
          <a:xfrm rot="2155800">
            <a:off x="4130640" y="3978360"/>
            <a:ext cx="233280" cy="28728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 rot="17388000">
            <a:off x="5853600" y="3785040"/>
            <a:ext cx="281160" cy="3045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4859280" y="4381560"/>
            <a:ext cx="3960720" cy="13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неш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пример, поддержка семьи и друзей, вера в Бога, работа с психологом или психотерапевт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187200" y="4581360"/>
            <a:ext cx="453564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нутрен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апример, инстинкт самосохранения, опыт преодоления трудностей, интеллек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33234" t="22169" r="33234" b="7152"/>
          <a:stretch/>
        </p:blipFill>
        <p:spPr>
          <a:xfrm>
            <a:off x="0" y="-22320"/>
            <a:ext cx="5802480" cy="68803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762120" y="933480"/>
            <a:ext cx="8045280" cy="534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. Пережи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биды, одиноч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тчужденности и непоним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 Действительная или мним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трата любви родителей, неразделенное чувство и рев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 Переживания, связанные с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ложной обстановкой в семь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о смертью, разво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увства вины, стыда, оскорбленного самолюбия, самообвин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в т.ч. связанного с насилием в семье, т.к. зачастую подросток считает себя виноватым в происходящем и боится рассказать об эт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Боязнь позора, насмешек или ун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"/>
          <p:cNvSpPr/>
          <p:nvPr/>
        </p:nvSpPr>
        <p:spPr>
          <a:xfrm>
            <a:off x="1332000" y="1628640"/>
            <a:ext cx="7416720" cy="28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нтисуицидальных факторов,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.е. мыслей, душевных переживаний, положительных жизненных установок, позиций и психологических особенностей человека, препятствующих осуществлению суицидальных намер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"/>
          <p:cNvSpPr/>
          <p:nvPr/>
        </p:nvSpPr>
        <p:spPr>
          <a:xfrm>
            <a:off x="1476360" y="549360"/>
            <a:ext cx="7416720" cy="60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 ним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трах смер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желание вызывать отрицательные переживания близки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оязнь физических страданий (в т.ч. негативная проекция своего внешнего вида после самоубийства, опасения остаться инвалидо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выраженное чувство долга, обяза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личие актуальных жизненных ценностей, ц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представление о греховности и о позорности суицида (в т.ч. религиозные мотив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любовь к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аличие нереализованных планов (жизненных, творческих, семейных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дежда на то, что кто-то знает выход из ситуации и сможет помо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1"/>
          <p:cNvSpPr/>
          <p:nvPr/>
        </p:nvSpPr>
        <p:spPr>
          <a:xfrm>
            <a:off x="1468440" y="1341360"/>
            <a:ext cx="7416720" cy="352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оответственно, чем большим количеств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жизнеутверждающи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обладает человек, в частности подросток, тем сильнее его психологическая защита и внутренняя уверенность в себе, тем сильнее ег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антисуицидальный барь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5803920" cy="68835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"/>
          <p:cNvSpPr/>
          <p:nvPr/>
        </p:nvSpPr>
        <p:spPr>
          <a:xfrm>
            <a:off x="1468440" y="907920"/>
            <a:ext cx="7416720" cy="602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Антисуицидальный барь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дразумева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раженную эмоциональную привязанность к близк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одственные обязан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увство общественного долг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нятие о че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ружеские привязан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висимость от общественного мнения и мнения товарище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едставление о трус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зорности суицид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9280"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личие планов, определяющих цель в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rcRect l="34715" t="12699" r="33999" b="6286"/>
          <a:stretch/>
        </p:blipFill>
        <p:spPr>
          <a:xfrm>
            <a:off x="4284720" y="50760"/>
            <a:ext cx="4680000" cy="6818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rcRect l="34302" t="13157" r="34200" b="6845"/>
          <a:stretch/>
        </p:blipFill>
        <p:spPr>
          <a:xfrm rot="21156000">
            <a:off x="588960" y="351000"/>
            <a:ext cx="3370320" cy="4814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rcRect l="21000" t="21382" r="21177" b="6447"/>
          <a:stretch/>
        </p:blipFill>
        <p:spPr>
          <a:xfrm rot="21151200">
            <a:off x="239400" y="4241880"/>
            <a:ext cx="319248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Мухомор\Desktop\p89JzPAj-s8.jpg"/>
          <p:cNvPicPr/>
          <p:nvPr/>
        </p:nvPicPr>
        <p:blipFill>
          <a:blip r:embed="rId1"/>
          <a:stretch/>
        </p:blipFill>
        <p:spPr>
          <a:xfrm>
            <a:off x="0" y="428760"/>
            <a:ext cx="915192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33234" t="22169" r="33234" b="7152"/>
          <a:stretch/>
        </p:blipFill>
        <p:spPr>
          <a:xfrm>
            <a:off x="0" y="-88920"/>
            <a:ext cx="580248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1522440" y="692280"/>
            <a:ext cx="7326360" cy="576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6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трах наказ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например, в ситуациях ранней беременности, серьезного проступка)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ежелание извини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7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Любовные неудачи, сексуальные эксцессы, беремен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8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увство мести, злобы, протеста, угроза или вымогатель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9. Жел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ивлечь к себе вним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, вызвать сочувствие, избежать неприятных последствий, уйти от трудной ситуации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влиять на другого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0. Сочувствие или подражание товарищам, кумирам, героям книг или филь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755640" y="2565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Эксперимент №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2268360" y="47628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alibri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alibri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2776320" y="57326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3780000" y="404640"/>
            <a:ext cx="187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alibri"/>
              </a:rPr>
              <a:t>Ч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alibri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alibri"/>
              </a:rPr>
              <a:t>Ы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2921040" y="56610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7" descr=""/>
          <p:cNvPicPr/>
          <p:nvPr/>
        </p:nvPicPr>
        <p:blipFill>
          <a:blip r:embed="rId1"/>
          <a:stretch/>
        </p:blipFill>
        <p:spPr>
          <a:xfrm>
            <a:off x="4443480" y="695160"/>
            <a:ext cx="189000" cy="45230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1"/>
          <p:cNvSpPr/>
          <p:nvPr/>
        </p:nvSpPr>
        <p:spPr>
          <a:xfrm>
            <a:off x="2705040" y="54450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Блок-схема: процесс 13"/>
          <p:cNvSpPr/>
          <p:nvPr/>
        </p:nvSpPr>
        <p:spPr>
          <a:xfrm>
            <a:off x="4140360" y="3645000"/>
            <a:ext cx="431640" cy="647640"/>
          </a:xfrm>
          <a:prstGeom prst="flowChartProcess">
            <a:avLst/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Блок-схема: решение 14"/>
          <p:cNvSpPr/>
          <p:nvPr/>
        </p:nvSpPr>
        <p:spPr>
          <a:xfrm>
            <a:off x="4140360" y="4653000"/>
            <a:ext cx="431640" cy="792000"/>
          </a:xfrm>
          <a:prstGeom prst="flowChartDecision">
            <a:avLst/>
          </a:pr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Блок-схема: извлечение 15"/>
          <p:cNvSpPr/>
          <p:nvPr/>
        </p:nvSpPr>
        <p:spPr>
          <a:xfrm>
            <a:off x="4140360" y="1484280"/>
            <a:ext cx="360360" cy="720720"/>
          </a:xfrm>
          <a:prstGeom prst="flowChartExtract">
            <a:avLst/>
          </a:pr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3997440" y="234936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  <a:ea typeface="Arial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Блок-схема: процесс 5"/>
          <p:cNvSpPr/>
          <p:nvPr/>
        </p:nvSpPr>
        <p:spPr>
          <a:xfrm>
            <a:off x="5508720" y="3500280"/>
            <a:ext cx="431640" cy="648000"/>
          </a:xfrm>
          <a:prstGeom prst="flowChartProcess">
            <a:avLst/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Блок-схема: решение 6"/>
          <p:cNvSpPr/>
          <p:nvPr/>
        </p:nvSpPr>
        <p:spPr>
          <a:xfrm>
            <a:off x="5508720" y="4508640"/>
            <a:ext cx="431640" cy="792000"/>
          </a:xfrm>
          <a:prstGeom prst="flowChartDecision">
            <a:avLst/>
          </a:pr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Блок-схема: извлечение 7"/>
          <p:cNvSpPr/>
          <p:nvPr/>
        </p:nvSpPr>
        <p:spPr>
          <a:xfrm>
            <a:off x="5508720" y="1339920"/>
            <a:ext cx="360360" cy="720720"/>
          </a:xfrm>
          <a:prstGeom prst="flowChartExtract">
            <a:avLst/>
          </a:pr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700360" y="1052640"/>
            <a:ext cx="108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  <a:ea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  <a:ea typeface="Arial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  <a:ea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  <a:ea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3924360" y="1052640"/>
            <a:ext cx="108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  <a:ea typeface="Arial"/>
              </a:rPr>
              <a:t>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  <a:ea typeface="Arial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  <a:ea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365800" y="220500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  <a:ea typeface="Arial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1984320" y="53006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2"/>
          <p:cNvSpPr/>
          <p:nvPr/>
        </p:nvSpPr>
        <p:spPr>
          <a:xfrm>
            <a:off x="684360" y="3314880"/>
            <a:ext cx="7056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7:58:03Z</dcterms:created>
  <dc:creator>Мухомор</dc:creator>
  <dc:description/>
  <dc:language>en-US</dc:language>
  <cp:lastModifiedBy>Мухомор</cp:lastModifiedBy>
  <dcterms:modified xsi:type="dcterms:W3CDTF">2019-12-04T20:19:40Z</dcterms:modified>
  <cp:revision>22</cp:revision>
  <dc:subject/>
  <dc:title>Презентация PowerPoint</dc:title>
</cp:coreProperties>
</file>