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gif" ContentType="image/gif"/>
  <Override PartName="/ppt/media/image6.png" ContentType="image/png"/>
  <Override PartName="/ppt/media/image3.wmf" ContentType="image/x-wmf"/>
  <Override PartName="/ppt/media/image4.wmf" ContentType="image/x-wmf"/>
  <Override PartName="/ppt/media/image10.gif" ContentType="image/gif"/>
  <Override PartName="/ppt/media/image7.gif" ContentType="image/gif"/>
  <Override PartName="/ppt/media/image12.gif" ContentType="image/gif"/>
  <Override PartName="/ppt/media/image5.gif" ContentType="image/gi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9A6-4244-476B-A60A-419D9231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D90-1021-416E-ABB0-B6F32E79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733-FD81-4633-BE5D-0C40ED6B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DDE-9AF5-4F9B-9559-F98103F8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E0B-2AEF-4B54-94F5-6EB3C54F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7B58-4FB7-469D-A717-AEA927EF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0D41-ABA9-49F7-BDF2-AB07B312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9EBA-707E-4FCE-A1A7-E9BA2BE2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796E-F351-40C2-BBAF-7D7F889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3C37-3DC9-4341-908D-59A0CECE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EFB1-719C-4A6F-9C5A-3AC8986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E82-ADBC-4A5E-8D11-29FC14D2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78D7-E9B4-4A59-A2D3-ED356ABB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0A4D-341D-4DF0-B8ED-4AE4E0D5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97E4-A39E-490A-9443-EA48BFDC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5ECC-F8B8-4BA4-9EC5-7266A98E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FB8D-A5E6-4603-A78B-93149BAC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14AC-6437-42AF-8A1B-D6921931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ED9D-37AE-4991-80AB-7B17E7A8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CA919-5622-4F96-A91E-F76900B2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22D7-B410-44AC-8349-15F588C5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EB67-7C8F-4E8F-92F9-D4593A4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F22-216E-49C5-BC6B-0D260559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3D73-6C6F-49AC-B752-6F6374E4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FEC4-F8D1-4F6D-BA1E-3387B27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2A0B-F1BC-4A6C-8590-0875AF1A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E8FA-71D6-42BD-9814-D8C0C967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18F9-2758-4E18-AAAF-AF9AC54C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B703-77FB-4FE4-98A7-28E0866E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4ADA-B885-4E94-97CD-A8FCE3BF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6311F-3945-4D6A-8D3D-6DB5A7C1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B800-CBE4-4E62-8732-D114AB91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A080-B4B1-42B6-A795-87906624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ED8-CA19-40CC-8633-52B2A73C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B84C2-BB15-407C-951A-486B2916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09E0-8035-4EA0-A4EE-77B4FFA6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E6D6-D6F4-4104-90D0-36523475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4BE61-E4B7-4E4B-A5E3-9F70A310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A8726-346D-4683-9AB9-17BD82BB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2893-ABFE-4CB4-B6C1-558DDB5B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5F21-41C7-438B-9664-2CB11008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02F8C-36C6-4E60-B29C-237C8A1E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5AE1-58AE-467E-BEA2-10E4BA13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6A84-8BB7-419F-922D-CA1EC502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95D-ED86-46A9-9267-5E6B78D1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15044-B2C5-44A8-A5B7-8967F56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003FA-406A-4E20-80A9-3208C629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76E9-4E5F-4814-9AB9-128C8313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1030D-15B6-4758-AC5F-9C3B1224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EB36F-9362-494C-AAE3-76CC86E6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10E80-C151-46BB-B3E4-E1DF8A9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DBC07-A817-4538-8A53-542A9B25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F3F5C-A8B1-480A-BF20-824A824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CBEB3-2D98-4076-B548-752DBC5F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6DFD-67A9-47B4-B599-9A63A5AB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0AF-2A07-4512-8458-DB2DD2C3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3F732-DC87-42B9-8557-64D029B1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9D2B7-40BC-48D1-BAEB-171F7F61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55C6-96D0-46C2-9D58-05DD9A5E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83906-6AB2-4B4E-8795-7D9FE220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BC6E-BDFB-4B68-858C-A54446CD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F30AD-1CB4-4B32-AE8D-8CDB27C7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C2027-2735-4A67-9DE7-032A9865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3191-716E-447E-8D09-269E55AB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78F7F-A5D5-473F-9406-7456848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458C-9328-44FC-AC4A-87185600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C3A-EDD7-46C8-A065-984543DB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86DD3-C9C3-46B3-A2D8-B7BD9DE1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37892-8DE7-4EAD-B806-9E04D0BA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11699-EFD1-450D-930A-55CD651E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A8D1-013C-45AE-8FAD-789E1185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82E99-47AF-4777-9DDF-EAAED6EE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DAC3-3C52-438D-8733-080C4B20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C3D46-F55A-4EF8-9349-C51BF1A9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14D5-863D-47C6-9332-05DE0E12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A6CF-A3D9-46E9-9CA9-C7BB96D9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0EB0-78F5-487C-B52D-A6ECBE8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C92-C903-46E0-B982-88B288BC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AD2F2-071A-4AE7-99F8-24601627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F3196-82BE-4AA9-91F9-97A012CD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C6527-93BA-4694-BC0D-5AA611D0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12644-E6E5-4886-B75F-96260542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032D-D515-4F70-94AF-0208946C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8F1-FBD4-468D-AC82-ACF6E03A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AE50-F863-4936-9FAD-9D85AA4EF3C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F442-5998-40CB-B82F-D5E5D315D3D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9F98-D90F-4E85-B222-7757ABE7F9D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4E99-58E9-46EC-80A8-488D84D6B07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A3F0-8957-4BA3-ADAE-F4DD8F6ECB4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3441-1197-416A-A04F-F4D753CE22E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662E-A602-4624-8C1D-40FC602FD11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7" descr="cdolls118.gif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42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0"/>
          <p:cNvSpPr/>
          <p:nvPr/>
        </p:nvSpPr>
        <p:spPr>
          <a:xfrm>
            <a:off x="2484360" y="981000"/>
            <a:ext cx="4465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Олимпиа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по  русскому  язы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cliparts03"/>
          <p:cNvPicPr/>
          <p:nvPr/>
        </p:nvPicPr>
        <p:blipFill>
          <a:blip r:embed="rId1"/>
          <a:stretch/>
        </p:blipFill>
        <p:spPr>
          <a:xfrm>
            <a:off x="6372360" y="1052640"/>
            <a:ext cx="1965240" cy="2447640"/>
          </a:xfrm>
          <a:prstGeom prst="rect">
            <a:avLst/>
          </a:prstGeom>
          <a:ln w="0">
            <a:noFill/>
          </a:ln>
        </p:spPr>
      </p:pic>
      <p:sp>
        <p:nvSpPr>
          <p:cNvPr id="437" name="WordArt 7"/>
          <p:cNvSpPr txBox="1"/>
          <p:nvPr/>
        </p:nvSpPr>
        <p:spPr>
          <a:xfrm>
            <a:off x="0" y="549360"/>
            <a:ext cx="698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b8803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разеологизмы</a:t>
            </a:r>
            <a:endParaRPr b="1" lang="en-US" sz="1800" spc="1" strike="noStrike">
              <a:ln w="12600">
                <a:solidFill>
                  <a:srgbClr val="eb8803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826920" y="2205000"/>
            <a:ext cx="7632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Это тебе не по зубам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                  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Имеет зуб против меня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Зуб на зуб не попадает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692360" y="263700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Monotype Corsiva"/>
              </a:rPr>
              <a:t>Это тебе не по сил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3059280" y="429264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Monotype Corsiva"/>
              </a:rPr>
              <a:t>Имеет против меня оби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1763640" y="587700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Monotype Corsiva"/>
              </a:rPr>
              <a:t>Сильно замёрзну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7" descr="cdolls118.gif"/>
          <p:cNvPicPr/>
          <p:nvPr/>
        </p:nvPicPr>
        <p:blipFill>
          <a:blip r:embed="rId1"/>
          <a:stretch/>
        </p:blipFill>
        <p:spPr>
          <a:xfrm>
            <a:off x="394560" y="907920"/>
            <a:ext cx="8280360" cy="495144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6"/>
          <p:cNvSpPr/>
          <p:nvPr/>
        </p:nvSpPr>
        <p:spPr>
          <a:xfrm>
            <a:off x="2700360" y="184464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a8c1"/>
                </a:solidFill>
                <a:latin typeface="Monotype Corsiva"/>
              </a:rPr>
              <a:t>Вы  победил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755640" y="40464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157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761847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ставь  ударение    в  словах</a:t>
            </a:r>
            <a:endParaRPr b="1" lang="en-US" sz="1800" spc="1" strike="noStrike">
              <a:ln w="12600">
                <a:solidFill>
                  <a:srgbClr val="ea157a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761847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11280" y="1989000"/>
            <a:ext cx="8064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алюзи                              ветерина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кушка                              крем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бодрить                       нед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звонишься                    о  гер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верх                                оптовый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6" descr="book8"/>
          <p:cNvPicPr/>
          <p:nvPr/>
        </p:nvPicPr>
        <p:blipFill>
          <a:blip r:embed="rId1"/>
          <a:stretch/>
        </p:blipFill>
        <p:spPr>
          <a:xfrm>
            <a:off x="3203640" y="4597560"/>
            <a:ext cx="2162160" cy="22604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8"/>
          <p:cNvSpPr/>
          <p:nvPr/>
        </p:nvSpPr>
        <p:spPr>
          <a:xfrm>
            <a:off x="2124000" y="17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47636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2484360" y="32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268360" y="39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140328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7812000" y="17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680400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651672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6443640" y="40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7"/>
          <p:cNvSpPr/>
          <p:nvPr/>
        </p:nvSpPr>
        <p:spPr>
          <a:xfrm>
            <a:off x="651672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4"/>
          <p:cNvSpPr txBox="1"/>
          <p:nvPr/>
        </p:nvSpPr>
        <p:spPr>
          <a:xfrm>
            <a:off x="611280" y="260280"/>
            <a:ext cx="784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b8803"/>
                  </a:solidFill>
                  <a:miter/>
                </a:ln>
                <a:gradFill rotWithShape="0">
                  <a:gsLst>
                    <a:gs pos="0">
                      <a:srgbClr val="761847"/>
                    </a:gs>
                    <a:gs pos="5000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кажите  части  речи</a:t>
            </a:r>
            <a:endParaRPr b="1" lang="en-US" sz="1800" spc="1" strike="noStrike">
              <a:ln w="12600">
                <a:solidFill>
                  <a:srgbClr val="eb8803"/>
                </a:solidFill>
                <a:miter/>
              </a:ln>
              <a:gradFill rotWithShape="0">
                <a:gsLst>
                  <a:gs pos="0">
                    <a:srgbClr val="761847"/>
                  </a:gs>
                  <a:gs pos="5000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95280" y="2276640"/>
            <a:ext cx="56894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-за холодных утренних рос хлеб рос медле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стой трактора произошёл по простой причине: водовоз не подвёз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8" descr="j0198237"/>
          <p:cNvPicPr/>
          <p:nvPr/>
        </p:nvPicPr>
        <p:blipFill>
          <a:blip r:embed="rId1"/>
          <a:stretch/>
        </p:blipFill>
        <p:spPr>
          <a:xfrm>
            <a:off x="5715000" y="4143240"/>
            <a:ext cx="2847960" cy="213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j0216886"/>
          <p:cNvPicPr/>
          <p:nvPr/>
        </p:nvPicPr>
        <p:blipFill>
          <a:blip r:embed="rId2"/>
          <a:stretch/>
        </p:blipFill>
        <p:spPr>
          <a:xfrm>
            <a:off x="5753160" y="2230560"/>
            <a:ext cx="1828800" cy="925560"/>
          </a:xfrm>
          <a:prstGeom prst="rect">
            <a:avLst/>
          </a:prstGeom>
          <a:ln w="0">
            <a:noFill/>
          </a:ln>
        </p:spPr>
      </p:pic>
      <p:sp>
        <p:nvSpPr>
          <p:cNvPr id="387" name="Line 15"/>
          <p:cNvSpPr/>
          <p:nvPr/>
        </p:nvSpPr>
        <p:spPr>
          <a:xfrm>
            <a:off x="2556000" y="3357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4500720" y="335772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>
            <a:off x="755640" y="4508640"/>
            <a:ext cx="20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3492360" y="501336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WordArt 4"/>
          <p:cNvSpPr txBox="1"/>
          <p:nvPr/>
        </p:nvSpPr>
        <p:spPr>
          <a:xfrm>
            <a:off x="1403280" y="33336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b8803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ственные   слова</a:t>
            </a:r>
            <a:endParaRPr b="1" lang="en-US" sz="1800" spc="1" strike="noStrike">
              <a:ln w="12600">
                <a:solidFill>
                  <a:srgbClr val="eb8803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755640" y="1700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исать группы однокоренных слов, выделить кор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39640" y="2349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ас, бассейн, басня, басить, басенный, баснословный. басовитый, басок, побасёнки, басов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84360" y="3860640"/>
            <a:ext cx="2374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б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бас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басови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бас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басо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3492360" y="3860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бассей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6084720" y="3933720"/>
            <a:ext cx="2735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бас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бас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баснослов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побасё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11" descr="a17"/>
          <p:cNvPicPr/>
          <p:nvPr/>
        </p:nvPicPr>
        <p:blipFill>
          <a:blip r:embed="rId1"/>
          <a:stretch/>
        </p:blipFill>
        <p:spPr>
          <a:xfrm>
            <a:off x="3203640" y="429264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684360" y="333360"/>
            <a:ext cx="45352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b8803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   ошибки.</a:t>
            </a:r>
            <a:endParaRPr b="1" lang="en-US" sz="1800" spc="1" strike="noStrike">
              <a:ln w="12600">
                <a:solidFill>
                  <a:srgbClr val="eb8803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50920" y="2492280"/>
            <a:ext cx="88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В этом рассказе рассказывается про жизнь звер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Водитель попросил оплатить за проез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Я хочу рассказать за  нов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06" descr="9"/>
          <p:cNvPicPr/>
          <p:nvPr/>
        </p:nvPicPr>
        <p:blipFill>
          <a:blip r:embed="rId1"/>
          <a:stretch/>
        </p:blipFill>
        <p:spPr>
          <a:xfrm>
            <a:off x="2195640" y="4508640"/>
            <a:ext cx="4010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539640" y="333360"/>
            <a:ext cx="676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b8803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уй  множ.  число.</a:t>
            </a:r>
            <a:endParaRPr b="1" lang="en-US" sz="1800" spc="1" strike="noStrike">
              <a:ln w="12600">
                <a:solidFill>
                  <a:srgbClr val="eb8803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1187280" y="2421000"/>
            <a:ext cx="2592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кур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рское суд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чу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неб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ребё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372360" y="2421000"/>
            <a:ext cx="324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к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рские с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чуд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неб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де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7" descr="танцы"/>
          <p:cNvPicPr/>
          <p:nvPr/>
        </p:nvPicPr>
        <p:blipFill>
          <a:blip r:embed="rId1"/>
          <a:stretch/>
        </p:blipFill>
        <p:spPr>
          <a:xfrm>
            <a:off x="2987640" y="3573360"/>
            <a:ext cx="30970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5"/>
          <p:cNvSpPr/>
          <p:nvPr/>
        </p:nvSpPr>
        <p:spPr>
          <a:xfrm>
            <a:off x="539640" y="2781360"/>
            <a:ext cx="3889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переходить ре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разделить конф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сварить яйц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в дороге 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держать ружь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надеть кеп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глянуть на вра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6227640" y="2781360"/>
            <a:ext cx="255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вкрут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исподлоб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всухомя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поров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вб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набекр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наперев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>
            <a:off x="3708360" y="3068640"/>
            <a:ext cx="2521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067280" y="3573360"/>
            <a:ext cx="223344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9"/>
          <p:cNvSpPr/>
          <p:nvPr/>
        </p:nvSpPr>
        <p:spPr>
          <a:xfrm flipV="1">
            <a:off x="2987640" y="3068280"/>
            <a:ext cx="3168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10"/>
          <p:cNvSpPr/>
          <p:nvPr/>
        </p:nvSpPr>
        <p:spPr>
          <a:xfrm flipV="1">
            <a:off x="2843280" y="4149720"/>
            <a:ext cx="3384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11"/>
          <p:cNvSpPr/>
          <p:nvPr/>
        </p:nvSpPr>
        <p:spPr>
          <a:xfrm>
            <a:off x="3276720" y="5300640"/>
            <a:ext cx="295092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2"/>
          <p:cNvSpPr/>
          <p:nvPr/>
        </p:nvSpPr>
        <p:spPr>
          <a:xfrm>
            <a:off x="2987640" y="580536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 flipV="1">
            <a:off x="3564000" y="3644640"/>
            <a:ext cx="266364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4" descr="Ученик пишет"/>
          <p:cNvPicPr/>
          <p:nvPr/>
        </p:nvPicPr>
        <p:blipFill>
          <a:blip r:embed="rId1"/>
          <a:stretch/>
        </p:blipFill>
        <p:spPr>
          <a:xfrm>
            <a:off x="6588000" y="333360"/>
            <a:ext cx="1892520" cy="2232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8" descr="ANTN025"/>
          <p:cNvPicPr/>
          <p:nvPr/>
        </p:nvPicPr>
        <p:blipFill>
          <a:blip r:embed="rId2"/>
          <a:stretch/>
        </p:blipFill>
        <p:spPr>
          <a:xfrm flipH="1">
            <a:off x="4067280" y="3573360"/>
            <a:ext cx="1550880" cy="2303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6"/>
          <p:cNvSpPr/>
          <p:nvPr/>
        </p:nvSpPr>
        <p:spPr>
          <a:xfrm>
            <a:off x="468360" y="191628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бери к словосочетаниям подходящие    нареч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WordArt 17"/>
          <p:cNvSpPr txBox="1"/>
          <p:nvPr/>
        </p:nvSpPr>
        <p:spPr>
          <a:xfrm>
            <a:off x="539640" y="333360"/>
            <a:ext cx="5183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b8803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бери  наречия</a:t>
            </a:r>
            <a:endParaRPr b="1" lang="en-US" sz="1800" spc="1" strike="noStrike">
              <a:ln w="12600">
                <a:solidFill>
                  <a:srgbClr val="eb8803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625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9450"/>
                            </p:stCondLst>
                            <p:childTnLst>
                              <p:par>
                                <p:cTn id="2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4"/>
          <p:cNvSpPr txBox="1"/>
          <p:nvPr/>
        </p:nvSpPr>
        <p:spPr>
          <a:xfrm>
            <a:off x="900000" y="476280"/>
            <a:ext cx="73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b8803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тавь   словосочетания</a:t>
            </a:r>
            <a:endParaRPr b="1" lang="en-US" sz="1800" spc="1" strike="noStrike">
              <a:ln w="12600">
                <a:solidFill>
                  <a:srgbClr val="eb8803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2590920" y="2205000"/>
            <a:ext cx="62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ить словосочетания, в которых слова    употреблены в переносном значен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395280" y="4365720"/>
            <a:ext cx="360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Се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Барха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157a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3309840" y="4365720"/>
            <a:ext cx="583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тума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сезон,  г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взгляд,  харак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9" descr="baby14_1"/>
          <p:cNvPicPr/>
          <p:nvPr/>
        </p:nvPicPr>
        <p:blipFill>
          <a:blip r:embed="rId1"/>
          <a:stretch/>
        </p:blipFill>
        <p:spPr>
          <a:xfrm>
            <a:off x="468360" y="2133720"/>
            <a:ext cx="1760400" cy="1800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5" descr="j0150023"/>
          <p:cNvPicPr/>
          <p:nvPr/>
        </p:nvPicPr>
        <p:blipFill>
          <a:blip r:embed="rId2"/>
          <a:stretch/>
        </p:blipFill>
        <p:spPr>
          <a:xfrm>
            <a:off x="5243400" y="1625760"/>
            <a:ext cx="28479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611280" y="333360"/>
            <a:ext cx="474336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2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b8803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ёрдые  согласные</a:t>
            </a:r>
            <a:endParaRPr b="1" lang="en-US" sz="1800" spc="1" strike="noStrike">
              <a:ln w="12600">
                <a:solidFill>
                  <a:srgbClr val="eb8803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539640" y="2708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ких словах только твёрдые соглас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755640" y="3789360"/>
            <a:ext cx="590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водит                     м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пашешь                можеш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верит                    мат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сме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13" descr="j0254500"/>
          <p:cNvPicPr/>
          <p:nvPr/>
        </p:nvPicPr>
        <p:blipFill>
          <a:blip r:embed="rId1"/>
          <a:stretch/>
        </p:blipFill>
        <p:spPr>
          <a:xfrm>
            <a:off x="2000160" y="221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j0254500"/>
          <p:cNvPicPr/>
          <p:nvPr/>
        </p:nvPicPr>
        <p:blipFill>
          <a:blip r:embed="rId2"/>
          <a:stretch/>
        </p:blipFill>
        <p:spPr>
          <a:xfrm>
            <a:off x="6191280" y="221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3" descr="ae7125b032b97b698f903407ce24b4c0"/>
          <p:cNvPicPr/>
          <p:nvPr/>
        </p:nvPicPr>
        <p:blipFill>
          <a:blip r:embed="rId3"/>
          <a:stretch/>
        </p:blipFill>
        <p:spPr>
          <a:xfrm>
            <a:off x="6012000" y="404640"/>
            <a:ext cx="2158920" cy="2159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" descr="j0254500"/>
          <p:cNvPicPr/>
          <p:nvPr/>
        </p:nvPicPr>
        <p:blipFill>
          <a:blip r:embed="rId4"/>
          <a:stretch/>
        </p:blipFill>
        <p:spPr>
          <a:xfrm>
            <a:off x="4859280" y="5084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9"/>
          <p:cNvSpPr/>
          <p:nvPr/>
        </p:nvSpPr>
        <p:spPr>
          <a:xfrm>
            <a:off x="6084720" y="342900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7380360" y="5229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4932360" y="537372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6"/>
          <p:cNvSpPr/>
          <p:nvPr/>
        </p:nvSpPr>
        <p:spPr>
          <a:xfrm>
            <a:off x="684360" y="479736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7"/>
          <p:cNvSpPr/>
          <p:nvPr/>
        </p:nvSpPr>
        <p:spPr>
          <a:xfrm>
            <a:off x="3203640" y="472428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7:28:58Z</dcterms:created>
  <dc:creator>Ходанкова Валентина</dc:creator>
  <dc:description/>
  <dc:language>en-US</dc:language>
  <cp:lastModifiedBy>Admin</cp:lastModifiedBy>
  <dcterms:modified xsi:type="dcterms:W3CDTF">2019-12-26T16:12:59Z</dcterms:modified>
  <cp:revision>10</cp:revision>
  <dc:subject/>
  <dc:title>Слайд 1</dc:title>
</cp:coreProperties>
</file>