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E77-3DE5-481B-81F3-559701DF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67C6-98B8-4E62-9507-3B34DC26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DB5-D358-4B1A-BAA5-CADFF971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ACC-7EC8-4B15-AF1D-DF853B09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7C48-8B15-4F3D-808F-08A800EE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E2A-3D0F-4EE1-918F-87CEE226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378-B6ED-4DD6-99E6-CA6389F6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795-FC86-451D-8865-C0DB2FA7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15E-D761-4417-9230-B36FD84C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D90-35E8-468E-843F-939464F8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AC1-5076-4E23-96C7-340EE1CF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D71-F465-44CE-A25E-35B6B48A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CE88-41FB-47A3-8BA7-91A31CFD2E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8" descr="32451c80e368.jpg"/>
          <p:cNvPicPr/>
          <p:nvPr/>
        </p:nvPicPr>
        <p:blipFill>
          <a:blip r:embed="rId2"/>
          <a:stretch/>
        </p:blipFill>
        <p:spPr>
          <a:xfrm>
            <a:off x="0" y="4381560"/>
            <a:ext cx="2430360" cy="24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csaba.3dn.ru/32451c80e368.jp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826920" y="765000"/>
            <a:ext cx="720108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«Приемы работы, используемые в урочной и внеурочной    деятельности, способствующие достижению планируемых результатов в соответствии с требованиями ФГО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CAM00088"/>
          <p:cNvPicPr/>
          <p:nvPr/>
        </p:nvPicPr>
        <p:blipFill>
          <a:blip r:embed="rId1"/>
          <a:stretch/>
        </p:blipFill>
        <p:spPr>
          <a:xfrm>
            <a:off x="611280" y="692280"/>
            <a:ext cx="2952720" cy="383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Прямоугольник 2"/>
          <p:cNvSpPr/>
          <p:nvPr/>
        </p:nvSpPr>
        <p:spPr>
          <a:xfrm>
            <a:off x="491760" y="1890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абота со словарями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yZzENqyCaeA"/>
          <p:cNvPicPr/>
          <p:nvPr/>
        </p:nvPicPr>
        <p:blipFill>
          <a:blip r:embed="rId2"/>
          <a:stretch/>
        </p:blipFill>
        <p:spPr>
          <a:xfrm>
            <a:off x="4643280" y="260280"/>
            <a:ext cx="377856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7" name="Rectangle 3"/>
          <p:cNvSpPr/>
          <p:nvPr/>
        </p:nvSpPr>
        <p:spPr>
          <a:xfrm>
            <a:off x="4513680" y="35744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гадывание кроссвор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wemBGg69HM4"/>
          <p:cNvPicPr/>
          <p:nvPr/>
        </p:nvPicPr>
        <p:blipFill>
          <a:blip r:embed="rId3"/>
          <a:stretch/>
        </p:blipFill>
        <p:spPr>
          <a:xfrm>
            <a:off x="6300720" y="4005360"/>
            <a:ext cx="1943280" cy="265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Rectangle 5"/>
          <p:cNvSpPr/>
          <p:nvPr/>
        </p:nvSpPr>
        <p:spPr>
          <a:xfrm>
            <a:off x="1854360" y="573372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«Сравни, объясни, докаж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hjb1ZT9vGcY"/>
          <p:cNvPicPr/>
          <p:nvPr/>
        </p:nvPicPr>
        <p:blipFill>
          <a:blip r:embed="rId1"/>
          <a:stretch/>
        </p:blipFill>
        <p:spPr>
          <a:xfrm>
            <a:off x="468360" y="260280"/>
            <a:ext cx="2087640" cy="28004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7560" y="3144960"/>
            <a:ext cx="458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Выбор интересных кни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занятия в библиоте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CAM00054"/>
          <p:cNvPicPr/>
          <p:nvPr/>
        </p:nvPicPr>
        <p:blipFill>
          <a:blip r:embed="rId2"/>
          <a:stretch/>
        </p:blipFill>
        <p:spPr>
          <a:xfrm>
            <a:off x="4859280" y="1546200"/>
            <a:ext cx="3249720" cy="51228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4804560" y="981720"/>
            <a:ext cx="37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Защита своих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019"/>
          <p:cNvPicPr/>
          <p:nvPr/>
        </p:nvPicPr>
        <p:blipFill>
          <a:blip r:embed="rId1"/>
          <a:stretch/>
        </p:blipFill>
        <p:spPr>
          <a:xfrm>
            <a:off x="395280" y="1413000"/>
            <a:ext cx="3359160" cy="252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6" name="Rectangle 3"/>
          <p:cNvSpPr/>
          <p:nvPr/>
        </p:nvSpPr>
        <p:spPr>
          <a:xfrm>
            <a:off x="228600" y="212040"/>
            <a:ext cx="74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иемы работы, способствующие формированию  регулятивных  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869640" y="1490760"/>
            <a:ext cx="430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0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Составлять 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Действовать по пл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верять и оцени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результаты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033"/>
          <p:cNvPicPr/>
          <p:nvPr/>
        </p:nvPicPr>
        <p:blipFill>
          <a:blip r:embed="rId2"/>
          <a:stretch/>
        </p:blipFill>
        <p:spPr>
          <a:xfrm>
            <a:off x="4356000" y="3429000"/>
            <a:ext cx="418644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9" name="Прямоугольник 7"/>
          <p:cNvSpPr/>
          <p:nvPr/>
        </p:nvSpPr>
        <p:spPr>
          <a:xfrm>
            <a:off x="4736160" y="6334200"/>
            <a:ext cx="33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«Найди ошибку!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DSCN6235"/>
          <p:cNvPicPr/>
          <p:nvPr/>
        </p:nvPicPr>
        <p:blipFill>
          <a:blip r:embed="rId1"/>
          <a:stretch/>
        </p:blipFill>
        <p:spPr>
          <a:xfrm>
            <a:off x="179280" y="765000"/>
            <a:ext cx="4226040" cy="3173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Rectangle 2"/>
          <p:cNvSpPr/>
          <p:nvPr/>
        </p:nvSpPr>
        <p:spPr>
          <a:xfrm>
            <a:off x="263520" y="261720"/>
            <a:ext cx="390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Работа по алгорит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fqJe03U6bms"/>
          <p:cNvPicPr/>
          <p:nvPr/>
        </p:nvPicPr>
        <p:blipFill>
          <a:blip r:embed="rId2"/>
          <a:stretch/>
        </p:blipFill>
        <p:spPr>
          <a:xfrm>
            <a:off x="4870440" y="2097000"/>
            <a:ext cx="3803760" cy="48402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5"/>
          <p:cNvSpPr/>
          <p:nvPr/>
        </p:nvSpPr>
        <p:spPr>
          <a:xfrm>
            <a:off x="4588920" y="1628640"/>
            <a:ext cx="45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ыставки детских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2639880" y="4303800"/>
            <a:ext cx="3359160" cy="2693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018"/>
          <p:cNvPicPr/>
          <p:nvPr/>
        </p:nvPicPr>
        <p:blipFill>
          <a:blip r:embed="rId1"/>
          <a:stretch/>
        </p:blipFill>
        <p:spPr>
          <a:xfrm>
            <a:off x="395280" y="765000"/>
            <a:ext cx="2857680" cy="381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6" name="Rectangle 2"/>
          <p:cNvSpPr/>
          <p:nvPr/>
        </p:nvSpPr>
        <p:spPr>
          <a:xfrm>
            <a:off x="322200" y="259920"/>
            <a:ext cx="84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743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Мастер-класс в музее Варежки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dcaq1ndfmQo"/>
          <p:cNvPicPr/>
          <p:nvPr/>
        </p:nvPicPr>
        <p:blipFill>
          <a:blip r:embed="rId2"/>
          <a:stretch/>
        </p:blipFill>
        <p:spPr>
          <a:xfrm>
            <a:off x="4356000" y="1484280"/>
            <a:ext cx="3676680" cy="38163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3723480" y="5332320"/>
            <a:ext cx="483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Самопроверка, самоконтро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взаимо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197640" y="119160"/>
            <a:ext cx="634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иемы работы, способству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формированию  личностных 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SGWEnB9PCg"/>
          <p:cNvPicPr/>
          <p:nvPr/>
        </p:nvPicPr>
        <p:blipFill>
          <a:blip r:embed="rId1"/>
          <a:stretch/>
        </p:blipFill>
        <p:spPr>
          <a:xfrm>
            <a:off x="250920" y="1052640"/>
            <a:ext cx="2665440" cy="355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" name="Picture 3" descr="001"/>
          <p:cNvPicPr/>
          <p:nvPr/>
        </p:nvPicPr>
        <p:blipFill>
          <a:blip r:embed="rId2"/>
          <a:stretch/>
        </p:blipFill>
        <p:spPr>
          <a:xfrm>
            <a:off x="3132000" y="1052640"/>
            <a:ext cx="2962440" cy="36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2" name="Picture 4" descr="iIcQ3vq4Gtw"/>
          <p:cNvPicPr/>
          <p:nvPr/>
        </p:nvPicPr>
        <p:blipFill>
          <a:blip r:embed="rId3"/>
          <a:stretch/>
        </p:blipFill>
        <p:spPr>
          <a:xfrm>
            <a:off x="6227640" y="1628640"/>
            <a:ext cx="2756160" cy="36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3" name="Прямоугольник 6"/>
          <p:cNvSpPr/>
          <p:nvPr/>
        </p:nvSpPr>
        <p:spPr>
          <a:xfrm>
            <a:off x="2361960" y="5013360"/>
            <a:ext cx="37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гры по интерес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2354760" y="551664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атрализация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2153160" y="6093000"/>
            <a:ext cx="66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«Идеальная работа» - подарок ма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2002320" y="766800"/>
            <a:ext cx="49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Создание ситуации усп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573840" y="115920"/>
            <a:ext cx="73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«Не унывать! Всё пройти и всё узнать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324000" y="1484280"/>
            <a:ext cx="85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дача учителя состоит в том, чтобы дать каждому из своих воспитанников пережить радость достижения, осознать свои возможности, поверить в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2411280" y="3860640"/>
            <a:ext cx="3276720" cy="2622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7020000" y="2349360"/>
            <a:ext cx="1942920" cy="259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6"/>
          <p:cNvSpPr/>
          <p:nvPr/>
        </p:nvSpPr>
        <p:spPr>
          <a:xfrm>
            <a:off x="142920" y="3571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mcsaba.3dn.ru/32451c80e368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емля с колокольч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611280" y="115920"/>
            <a:ext cx="766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Школа -  важнейший период в жизни каждого человека, во многом определяющий его дальнейшее развитие. Особенно важен в воспитательном отношении первый этап -  начальная школа. От того, насколько осознанно и заинтересовано ребёнок будет участвовать в учебном процессе, зависит результативность его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875640" y="3357720"/>
            <a:ext cx="2106360" cy="280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284720" y="3860640"/>
            <a:ext cx="2536920" cy="203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340000" y="4292640"/>
            <a:ext cx="1879560" cy="21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179280" y="404640"/>
            <a:ext cx="871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остижения планируемых результатов в соответствии с требованиями ФГОС можно добиться через вовлечение обучающихся в исследовательские проекты, творческие задания и занятия, спортивные мероприятия, в ходе которых они научатся изобретать, понимать и осваивать новое, быть открытыми и способными выражать собственные мысли, уметь принимать решения и помогать друг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500720" y="4005360"/>
            <a:ext cx="3614760" cy="271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50920" y="19224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иемы работы, способствующие формированию  коммуникативных 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011"/>
          <p:cNvPicPr/>
          <p:nvPr/>
        </p:nvPicPr>
        <p:blipFill>
          <a:blip r:embed="rId1"/>
          <a:stretch/>
        </p:blipFill>
        <p:spPr>
          <a:xfrm>
            <a:off x="250920" y="1268280"/>
            <a:ext cx="2104920" cy="28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Picture 3" descr="040"/>
          <p:cNvPicPr/>
          <p:nvPr/>
        </p:nvPicPr>
        <p:blipFill>
          <a:blip r:embed="rId2"/>
          <a:stretch/>
        </p:blipFill>
        <p:spPr>
          <a:xfrm>
            <a:off x="3203640" y="1341360"/>
            <a:ext cx="2089080" cy="278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Picture 4" descr="002"/>
          <p:cNvPicPr/>
          <p:nvPr/>
        </p:nvPicPr>
        <p:blipFill>
          <a:blip r:embed="rId3"/>
          <a:stretch/>
        </p:blipFill>
        <p:spPr>
          <a:xfrm>
            <a:off x="5724360" y="1341360"/>
            <a:ext cx="2951280" cy="213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Rectangle 5"/>
          <p:cNvSpPr/>
          <p:nvPr/>
        </p:nvSpPr>
        <p:spPr>
          <a:xfrm>
            <a:off x="2340000" y="5234400"/>
            <a:ext cx="55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Организация работы в парах, группах в процессе урочной и внеуроч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5398920" y="3645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ыпуск стенгазет  для своих друзей, к праздничным да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273600" y="4149720"/>
            <a:ext cx="42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гров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179280" y="18900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иемы работы, способствующие формированию  коммуникативных 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006"/>
          <p:cNvPicPr/>
          <p:nvPr/>
        </p:nvPicPr>
        <p:blipFill>
          <a:blip r:embed="rId1"/>
          <a:stretch/>
        </p:blipFill>
        <p:spPr>
          <a:xfrm>
            <a:off x="468360" y="1268280"/>
            <a:ext cx="3645000" cy="2737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005"/>
          <p:cNvPicPr/>
          <p:nvPr/>
        </p:nvPicPr>
        <p:blipFill>
          <a:blip r:embed="rId2"/>
          <a:stretch/>
        </p:blipFill>
        <p:spPr>
          <a:xfrm>
            <a:off x="4356000" y="1268280"/>
            <a:ext cx="3311640" cy="2710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Picture 3" descr="DSCN6288"/>
          <p:cNvPicPr/>
          <p:nvPr/>
        </p:nvPicPr>
        <p:blipFill>
          <a:blip r:embed="rId3"/>
          <a:stretch/>
        </p:blipFill>
        <p:spPr>
          <a:xfrm>
            <a:off x="2268360" y="4108320"/>
            <a:ext cx="3311640" cy="2489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Прямоугольник 6"/>
          <p:cNvSpPr/>
          <p:nvPr/>
        </p:nvSpPr>
        <p:spPr>
          <a:xfrm>
            <a:off x="959760" y="1268280"/>
            <a:ext cx="26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театрал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SCN6324"/>
          <p:cNvPicPr/>
          <p:nvPr/>
        </p:nvPicPr>
        <p:blipFill>
          <a:blip r:embed="rId4"/>
          <a:stretch/>
        </p:blipFill>
        <p:spPr>
          <a:xfrm>
            <a:off x="5746680" y="4149720"/>
            <a:ext cx="3241800" cy="24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TextBox 8"/>
          <p:cNvSpPr/>
          <p:nvPr/>
        </p:nvSpPr>
        <p:spPr>
          <a:xfrm>
            <a:off x="8028000" y="1413000"/>
            <a:ext cx="28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014"/>
          <p:cNvPicPr/>
          <p:nvPr/>
        </p:nvPicPr>
        <p:blipFill>
          <a:blip r:embed="rId1"/>
          <a:stretch/>
        </p:blipFill>
        <p:spPr>
          <a:xfrm>
            <a:off x="250920" y="1413000"/>
            <a:ext cx="4154400" cy="30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Picture 2" descr="TxkOsCh6VTQ"/>
          <p:cNvPicPr/>
          <p:nvPr/>
        </p:nvPicPr>
        <p:blipFill>
          <a:blip r:embed="rId2"/>
          <a:stretch/>
        </p:blipFill>
        <p:spPr>
          <a:xfrm>
            <a:off x="5580000" y="2133720"/>
            <a:ext cx="3168720" cy="421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Прямоугольник 4"/>
          <p:cNvSpPr/>
          <p:nvPr/>
        </p:nvSpPr>
        <p:spPr>
          <a:xfrm>
            <a:off x="265680" y="1341360"/>
            <a:ext cx="41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ллективные празд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5028120" y="1700280"/>
            <a:ext cx="40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сследователь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6"/>
          <p:cNvSpPr/>
          <p:nvPr/>
        </p:nvSpPr>
        <p:spPr>
          <a:xfrm>
            <a:off x="250920" y="18900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иемы работы, способствующие формированию  коммуникативных 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124000" y="472932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«Осенние мотивы», «Первые каникулы», «Новый год у ворот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250920" y="21924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иемы работы, способствующие формированию  познавательных 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010"/>
          <p:cNvPicPr/>
          <p:nvPr/>
        </p:nvPicPr>
        <p:blipFill>
          <a:blip r:embed="rId1"/>
          <a:stretch/>
        </p:blipFill>
        <p:spPr>
          <a:xfrm>
            <a:off x="2195640" y="1700280"/>
            <a:ext cx="2663640" cy="356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Picture 3" descr="027"/>
          <p:cNvPicPr/>
          <p:nvPr/>
        </p:nvPicPr>
        <p:blipFill>
          <a:blip r:embed="rId2"/>
          <a:stretch/>
        </p:blipFill>
        <p:spPr>
          <a:xfrm>
            <a:off x="5292720" y="3573360"/>
            <a:ext cx="3448080" cy="2808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263520" y="981000"/>
            <a:ext cx="4294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ект «Успешное чт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58360" y="2998080"/>
            <a:ext cx="85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Выбери нужный слог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DSCN6419"/>
          <p:cNvPicPr/>
          <p:nvPr/>
        </p:nvPicPr>
        <p:blipFill>
          <a:blip r:embed="rId1"/>
          <a:stretch/>
        </p:blipFill>
        <p:spPr>
          <a:xfrm>
            <a:off x="108000" y="1197000"/>
            <a:ext cx="4260960" cy="33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Picture 2" descr="P1020467"/>
          <p:cNvPicPr/>
          <p:nvPr/>
        </p:nvPicPr>
        <p:blipFill>
          <a:blip r:embed="rId2"/>
          <a:stretch/>
        </p:blipFill>
        <p:spPr>
          <a:xfrm>
            <a:off x="4572000" y="3095640"/>
            <a:ext cx="4303800" cy="350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Rectangle 3"/>
          <p:cNvSpPr/>
          <p:nvPr/>
        </p:nvSpPr>
        <p:spPr>
          <a:xfrm>
            <a:off x="16560" y="220680"/>
            <a:ext cx="520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Чтение с заданием: найти сло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найти ответ на вопрос,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4515120" y="2565360"/>
            <a:ext cx="43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оздаем модель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1020438"/>
          <p:cNvPicPr/>
          <p:nvPr/>
        </p:nvPicPr>
        <p:blipFill>
          <a:blip r:embed="rId1"/>
          <a:stretch/>
        </p:blipFill>
        <p:spPr>
          <a:xfrm>
            <a:off x="468360" y="692280"/>
            <a:ext cx="2303280" cy="36496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3348000" y="836640"/>
            <a:ext cx="237636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pomogajka_b-m"/>
          <p:cNvPicPr/>
          <p:nvPr/>
        </p:nvPicPr>
        <p:blipFill>
          <a:blip r:embed="rId2"/>
          <a:stretch/>
        </p:blipFill>
        <p:spPr>
          <a:xfrm>
            <a:off x="3419640" y="819000"/>
            <a:ext cx="2232000" cy="16732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482400" y="84960"/>
            <a:ext cx="56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Работа со схемами, таблиц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031"/>
          <p:cNvPicPr/>
          <p:nvPr/>
        </p:nvPicPr>
        <p:blipFill>
          <a:blip r:embed="rId3"/>
          <a:stretch/>
        </p:blipFill>
        <p:spPr>
          <a:xfrm>
            <a:off x="4500720" y="3573360"/>
            <a:ext cx="3962160" cy="311004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5090040" y="306864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наю, объясня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08:41:29Z</dcterms:created>
  <dc:creator>Марина</dc:creator>
  <dc:description/>
  <dc:language>en-US</dc:language>
  <cp:lastModifiedBy>Марина</cp:lastModifiedBy>
  <dcterms:modified xsi:type="dcterms:W3CDTF">2019-12-26T16:25:01Z</dcterms:modified>
  <cp:revision>16</cp:revision>
  <dc:subject/>
  <dc:title>Слайд 1</dc:title>
</cp:coreProperties>
</file>