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E257-2E25-4A0F-AE9D-81669E57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AC32-52A1-40FF-A3C2-843560A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11A9-9591-4B0A-81BB-BC84FC9D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C0BA-4D67-4D28-8D9A-6EE23565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8BF3-119B-4867-9A64-D964A773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5E7F-E2FE-4EC1-A964-10B65AC1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E058-1CE2-4954-8E10-A6E0B165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4F59-ADCE-41CF-86FC-9665D415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A579-D4F2-4076-8B56-B270A64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D3C0-6A9B-4656-BC7C-E38B69C2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4CA3-9B68-450D-8ED5-BE448DA1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80E1-88B0-4436-9128-026B6814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561F-59E6-46CE-A2B7-FCD86CAC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37CC-B2A8-452C-9535-FD45D1F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8F2C-7E78-4D08-A5AF-07C3923A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7DB3-095A-450C-9825-72789469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D9E6-6F39-44DF-AC12-E1C6D968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ACF7-055E-460C-8A46-214CAC6B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DDEE-048D-477C-A0B8-3CDBA063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C911-A419-4FED-9909-34A5D700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2909-F564-4EA8-829C-97D751A2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8ABC-0E59-4564-B728-C96FD714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C97A-F326-4C88-9E29-761DA58B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A29F-03FC-457E-AE3B-CD08FE0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0C0B-CC35-4458-A7CF-DBFE59BAD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EF0C-88F9-4692-8A5D-72991D62D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Стандартный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вид числ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космическое путешеств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Солнце –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центральное тело Солнечной систем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42920" y="3213000"/>
            <a:ext cx="7408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Его масса в 333000 раз больше массы Земли. Найдите массу Солнца и определите, во сколько раз его масса превышает массу всех других планет, вместе взяты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Солнце – ближайшая к нам звезд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4360" y="378936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стояние до звезд выражают в  </a:t>
            </a:r>
            <a:r>
              <a:rPr b="0" lang="en-US" sz="3200" spc="-1" strike="noStrike">
                <a:solidFill>
                  <a:srgbClr val="ff0066"/>
                </a:solidFill>
                <a:latin typeface="Garamond"/>
              </a:rPr>
              <a:t>парсек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Garamond"/>
              </a:rPr>
              <a:t>1 парсек = 30000000000000 км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3 нуле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Garamond"/>
              </a:rPr>
              <a:t>Сириус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– одна из самых ярких звезд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ириус находится в созвездии Большого Пса (Южное полушари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расстоянии </a:t>
            </a:r>
            <a:r>
              <a:rPr b="0" lang="en-US" sz="3200" spc="-1" strike="noStrike">
                <a:solidFill>
                  <a:srgbClr val="ff0066"/>
                </a:solidFill>
                <a:latin typeface="Garamond"/>
              </a:rPr>
              <a:t>8,6 световых лет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ланеты Солнечной систе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еркур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Вене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емл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а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Юпите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Сатур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Ур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епту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лутон (карликовая планет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13564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Астрономическая единица –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расстояние от Земли до Солнц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49600000км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ча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Найдите расстояние от Солнца до остальных планет (ответ выразите в стандартном виде)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асстояния от Солнца до планет в астрономических единицах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еркурий  0,4 а. 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енера       0,7 а. 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рс          1,5 а. 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Юпитер     5,2 а. 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турн    9,5 а. 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ран        19  а. 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птун     30 а. 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лутон     40 а. 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Масса Земли примерно равна 6000000000000000000000000 км. Выразите в стандартном виде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0"/>
                <a:ext cx="447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0"/>
                <a:ext cx="447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дача 2: 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найдите массу остальных планет и выразите в стандартном вид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сса Меркурия равна 0,056 массы 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сса Венеры составляет 81,5% массы 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сса Марса равна 0,107 массы 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сса Юпитера в 318 раз больше массы 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сса Сатурна в 95 раз больше 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сса  Плутона равна 0,15% массы Зем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ча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ительность суток на Меркурии:  15190000000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ительность суток на Нептуне: 58000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ую часть земных суток составляют меркурианские и нептунианские? При расчетах округляйте результаты до десятитысячных до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7T15:46:40Z</dcterms:created>
  <dc:creator>BLACKCLASSIC</dc:creator>
  <dc:description/>
  <dc:language>en-US</dc:language>
  <cp:lastModifiedBy>BLACKCLASSIC</cp:lastModifiedBy>
  <dcterms:modified xsi:type="dcterms:W3CDTF">2019-12-19T20:18:05Z</dcterms:modified>
  <cp:revision>8</cp:revision>
  <dc:subject/>
  <dc:title>Стандартный вид числа</dc:title>
</cp:coreProperties>
</file>